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3214-5C5D-44D7-B341-303DEE5D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3697-4DF0-4EB9-B2C4-6CFBE6A24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047F-CCE7-4F04-85D5-C9BA1420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4AF9-BAC3-496B-9B77-FDB3226D2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73EA-744C-4A14-BBCF-3375945C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0C6-363E-4F0D-A361-61AFDEC82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6B8-2D31-4579-B5A2-F3F7FF623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719A-982E-4613-A7AA-C75DA4C79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8831-37C9-4961-BFAB-F292FEC9D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292-F1C8-43E0-87ED-D09CB95F0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958-8E02-45EC-8D06-4E12D1DA3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C9D3-4AD1-4896-9638-0B362B7E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9E3C-87E1-4E2A-AFB0-B3DC764DF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AD2F-49C6-45F6-9B5D-22779503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29A-B61B-48E2-95AF-3AE6A0E6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E86-88D0-447E-A0AC-F104CEB58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4981-1966-4ADA-A7A6-310DE5AE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B757-12EA-4FA0-8405-96B38849E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E7D-231A-4378-B5E0-65C361E33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B6F-813C-46BC-A7F9-AFD15E01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4912-B1DD-48FA-B679-BFA664619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FD4F-8DEB-450D-B989-30BF6BD05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74195-6A95-4A00-86B9-6E3E2F86B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D13A-16AA-438B-9316-671825D3D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AC62-6C63-4CE6-B074-6577336550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B968-5AB0-436D-99A0-31A1D9A99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C868-65A4-4865-BCF1-AAF6C0485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E433-DF70-405B-87D9-DA424942E2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9814-5E6B-43F7-84B0-20A548A7E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95CB-A072-4E84-8022-0666A0334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8AF5-7954-4B6B-95D9-BEE4AFE2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24D5-0FE5-4814-B488-C744834CA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27A7FB3-732C-4921-807B-0452D6DA78D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CC019DB-6A68-4C32-B980-545C3F0FB72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CE3A3C6-5932-446B-AF30-96174A5FEBB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8A15DD7-F088-43B9-9ABC-2DB864A42F9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83C75EB-8CE4-4B9F-AAED-3BE21F4DA25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5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8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0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7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D7F63E9-AC8C-4C46-BCAD-E57FB902C24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4E37B7D3-1AD3-44F3-A3C6-048041B2A5A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F70E9A3-2307-4E5C-A82E-0378B5888CD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it through which Federal Reserve conducts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19B7E7D-6FDC-49B1-9C3F-E0925872D93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2F030DF-79A7-4E7E-9565-F5FEECA0622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692A085-0188-4169-94E9-AFE04DE75CC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7B99A08-097E-454E-BAB0-42336970503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6CE1C05-4DFE-4C30-B327-1A3E2512604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DF77246-35A9-400C-BE87-631AA9EE6C4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B48531B-6C62-4C8C-BB28-E46D8CC825D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1855B7A-0C22-410F-A2A6-358C1289052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3273367-A8CD-4C4A-9CAF-935DBA25261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2FDF675-3E14-4D7C-9C26-48D0D0686F2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81843C6-BCF0-4EF0-9419-79DE083BE26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home</cp:lastModifiedBy>
  <dcterms:modified xsi:type="dcterms:W3CDTF">2013-02-03T20:12:14Z</dcterms:modified>
  <cp:revision>208</cp:revision>
  <dc:subject/>
  <dc:title>FINANCIAL MARKETS AND INSTITIUTIONS: A Modern Perspective</dc:title>
</cp:coreProperties>
</file>