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2454-D5FC-4744-9F1A-9F0D076FE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521E-3B56-42FC-A47B-245939725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65C3-F779-48FC-B34A-5BBB9A6A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5BF1-4A52-478F-BBD4-4D5D0A7C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6F13-BC7A-4440-9D38-F8C92374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896-7873-435A-9B79-9425FE24E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4D3-D283-465D-80BF-9AC8DD92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90E9-292C-4F4C-B7FA-7C82AE215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DFFB-3B89-4F89-9E27-F3F4C99C6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9EB1-9C5A-4627-9306-DEC954513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A3F-302E-4595-AAC5-0C6B9FCF6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92C2-DFAF-4628-AF70-5011B92CA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E75-3299-4468-AF6C-082CC62A4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63ED-1353-4DFE-B970-F0F5EAB3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342-656A-4D57-AEE6-7303B54A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6E18-F9D3-49EE-B0F4-CAD0D2DB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6A60-499E-41B6-B0DD-72E9E62E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E097-84EA-40E4-A83D-8177135B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5D9-605E-41FF-867F-1FD9F8DBF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8157-A437-4C7A-8ACB-391FCAEF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461A-F85B-4806-A2AB-A7941453E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0DF0-C7A1-4079-9CA9-FA0FB937F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E8EE-6049-4F8D-B943-12DF42478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999E-883F-41D4-83E5-7996537FC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0946-DECA-43E8-BBEC-4EE2AB261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C8CB-0DF5-4CE4-ABB4-BE76D70F9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57A8-36AB-47E4-AFEA-CAA4E8862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7340-7716-4662-9C8B-E3840CF5C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1468-D9C1-4AFE-B156-F4A149427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90FC-7595-4482-AE1B-84142230E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CAD8-ABCD-49C9-A8BE-6A01AF1D0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E36B-BEFF-4A20-AE25-16F7D7725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1FFD0A4-2BEF-4C40-8B4F-A95EACCC6BE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BB4CFA9-5C7C-4F3A-8E9C-3BECA829308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Act of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fair disclosure and securitie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Exchange Act of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 is the main regulator of securiti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8676CFD-BFFF-458C-BF2A-30C6013440E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through which suppliers channel money to us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 are distinguished by whether they accept depo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ory versus non-depositor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9477445-EB9D-4D9A-AFFC-A864EEA4B7D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3720" y="3749760"/>
            <a:ext cx="2128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po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943600" y="3597120"/>
            <a:ext cx="2514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276720" y="3978360"/>
            <a:ext cx="228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276360" y="4359240"/>
            <a:ext cx="2174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959200" y="243828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quity and debt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038480" y="474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E83DB4A-74F8-4832-92A0-B70E700A9F0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42160" y="2724120"/>
            <a:ext cx="2128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350880" y="2514600"/>
            <a:ext cx="19958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ro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334008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104520" y="2724120"/>
            <a:ext cx="2637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730600" y="2895480"/>
            <a:ext cx="622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5397120" y="289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1712880" y="4114800"/>
            <a:ext cx="1627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 flipV="1">
            <a:off x="173988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130400" y="3200400"/>
            <a:ext cx="0" cy="144792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130400" y="4648320"/>
            <a:ext cx="2147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684540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5397480" y="4114800"/>
            <a:ext cx="1447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5397480" y="4648320"/>
            <a:ext cx="2209680" cy="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0"/>
          <p:cNvSpPr/>
          <p:nvPr/>
        </p:nvSpPr>
        <p:spPr>
          <a:xfrm flipV="1">
            <a:off x="7607160" y="3276720"/>
            <a:ext cx="0" cy="137160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26760" y="497376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uity and debt sec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44760" y="4973760"/>
            <a:ext cx="35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posits and insurance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74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608508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288FDBE-2524-4820-8ED1-6CC8F381BE4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ory versus Non-Depository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, savings associations, savings banks, credit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ies, securities firms and investment banks, mutual funds, pensio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9717E10-27C6-4860-A533-56DE6131ACB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monitor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enomination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F969E51-B263-49E4-B281-14D42C783F0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the Overall Econom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it through which Federal Reserve conducts 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efficient credit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or intergenerational wealth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CB2EA23-38B5-4105-A6CF-786348CBCB6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-balance-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767827B-DF8E-4773-A036-D60ACF916D4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 of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 are heavily regulated to protect society at large from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ions impose a burden on FIs and recent U.S. regulatory changes have been deregulatory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s attempt to maximize social welfare while minimizing the burden imposed b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BDAB857-0A12-4F2C-BEFE-61541CC90C0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lobalization of Financial Markets and Instit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pool of savings from foreign investors is increasing and investors look to diversify globally now more than ever bef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formation on foreign markets and investments is becoming readily accessible and deregulation across the globe is allowing even greater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rnational mutual funds allow diversified foreign investment with low transactions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E2885C8-BD3D-4C21-8489-AE2B5383264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y study Financial Markets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Institutions?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udent investment and financing requires a thorough understanding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of funds through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egies used to manage risks faced by investors and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5AC73A3-42B5-41A2-AF66-8719CD11EDA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are structures through which fund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can be distinguished along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ersus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versus capit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67AC780-B48C-4883-B9AD-0207F352EBB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in which users of funds (e.g., corporations and governments) raise funds by issuing financial instruments (e.g., stocks and b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where financial instruments are traded among investors (e.g., NYSE and 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C2E4828-FEBF-4F18-B8DA-A48928ABB3A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securities with maturities of one year or less (e.g., CDs and  U.S. Treasury b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(bonds) and equity (stock)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FF43B58-B338-4AF7-BA57-C40BC37056F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457200" y="1600200"/>
          <a:ext cx="83170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17080" cy="468792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12C9DA2-7E6F-4F6A-B3B9-27BB0B08BD8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pital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214200" y="1523880"/>
          <a:ext cx="86886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23880"/>
                    <a:ext cx="8688600" cy="48405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BBCF959-22A3-4BC6-8806-23CFB797E16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X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one currency for another (e.g., dollar for y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t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ediate exchange of currencies at current exchang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hange of currencies in the future on a specific date and at a pre-specified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B024DAB-C9D9-4870-9A8F-700C22A2A0D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rivativ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ur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ncial security whose payoff is linked to (i.e., “derived” from) another security or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n agreement to exchange a standard quantity of assets at a set price on a specific dat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home</cp:lastModifiedBy>
  <dcterms:modified xsi:type="dcterms:W3CDTF">2013-02-03T20:12:14Z</dcterms:modified>
  <cp:revision>208</cp:revision>
  <dc:subject/>
  <dc:title>FINANCIAL MARKETS AND INSTITIUTIONS: A Modern Perspective</dc:title>
</cp:coreProperties>
</file>