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B053-A921-4F27-BF6A-89E078AB1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0F22-ACCA-4775-AB3D-9EDBF4B41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4273-F8C4-4A6A-8DCC-7B8E0EFB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2157-27FC-4B6A-9C71-641B7B758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B366-7414-415A-A176-C7D488E13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EAF8-B2BD-44A0-BD78-44ECC13A8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FD52-EC7E-43C3-A439-4D858344D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8024-62E8-4310-A5E3-7D68C09EE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2098-4E36-41BE-A8BC-5B24E03BE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FADA-8A82-4DD9-8790-6B29ABAAD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D710-9DDA-4429-8A56-C58B8B1F2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7AD2-8AA4-4882-9383-52AFF7F9A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7894F2C-853D-4CC4-A31E-AA7DAD7C9DA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6630-3E19-45F6-84A3-0F92CFB2E6AE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0817-F22F-4A3B-BDB7-C92D7EF8A26D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89CA-D9B0-4B69-BA34-0D5D5CAF88C2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5B1F-9673-4909-8CBC-BF3EC050E7EB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CE3C-A6D3-45D7-B081-1BF22949F3C8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96EC-54A2-49D6-92AB-0F767CB9F23D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it through which Federal Reserve conducts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3E50-6A1C-4DE6-BAB7-67D4DE1ABC64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AB48-1363-43E9-93E9-C3536236CE08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0871-0BD2-488D-AA27-2BA72A9A35AF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E44D-2DB1-44F7-B433-689C5F30F6DF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D2BC-165D-49CB-8B6C-9AF5682A3922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9F60-EA72-4963-A53F-63081DF08781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C934-4CD2-4D70-9DD1-402B8AC2B188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2366-87CA-4E3C-A84C-49D12AA09265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E308-6DA8-4725-820F-EFF9FF78382A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C5BE-235F-4F07-901F-9DBD0B7B0FC7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E8AE-D0CB-41FF-81EB-F7BA1A8898C6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6337-9557-4336-ADD5-8A3B1DFFFCC8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8-28T13:19:05Z</dcterms:modified>
  <cp:revision>208</cp:revision>
  <dc:subject/>
  <dc:title>FINANCIAL MARKETS AND INSTITIUTIONS: A Modern Perspective</dc:title>
</cp:coreProperties>
</file>