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3CB35-B341-4B18-BA86-FE2688304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7E86-70F2-48AD-A075-A14E9B4E94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1E14-155A-4C62-BD35-2905B150E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C5199-BCEB-43A4-BF4E-861FA28E0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B7D6C-B9F1-4CB9-B0CE-EAEA2B0122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76E20-97B6-4A96-A96F-149E671BCD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048C3-36D2-4E80-A750-CD116EA98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25266-3273-4958-8720-955FDDF4E7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989AA-B35D-4CC6-B797-A034ED979C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0FD7-DBB9-426D-98DB-D95C6E7EA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B7F29-9ECB-45B4-A28C-0C5D1C8726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3D40-6958-4673-948C-C06B2D595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008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-</a:t>
            </a:r>
            <a:fld id="{CA03E2CB-56A3-4A90-BA21-AB6F79AFBC8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O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Act of 19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and fair disclosure and securities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ecurities Exchange Act of 193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 is the main regulator of securities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E8AE7-588D-4A7F-BA83-9D585687AAAD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Institutions (FIs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ons through which suppliers channel money to users of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Institutions are distinguished by whether they accept depos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ository versus non-depositor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D6D67-D9CE-4100-AA35-FC521C179B9B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83720" y="3749760"/>
            <a:ext cx="2128320" cy="825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corpor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3597120"/>
            <a:ext cx="25146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househol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3978360"/>
            <a:ext cx="2286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276360" y="4359240"/>
            <a:ext cx="2174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959200" y="2438280"/>
            <a:ext cx="2908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quity and debt instru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4740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5366F-3BF4-46A2-9F2F-937302938673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42160" y="2724120"/>
            <a:ext cx="21283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50880" y="2514600"/>
            <a:ext cx="1995840" cy="2654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brok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s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orm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40080" y="373392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04520" y="2724120"/>
            <a:ext cx="263736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iers of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30600" y="2895480"/>
            <a:ext cx="622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397120" y="2895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1712880" y="4114800"/>
            <a:ext cx="162720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73988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0400" y="3200400"/>
            <a:ext cx="0" cy="144792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30400" y="4648320"/>
            <a:ext cx="2147760" cy="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45400" y="32767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397480" y="4114800"/>
            <a:ext cx="1447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7480" y="4648320"/>
            <a:ext cx="2209680" cy="0"/>
          </a:xfrm>
          <a:prstGeom prst="line">
            <a:avLst/>
          </a:prstGeom>
          <a:ln w="38160">
            <a:solidFill>
              <a:srgbClr val="007fb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7607160" y="3276720"/>
            <a:ext cx="0" cy="1371600"/>
          </a:xfrm>
          <a:prstGeom prst="line">
            <a:avLst/>
          </a:prstGeom>
          <a:ln w="38160">
            <a:solidFill>
              <a:srgbClr val="007fbe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6760" y="4973760"/>
            <a:ext cx="29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quity and debt secur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44760" y="4973760"/>
            <a:ext cx="35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lai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posits and insurance polic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41680" y="4114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85080" y="41911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out F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low of Funds in a World with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78AD8-2581-4261-84F8-678F1AF3492C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ory versus Non-Depository FI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, savings associations, savings banks, credit un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on-depository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companies, securities firms and investment banks, mutual funds, pension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A0E9E-C8E6-488D-AF67-DC787CEE9411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Suppliers of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monitoring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liquidity and lower price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duce transaction 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maturity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denomination interme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4A86-93B2-434E-87B1-2EEA9E2D1E9D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s Benefit the Overall Economy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uit through which Federal Reserve conducts monetary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s efficient credit al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for intergenerational wealth trans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vide payment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33C5-6C32-4AF5-8BC9-673F512EA3EF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Faced by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ntry or sover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f-balance-sh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solv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9C070-B057-4733-9237-4FBEC8A906E6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egulation of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s are heavily regulated to protect society at large from market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ions impose a burden on FIs and recent U.S. regulatory changes have been deregulatory in 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s attempt to maximize social welfare while minimizing the burden imposed by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90391-81C9-4111-B332-83DB0E7EEA3A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Globalization of Financial Markets and Institution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pool of savings from foreign investors is increasing and investors look to diversify globally now more than ever befo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formation on foreign markets and investments is becoming readily accessible and deregulation across the globe is allowing even greater acce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International mutual funds allow diversified foreign investment with low transactions cost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91318-07E8-4CC9-9B8D-F594C6B42375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Why study Financial Markets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and Institutions?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udent investment and financing requires a thorough understanding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ucture of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low of funds through domestic and internation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rategies used to manage risks faced by investors and sa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0D009-902E-4A42-8289-B5ECC7494A23}" type="slidenum">
              <a:t>2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inanci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are structures through which funds 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ancial markets can be distinguished along two dim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versus 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y versus capital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0CD3D-F79A-40F4-9F23-33B7AAA0CCD6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versus Secondary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in which users of funds (e.g., corporations and governments) raise funds by issuing financial instruments (e.g., stocks and bon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where financial instruments are traded among investors (e.g., NYSE and Nasda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33692-5005-44F7-AF2E-400527D54FAD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versus Capital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ney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securities with maturities of one year or less (e.g., CDs and  U.S. Treasury bil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pital mark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s that trade debt (bonds) and equity (stock)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DAB6-DF5D-4DAB-B0E7-AE6754E360B6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ney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317080" cy="468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8317080" cy="468792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7D196-EFC0-4199-B79F-80C46E50B5E4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apital Market Instruments Outstanding, ($Bn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14200" y="1523880"/>
          <a:ext cx="8688600" cy="484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523880"/>
                    <a:ext cx="8688600" cy="48405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C88FF-F573-4100-B2A8-5683AF6E32FD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Exchange (FX)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X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ng one currency for another (e.g., dollar for y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ot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mediate exchange of currencies at current exchange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ward F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hange of currencies in the future on a specific date and at a pre-specified exchan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DB59F-9E7E-4F94-BDFE-8B396A672A51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rivative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urity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rivativ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nancial security whose payoff is linked to (i.e., “derived” from) another security or 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n agreement to exchange a standard quantity of assets at a set price on a specific dat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F9D2C-2EC1-4CD0-836A-ED7938136EC2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8-28T13:19:05Z</dcterms:modified>
  <cp:revision>208</cp:revision>
  <dc:subject/>
  <dc:title>FINANCIAL MARKETS AND INSTITIUTIONS: A Modern Perspective</dc:title>
</cp:coreProperties>
</file>