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D8F7-5974-417C-80CB-927AAFBC2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C34C-3DD7-4908-84E8-4B5BD14D5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7829-4DBC-4411-8E63-9DF9F1641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80CA-4B5E-4498-91AE-C541A2F18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A4C5-10DD-4B14-8D16-282F89A55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1A07-4B8B-424E-B5BB-1CCFB8487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693A-58B6-4659-848E-B402A7003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363E-1E2A-4E0B-A661-6C431E136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BD86-AC93-49B8-B64C-346BD2BBF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84AC-141F-445A-8C8E-95EFB7FEC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6446-FBAB-4005-834E-4E755F25D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EDD6-2422-44D9-935B-2D8021FEC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E9E0-901C-44B5-9187-0F419BB44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0644-F52E-4E64-9769-74ACE1364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8DDE-7C83-4B3A-8152-24C3BEB51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AF23-0540-4BC6-ACF6-1E3F0FC55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4497-CB5C-492A-933E-FE6F761DC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4866-107E-416A-AD58-52AEA4A56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945A-0F58-4257-873D-E370EE844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B67E-0968-446B-B326-8F2D53EAB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2AE2-6992-45D5-9C1B-E6746700A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8E6C-0E95-4E49-8E56-45229BC1E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5E9D-D667-4C2E-BBA2-61842F53E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BDB3-7B61-44A1-B15B-281880CB0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B4D2-D642-4E0E-A9E0-A53239FCD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A3F4-02A3-4FB5-8638-4BB1D77E5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A9D4-4483-42C8-AE57-477547C9F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7547-9B38-40DE-9C49-BDD4B8F5B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FD3E-850B-49D2-AC01-588D0CA90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5550-9F37-47D2-BB6F-F1208722B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EAC2-2F60-4EA4-BCC3-61C1F9FFF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91E4-08F7-411D-9E8E-1BF937D37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0E42-86AC-4253-AE7E-AE82102AF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A5D0-E249-4B15-A282-6E3CE0FF0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CD41-BA35-425E-929A-B9A70ADBB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185B-E2BD-4781-885B-D31EB8FB6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93EF-005A-4926-BF67-EECB9DDB9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2F85-B850-4A21-9F31-734A04343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95AB-12CD-4CCA-A963-5D7620CCF0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40B47-D656-4E5D-AA98-AD102ED500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CC60-0311-4DC3-8920-0F999C57E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A4C5-4C43-4595-A051-2FF7C8595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776D3-6509-4D0F-ABEE-D5650DF4F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9310-5F19-4C50-9C5C-CD0233C6D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31C2F-F877-4C70-BEE0-E95C88269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05A6-DD35-4A5D-A0E2-05AF0FECD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D2C55-AB35-4A4C-9E7B-9D58C9A6B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ED4F3A30-601E-4B89-904F-49A429623D9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209680" y="3429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90E298AF-3CE9-4502-97EF-647B7DFFB8B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versus Capital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ital markets instr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 corporate stocks, mortgages, and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E8991516-EA90-4E2D-B231-4499881CB0C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Market Instruments Outstanding, ($Bn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457200" y="1600200"/>
          <a:ext cx="831708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317080" cy="468792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6445E463-19BA-4725-A37C-765EFC19C28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apital Market Instruments Outstanding, ($Bn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214200" y="1523880"/>
          <a:ext cx="8688600" cy="484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523880"/>
                    <a:ext cx="8688600" cy="484056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101851DB-5090-4DC0-879D-3B8AFC9C659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oreign Exchange (FX)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X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ng one currency for another (e.g., dollar for y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 managers have to understand how events and movements in financial markets in other countries affect the profitability and performance of a corpo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currency exchange rates are flexible (demand &amp; suppl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F1346284-8A12-4DD1-A022-6454A18FDCE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oreign Exchange (FX)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ot F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mediate exchange of currencies at current exchange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ward F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hange of currencies in the future on a specific date and at a pre-specified exchang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2FBCAAD8-586C-4D07-A8E3-07BE01AAD0A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erivative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curity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ve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nancial security whose payoff is linked to (i.e., “derived” from) another security or 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an agreement to exchange a standard quantity of assets at a set price on a specific dat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AE30997A-AEC2-4F26-9D25-66CF349EFB0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nancial Market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ecurities Act of 19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and fair disclosure and securities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ecurities Exchange Act of 19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ies and Exchange Commission (SEC) is the main regulator of securities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DB7B80B0-8D22-4F0F-BA2F-FE315D52F8F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nancial Market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urities and Exchange Commiss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er the public secu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itor tr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 the insid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and accurate information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se regulations to reduce excessive price fluc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820ADF2C-AD6F-405A-BE29-6BB4AA6A0E8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nancial Institutions (FIs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ions through which suppliers channel money to users of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Institutions are distinguished by whether they accept depos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ository versus non-depository financial in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78E25E53-A7E1-4722-ABAD-01F13928173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nancial Institutions (FIs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rporation sells its stock or debt directly to investors without going through a financial instit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ansfer of funds between suppliers and users of funds through a financial inter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951C108E-BDF4-4084-809D-5CAB0377FEC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Why study Financial Markets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nd Institutions?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udent investment and financing requires a thorough understanding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ucture of domestic and internationa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low of funds through domestic and internationa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ategies used to manage risks faced by investors and sa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2671C7A2-5536-4860-8D9F-61D493C51CC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83720" y="3749760"/>
            <a:ext cx="21283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orpor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943600" y="3597120"/>
            <a:ext cx="25146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i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househol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3276720" y="3978360"/>
            <a:ext cx="22860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8"/>
          <p:cNvSpPr/>
          <p:nvPr/>
        </p:nvSpPr>
        <p:spPr>
          <a:xfrm flipH="1">
            <a:off x="3276360" y="4359240"/>
            <a:ext cx="217476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959200" y="2438280"/>
            <a:ext cx="290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Cl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quity and debt instru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038480" y="4740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out F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out FI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1FFD5CC8-B0C7-4EEF-A1CA-DB642838823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42160" y="2724120"/>
            <a:ext cx="21283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350880" y="2514600"/>
            <a:ext cx="1995840" cy="265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rok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orm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3340080" y="373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6104520" y="2724120"/>
            <a:ext cx="2637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i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2730600" y="2895480"/>
            <a:ext cx="622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"/>
          <p:cNvSpPr/>
          <p:nvPr/>
        </p:nvSpPr>
        <p:spPr>
          <a:xfrm flipH="1">
            <a:off x="5397120" y="2895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2"/>
          <p:cNvSpPr/>
          <p:nvPr/>
        </p:nvSpPr>
        <p:spPr>
          <a:xfrm flipH="1">
            <a:off x="1712880" y="4114800"/>
            <a:ext cx="16272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V="1">
            <a:off x="1739880" y="3276720"/>
            <a:ext cx="0" cy="838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1130400" y="3200400"/>
            <a:ext cx="0" cy="1447920"/>
          </a:xfrm>
          <a:prstGeom prst="line">
            <a:avLst/>
          </a:prstGeom>
          <a:ln w="38160">
            <a:solidFill>
              <a:srgbClr val="007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1130400" y="4648320"/>
            <a:ext cx="214776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7"/>
          <p:cNvSpPr/>
          <p:nvPr/>
        </p:nvSpPr>
        <p:spPr>
          <a:xfrm>
            <a:off x="6845400" y="3276720"/>
            <a:ext cx="0" cy="838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8"/>
          <p:cNvSpPr/>
          <p:nvPr/>
        </p:nvSpPr>
        <p:spPr>
          <a:xfrm flipH="1">
            <a:off x="5397480" y="4114800"/>
            <a:ext cx="14479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9"/>
          <p:cNvSpPr/>
          <p:nvPr/>
        </p:nvSpPr>
        <p:spPr>
          <a:xfrm>
            <a:off x="5397480" y="4648320"/>
            <a:ext cx="2209680" cy="0"/>
          </a:xfrm>
          <a:prstGeom prst="line">
            <a:avLst/>
          </a:prstGeom>
          <a:ln w="38160">
            <a:solidFill>
              <a:srgbClr val="007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0"/>
          <p:cNvSpPr/>
          <p:nvPr/>
        </p:nvSpPr>
        <p:spPr>
          <a:xfrm flipV="1">
            <a:off x="7607160" y="3276720"/>
            <a:ext cx="0" cy="1371600"/>
          </a:xfrm>
          <a:prstGeom prst="line">
            <a:avLst/>
          </a:prstGeom>
          <a:ln w="38160">
            <a:solidFill>
              <a:srgbClr val="007fb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626760" y="4973760"/>
            <a:ext cx="294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la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quity and debt securit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5144760" y="4973760"/>
            <a:ext cx="35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la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posits and insurance poli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1741680" y="4114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6085080" y="4191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8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out F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 FI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6717C1F0-A288-4E3E-9031-7A29CF12C67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epository versus Non-Depository FI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ository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banks, savings associations, savings banks, credit un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depository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companies, securities firms and investment banks, mutual funds, pension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3039799E-22D7-414B-9916-CE14828CB46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s Benefit Suppliers of Fu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e monitor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ior skills and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eviates the “free-rider”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ed monitor: an economic agent appointed to act on behalf of smaller investors in collecting information and/or investing fund on their be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ED085C9E-4E0B-4ACA-96E0-A151D0ED5F9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s Benefit Suppliers of Fu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liquidity and lower price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 transformers: financial claims issued by an FI that are more attractive to investors than are the claims directly issued by corpo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 purchase the financial claims issued by users of funds and finance these purchases by selling financial claims to inves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 claims have liquidity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07DE6A4B-832B-432A-8436-4A64711BC3F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s Benefit Suppliers of Fu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liquidity and lower price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ify: the ability of an economic agent to reduce risk by holding a number of securities in a portfol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ification allows an FI to predict more accurately expected return and risk on its investment portfolio &gt; credibly promises to the suppliers to provide highly liquid claims with little price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C60370B9-F887-4EBA-AFB3-80B6320503D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s Benefit Suppliers of Fu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e transaction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es of scale: cost of reduction in trading and other transaction services results from increased efficiency when FI perform these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rade and private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EDC5E2F2-2304-4240-BE81-82BC56F034D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s Benefit Suppliers of Fu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maturity interme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lity to bear the risk of mismatching the maturity of their assets and liabilities than can small sa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denomination interme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pooling the funds of many small sa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8A5FE29C-A7A4-45F5-9A74-0D3FCEC7104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s Benefit the Overall Economy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s efficient credit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jor source of financing for particular s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for intergenerational wealth trans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 to country social well-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05EAA632-37AD-408A-8044-CD2C61402C5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that promised cash flows from loans and securities held by FIs may not be paid in f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eign exchange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that exchange rate changes can affect the value of an FI’s assets and liabilities located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Faced by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5D556D30-5A0B-45FC-860A-57547FDAD8B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nancial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markets are structures through which funds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markets can be distinguished along two dim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versus secondary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y versus capita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7C80852E-96AB-4799-8A5C-8B2955EB10D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ry or sovereign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yments from foreign borrowers may be interrupted because of interference from foreign gover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urred in trading assets and liabilities due to changes in interest rates, exchange rates, and other assets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Faced by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AEC893B1-346A-4F6A-8060-EB4E3EE399B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quidity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ing an FI to liquidate assets in a very short period of time and at low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ology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ical investment do not produce anticipated cost s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olvency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ot have capital to offset a sudden decline in the value of its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Faced by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1F90D782-D2BE-48CD-95A6-B8353660666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Faced by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dit (defaul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ry or sovere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es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f-balance-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olv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A417253A-4551-410F-8D1E-64E710187B8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gulation of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s are heavily regulated to protect society at large from market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ulations impose a burden on FIs and recent U.S. regulatory changes have been deregulatory i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ulators attempt to maximize social welfare while minimizing the burden imposed by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CB1CECC3-18C9-45D7-8C6B-EA7704196F4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Globalization of Financial Markets and Institutions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pool of savings from foreign investors is increasing and investors look to diversify globally now more than ever befo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nformation on foreign markets and investments is becoming readily accessible and deregulation across the globe is allowing even greater a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nternational mutual funds allow diversified foreign investment with low transactions cos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A6B21C71-2ACE-4C30-AF68-3A39AA60401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imary versus Secondary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mary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in which users of funds (e.g., corporations and governments) raise funds by issuing financial instruments (e.g., stocks and bon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 financial institutions called investment 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O: the first public issue of financial instruments by a fi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BA7F8360-901C-4BB7-903A-32E5C9DD045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imary versus Secondary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where financial instruments are traded among investors (e.g., NYSE and Nasd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the opportunity to trade securities at their market values quickly with varying risk-return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ve security: a financial security whose payoffs are linked to other, previously issued secu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C477EE13-7DC8-48FB-9C6E-D84951E37F2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imary versus Secondary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ve security: A financial security whose payoffs are linked to other, previously issued secu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16971E6C-72AB-4CB2-A276-EB332263F7F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versus Capital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ey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that trade debt securities with maturities of one year or less (e.g., CDs and  U.S. Treasury bil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U.S. money markets are over-the-counter (OTC) mar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C: markets that don’t operate in a specific fixed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A738ABAB-E222-4AAE-AFF6-B8F05634538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versus Capital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ey markets instr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by corporations &amp; governments to obtain short-term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 T-bills, commercial paper, negotiable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53F49EDC-4097-4B19-B3D7-B5EFF07F502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versus Capital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ital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that trade debt (bonds) and equity (stock) instruments with maturities of more than one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longer maturity, instruments experience wider price fluctuations in the secondary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home</cp:lastModifiedBy>
  <dcterms:modified xsi:type="dcterms:W3CDTF">2013-02-08T22:13:01Z</dcterms:modified>
  <cp:revision>234</cp:revision>
  <dc:subject/>
  <dc:title>FINANCIAL MARKETS AND INSTITIUTIONS: A Modern Perspective</dc:title>
</cp:coreProperties>
</file>