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C484-4725-4819-A1BA-7C39A5112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42EE-574A-42EC-B432-47C368EF6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B02D-6DBD-4850-9FDD-7BD7AC2C3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62FA-EF9A-453D-8C41-62FFDC853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9177-2856-4622-8126-5C10074D1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6CE1-DAC3-4A90-8515-C0A191CD1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2FB4-C6B3-43CF-B5B1-079B2EAF5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1EFD-0BA5-4B0D-BB7E-B19D873D0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CFC0-8FF8-4527-8711-BF20C0090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2CD4-0464-467D-A4D4-9CD437545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A887-636C-459F-96BF-9F0552FDC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0626-9813-4F5A-9700-976C1EA16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64EA-1940-4466-8871-E4555EF87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6FFA-BF79-4FFF-B738-C01374062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44CA-FC05-459B-97EE-4344FE92F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6413-07BF-4A6E-B804-00EA886DC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31A6-3FC4-4079-967E-C9FB713FC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43E7-C533-4A0D-8E09-9D8AB3503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C637-ABD0-45C4-85CF-723A261A6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34F1-0CB3-473A-B89E-FD756A919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8ACC-CCFF-463F-9BAD-950C5D209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5DA0-3E15-4955-A632-FE151CB8E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AA2F-4B3B-4A03-B1D2-153666742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28C4-C7D2-45A4-9403-BC0B78913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3636-6DE6-40C9-B837-C09170904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3C16-55E0-456E-8E80-47E11DEC0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AE60-BD31-45FB-B114-18F5F713F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50C9-C68C-4670-84E9-B4D468232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B06F-F1F9-450B-BA6B-55697A639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0432-C59D-433E-8C56-B7A3807E2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1AAA-56F8-4AC7-A378-A1129FD00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9508-A259-4C53-8AB3-0C790B874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407D-3091-43A5-8F41-86D3413EB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E30C-4519-4FAB-95E8-2A28DC0EE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37C3-114B-4DC9-A874-1FA99C80A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1E31-84AD-4CF5-B163-4C51C21EA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DFDA-5FCE-4721-8965-D232DD21B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145E-2EE5-41CE-9ECF-5329ADA78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7CE0-6A9C-4F0F-8074-43D64BD592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CCAF8-1E83-477C-B402-F5C615C0A2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DC0A-3D4B-4F16-BED3-BC8AD5F64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6779-F729-4A55-9922-1C89EC678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0355-12DF-407E-84E9-FE509F231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4294-2408-4B24-83D0-FB11A1759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32C0-2FF6-457A-A3EE-387291CB5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3D68-FD0D-48BA-910B-6560920AC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CBD9-CDEE-4173-8358-33683E80F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B32AEB45-9AF9-46FC-B863-FCBC7F5194E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209680" y="3429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7ED63A70-9844-40EE-AEFE-D647BD4B3E5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versus Capital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ital markets instr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 corporate stocks, mortgages, and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1626B6A7-9FD9-4253-9A1E-5451E88E074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Market Instruments Outstanding, ($Bn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457200" y="1600200"/>
          <a:ext cx="831708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317080" cy="468792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4275EA8F-B4A1-4149-BA6F-CE95E51534E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apital Market Instruments Outstanding, ($Bn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214200" y="1523880"/>
          <a:ext cx="8688600" cy="484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523880"/>
                    <a:ext cx="8688600" cy="484056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CA4E099D-F4C7-4E24-A50B-999BE9DC759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oreign Exchange (FX)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X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ng one currency for another (e.g., dollar for y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 managers have to understand how events and movements in financial markets in other countries affect the profitability and performance of a corp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currency exchange rates are flexible (demand &amp; suppl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4555040C-07C2-460D-AB48-729C0BFB301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oreign Exchange (FX)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ot F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mediate exchange of currencies at current exchange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ward F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hange of currencies in the future on a specific date and at a pre-specified exchan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983C4E09-DF5C-4980-ACF2-E250AB486DB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rivative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urity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ve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nancial security whose payoff is linked to (i.e., “derived” from) another security or 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an agreement to exchange a standard quantity of assets at a set price on a specific dat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0A2D9FB6-511A-44EE-859E-6BA5A6666CB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Market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curities Act of 19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and fair disclosure and securities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curities Exchange Act of 19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ies and Exchange Commission (SEC) is the main regulator of securities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B3D248DA-2484-4CA1-A826-7C3680A9A08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Market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urities and Exchange Commiss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 the public secu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 tr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 the insid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and accurate information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e regulations to reduce excessive price fluc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F6305A07-82E2-48D4-A833-358E96D2176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Institutions (FIs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ions through which suppliers channel money to users of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Institutions are distinguished by whether they accept depos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ository versus non-depository financial 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BA34EE5A-187B-436C-BCA4-F4E6256C254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Institutions (FIs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rporation sells its stock or debt directly to investors without going through a financial instit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ansfer of funds between suppliers and users of funds through a financial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C5E7A51C-11D9-4CCA-988B-77CF969C8CC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Why study Financial Markets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nd Institutions?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udent investment and financing requires a thorough understanding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ucture of domestic and internationa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low of funds through domestic and internationa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ategies used to manage risks faced by investors and sa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1432BEEB-5EBD-4CD1-953A-E9213325CB2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83720" y="3749760"/>
            <a:ext cx="21283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orpor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943600" y="3597120"/>
            <a:ext cx="2514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i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househol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3276720" y="3978360"/>
            <a:ext cx="22860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 flipH="1">
            <a:off x="3276360" y="4359240"/>
            <a:ext cx="217476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959200" y="2438280"/>
            <a:ext cx="290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Cl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quity and debt instru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038480" y="4740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out F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out FI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E9BBBFE1-014C-45F2-B881-DC42DB911F3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42160" y="2724120"/>
            <a:ext cx="21283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350880" y="2514600"/>
            <a:ext cx="1995840" cy="265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rok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orm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3340080" y="373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104520" y="2724120"/>
            <a:ext cx="2637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i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2730600" y="2895480"/>
            <a:ext cx="622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"/>
          <p:cNvSpPr/>
          <p:nvPr/>
        </p:nvSpPr>
        <p:spPr>
          <a:xfrm flipH="1">
            <a:off x="5397120" y="2895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 flipH="1">
            <a:off x="1712880" y="4114800"/>
            <a:ext cx="16272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V="1">
            <a:off x="1739880" y="3276720"/>
            <a:ext cx="0" cy="838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1130400" y="3200400"/>
            <a:ext cx="0" cy="1447920"/>
          </a:xfrm>
          <a:prstGeom prst="line">
            <a:avLst/>
          </a:prstGeom>
          <a:ln w="38160">
            <a:solidFill>
              <a:srgbClr val="007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1130400" y="4648320"/>
            <a:ext cx="214776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6845400" y="3276720"/>
            <a:ext cx="0" cy="838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8"/>
          <p:cNvSpPr/>
          <p:nvPr/>
        </p:nvSpPr>
        <p:spPr>
          <a:xfrm flipH="1">
            <a:off x="5397480" y="4114800"/>
            <a:ext cx="14479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5397480" y="4648320"/>
            <a:ext cx="2209680" cy="0"/>
          </a:xfrm>
          <a:prstGeom prst="line">
            <a:avLst/>
          </a:prstGeom>
          <a:ln w="38160">
            <a:solidFill>
              <a:srgbClr val="007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0"/>
          <p:cNvSpPr/>
          <p:nvPr/>
        </p:nvSpPr>
        <p:spPr>
          <a:xfrm flipV="1">
            <a:off x="7607160" y="3276720"/>
            <a:ext cx="0" cy="1371600"/>
          </a:xfrm>
          <a:prstGeom prst="line">
            <a:avLst/>
          </a:prstGeom>
          <a:ln w="38160">
            <a:solidFill>
              <a:srgbClr val="007fb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626760" y="4973760"/>
            <a:ext cx="294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l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quity and debt securit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5144760" y="4973760"/>
            <a:ext cx="35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l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posits and insurance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1741680" y="411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6085080" y="4191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8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out F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 FI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1EB70F52-0F1D-459A-B07B-42ADB4BAF60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pository versus Non-Depository FI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ository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s, savings associations, savings banks, credit un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depository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companies, securities firms and investment banks, mutual funds, pension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02946C13-56B3-4FF0-81A3-D65FF773345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s Benefit Suppliers of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 monitor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ior skills and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viates the “free-rider”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ed monitor: an economic agent appointed to act on behalf of smaller investors in collecting information and/or investing fund on their be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F989ECB0-0598-4822-9014-502978796AD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s Benefit Suppliers of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liquidity and lower price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 transformers: financial claims issued by an FI that are more attractive to investors than are the claims directly issued by corpo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 purchase the financial claims issued by users of funds and finance these purchases by selling financial claims to inves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 claims have liquidity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40321E24-4411-4CE7-BFC2-56E059DC350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s Benefit Suppliers of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liquidity and lower price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ify: the ability of an economic agent to reduce risk by holding a number of securities in a portfo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ification allows an FI to predict more accurately expected return and risk on its investment portfolio &gt; credibly promises to the suppliers to provide highly liquid claims with little price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50D48419-06C6-4854-A966-67CC519D164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s Benefit Suppliers of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 transaction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es of scale: cost of reduction in trading and other transaction services results from increased efficiency when FI perform thes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rade and private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8EAAC4F8-B1D6-42AE-B64D-4E2E373801A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s Benefit Suppliers of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maturity interme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ity to bear the risk of mismatching the maturity of their assets and liabilities than can small sa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denomination interme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pooling the funds of many small sa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81A7A354-15B0-4860-8054-956D302A471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s Benefit the Overall Economy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s efficient credit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jor source of financing for particular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for intergenerational wealth trans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to country social well-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B97A1B05-336A-406F-8357-C16C095AC9A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that promised cash flows from loans and securities held by FIs may not be paid in 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eign exchange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that exchange rate changes can affect the value of an FI’s assets and liabilities located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Faced by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33471164-810D-498E-841D-A78CB1626FF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markets are structures through which funds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markets can be distinguished along two dim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versus secondary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y versus capita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E970C69B-94FE-40CE-8627-D9619BE3A7E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ry or sovereign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yments from foreign borrowers may be interrupted because of interference from foreign gover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urred in trading assets and liabilities due to changes in interest rates, exchange rates, and other assets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Faced by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E572AA4C-2BBA-492E-81C8-199136C3B4D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quidity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ing an FI to liquidate assets in a very short period of time and at low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ogy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ical investment do not produce anticipated cost s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olvency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ot have capital to offset a sudden decline in the value of its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Faced by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4EB52434-08FA-4DC2-91EE-7D6507801DD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Faced by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dit (defau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ry or sovere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es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f-balance-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olv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B4DEAD85-CB0C-4C0A-BA25-CFC77A751DF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gulation of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s are heavily regulated to protect society at large from market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ulations impose a burden on FIs and recent U.S. regulatory changes have been deregulatory i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ulators attempt to maximize social welfare while minimizing the burden imposed by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2AC59DB3-C228-4841-93C6-57666BA5AC2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Globalization of Financial Markets and Institution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pool of savings from foreign investors is increasing and investors look to diversify globally now more than ever befo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formation on foreign markets and investments is becoming readily accessible and deregulation across the globe is allowing even greater a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ternational mutual funds allow diversified foreign investment with low transactions co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334248EC-04FB-4221-9CB0-0610934CA13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versus Secondary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in which users of funds (e.g., corporations and governments) raise funds by issuing financial instruments (e.g., stocks and bon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 financial institutions called investment 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O: the first public issue of financial instruments by a fi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7D985082-1B16-4D32-8161-BCAACB79B3F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versus Secondary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where financial instruments are traded among investors (e.g., NYSE and Nasd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the opportunity to trade securities at their market values quickly with varying risk-return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ve security: a financial security whose payoffs are linked to other, previously issued secu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5B428FE4-7C82-42D0-B9A6-F5F34EB1A95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versus Secondary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ve security: A financial security whose payoffs are linked to other, previously issued secu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82618372-CC1E-4277-9E9A-5DE911B7F32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versus Capital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e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that trade debt securities with maturities of one year or less (e.g., CDs and  U.S. Treasury bil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U.S. money markets are over-the-counter (OTC) mar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C: markets that don’t operate in a specific fixed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ED4EF148-6959-4252-9E1A-F72B17695FB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versus Capital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ey markets instr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by corporations &amp; governments to obtain short-term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 T-bills, commercial paper, negotiable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0686D2A3-A021-411D-8221-F5B3EDC13B0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versus Capital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ital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that trade debt (bonds) and equity (stock) instruments with maturities of more than one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longer maturity, instruments experience wider price fluctuations in the secondary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home</cp:lastModifiedBy>
  <dcterms:modified xsi:type="dcterms:W3CDTF">2013-02-08T22:13:01Z</dcterms:modified>
  <cp:revision>234</cp:revision>
  <dc:subject/>
  <dc:title>FINANCIAL MARKETS AND INSTITIUTIONS: A Modern Perspective</dc:title>
</cp:coreProperties>
</file>