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374D-3005-4488-8115-09E756B2D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E121-352F-4C05-A0A1-05760120B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57B5-9121-42AD-A74E-005980A92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22EA-C2F6-4936-86E2-E58832343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E85E-0DFB-4F1B-B4FF-7674E0B88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F661-F901-4147-AA26-10381FE96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DCF3-95B0-4119-B65B-78EEF45EB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51FF-3F71-44A9-AE4A-E394C3811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B486-FE20-4EB0-8CCA-60FB52AA8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C188-ECA9-4C5C-85B3-293D7D28D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8756-D72C-48CE-AF9F-236CACD25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5FBA-B735-4898-9D95-DC81B24E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9D728B4-AAFC-4792-8272-58FA1430714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F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ney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41D3-7758-4907-900F-FD0AC1238D2F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e Secondary Market for T-Bill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ary market for T-bills is the largest of any U.S. money market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primary dealers “make” a market in T-bills by buying the majority sold at auction and by creating an active second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ealers trade for themselves and for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 purchases and sales are book-entry transactions conducted over Fed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s are sold on a discount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599C-C2D9-4D0D-92B8-137FC15F1793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Pric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 prices can be calculated from quotes (e.g.,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all Street 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rearranging the discount yield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y rearranging the bond equivalent yield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21000" y="3205080"/>
                <a:ext cx="3610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il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77960" y="4568760"/>
                <a:ext cx="31464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ill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4EAA-1505-4493-904D-435107D89AA5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ederal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ederal funds (fed funds) r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target rate in the conduct of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 fund transactions are short-term (mostly overnight) unsecured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nks with excess reserves lend fed funds, while banks with deficient reserves borrow fed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 funds are single-payment loans and thus use single-payment y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B64-9983-4864-88A0-1FC23C46A250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purchase Agreemen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urchase agreement (repo or R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ale of a security with an agreement to buy the security back at a set price in the fu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os are short-term collateralized loans (typical collateral is U.S. Treasury securit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verse repurchase agreement is the opposite side of a repo (i.e., it is the purchase of a security with an agreement to sell it back in the futu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474E-C9BA-4394-819C-C0677CB9836E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purchase Agreemen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ield on repurchase agreement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s a 360-day year like the discount rate, but uses the current price in the denominator like the bond equivalent 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repurchase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elling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number of days until the repo m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97360" y="3641760"/>
                <a:ext cx="2496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0C36-CBEF-4DD6-B911-967221E7956F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argest money market in terms of dollars out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nsecured short-term corporate debt issued to raise short-term funds (e.g., for working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old in large denominations (e.g., $100,000 to $1 million) with maturities between 1 and 27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sually sold to investors indirectly through brokers and dealers (approximately 85% of th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sually held by investors until maturity and has no activ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s are quoted on a discount basis (like T-b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3CC7-6ACB-4EF2-A8BB-7F7CE0E33367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egotiable Certificate of Deposi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otiable certificate of deposit (C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ank-issued time deposit that specifies the interest rate and the maturity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s are bearer instruments and thus are salable in the second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ominations range from $100,000 to $10 million; $1 million being the most comm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purchased by money market mutual funds with pools of funds from individual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BA7F-63D0-4057-BBED-2B027B82F2C9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nker’s Accept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anker’s Acceptance (BA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a time draft payable to a seller of goods with payment guaranteed by a ban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d in international trade transactions to finance trade in goods that have yet to be shipped from a foreign exporter (seller) to a domestic importer (buye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eign exporters prefer that banks act as payment guarantors before sending goods to impor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nker’s acceptances are bearer instruments and thus are salable in secondary marke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47B4-AD30-4C16-BC26-33D5CDAD2662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Treas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deral Re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market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55C5-4DF6-42A2-9E92-46F58AC83106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Mone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dollars held outside the U.S. are tracked among multinational banks in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dollar mark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ate offered for sale on Eurodollar funds is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ndon Interbank Offered Rate (LIBO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dollar Certificates of Deposi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.S. dollar denominated CDs held in foreign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commercial paper (Euro-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ssued in Europe and can be in local currencies or U.S. do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2DED-5A3F-4244-8A94-115908DE7073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unds flow between short-term borrowers and lenders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s invol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instr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maturities of one year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d by high-quality (i.e., low default risk) economic units that require short-term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d by economic units that have excess short-term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instruments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2ECB-0156-4987-861E-623C97783CD0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oney market instruments are bought and sold on a discount basis (e.g., Treasury bills and commercial paper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360-day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face valu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discount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number of days until mat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97360" y="3774960"/>
                <a:ext cx="24969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956C-9F11-4331-8F15-3BDA51F2DA4F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discount securities to U.S. Treasury bonds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equivale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bond equivalent yields in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ive annual return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997360" y="3027240"/>
                <a:ext cx="2496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90640" y="4898880"/>
                <a:ext cx="3456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y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3A1C-98FF-4C6C-A289-039705DA8B7D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securities that pay interest only at maturity u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gle-payment yield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jumbo CDs and fed fun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a 360 day year, compare to bonds by converting to a 365 day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ingle-payment yield to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ective annual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35160" y="3943440"/>
                <a:ext cx="2266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14680" y="4986360"/>
                <a:ext cx="3456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y</m:t>
                                </m:r>
                              </m:sub>
                            </m:sSub>
                            <m:f>
                              <m:num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8919-3492-470A-A3F2-A3CCBC89D0F3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bills (T-b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funds (fed fu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rchase agreements (repos or 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ble certificates of deposit (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er acceptances (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2C0C-C551-4296-A36C-99ED1010168B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Bills  (T-Bill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-Bill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hort-term debt obligations issued by the U.S.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Reserve buys and sells T-bills to implement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-bills are virtually default risk free, are highly liquid, and have little interest rat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A275-27E8-4316-A1F3-F8763D7ACCF1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 and 26-week T-bills are auctioned 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s are submitted by government securities dealers, financial and nonfinancial corporations, and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s can be competitive or non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 bids specify the bid price and the desired quantity of T-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competitive bidders get preferential allocation and agree to pay the lowest price of the winning competitive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17F3-7673-42C3-88C2-F2F453B67AFD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22860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53640" y="5181480"/>
            <a:ext cx="14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600" y="23464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2420640" y="3123720"/>
            <a:ext cx="70380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3048120" y="350532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3505320" y="388620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4" name=""/>
          <p:cNvCxnSpPr/>
          <p:nvPr/>
        </p:nvCxnSpPr>
        <p:spPr>
          <a:xfrm>
            <a:off x="3901680" y="4266720"/>
            <a:ext cx="59436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5" name=""/>
          <p:cNvCxnSpPr/>
          <p:nvPr/>
        </p:nvCxnSpPr>
        <p:spPr>
          <a:xfrm>
            <a:off x="4419360" y="46483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6" name=""/>
          <p:cNvCxnSpPr/>
          <p:nvPr/>
        </p:nvCxnSpPr>
        <p:spPr>
          <a:xfrm>
            <a:off x="4952880" y="5028840"/>
            <a:ext cx="457920" cy="3056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410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1855440" y="2759040"/>
            <a:ext cx="888120" cy="365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1912680" y="232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27080" y="306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8428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480" y="38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5000" y="42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8520" y="45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67080" y="2655360"/>
            <a:ext cx="0" cy="2907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48320" y="2682720"/>
            <a:ext cx="0" cy="2880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6840" y="2514600"/>
            <a:ext cx="3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85120" y="25290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1400" y="2286000"/>
            <a:ext cx="0" cy="5335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64000" y="2286000"/>
            <a:ext cx="9907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2920" y="207180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840" y="4343400"/>
            <a:ext cx="1166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4648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4077-1A6B-4203-9CF4-987E188ADBC4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26Z</dcterms:modified>
  <cp:revision>183</cp:revision>
  <dc:subject/>
  <dc:title>FINANCIAL MARKETS AND INSTITIUTIONS: A Modern Perspective</dc:title>
</cp:coreProperties>
</file>