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ECAB4A-E0CB-4F9A-A6E1-1A9852A633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C7F528-C039-41A5-B815-618E80720E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7A92B7-4C55-435F-9E41-90C9F136E2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922091-754B-4F42-93FD-419372C848A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B37030-BB2F-407D-B6A8-27F2C181522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C0D9F2-3C19-40B0-9108-E86D95B850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FA8BC3-155D-4CB3-B98A-7D92A5A4DD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B80D42-2F8A-44BB-BD3A-448DF88539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C0FD9B-9C6D-422C-9FB0-D7EAC57167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27FC0F-3ECE-4CD6-B98A-D80806E117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B30A13-2289-4243-AA00-1473FE45CB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08C866-0A15-4597-A215-51CBAF40F9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7fbe"/>
              </a:gs>
              <a:gs pos="100000">
                <a:srgbClr val="feedca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733920" y="647712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5-</a:t>
            </a:r>
            <a:fld id="{4676B25A-A221-44DB-A963-29D485C89BFA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8240" y="65336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200" spc="-1" strike="noStrike">
                <a:solidFill>
                  <a:srgbClr val="000000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&lt;footer&gt;</a:t>
            </a: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495680" y="655308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©2009, The McGraw-Hill Companies,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gradFill rotWithShape="0">
            <a:gsLst>
              <a:gs pos="0">
                <a:srgbClr val="007fbe"/>
              </a:gs>
              <a:gs pos="100000">
                <a:srgbClr val="feedca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0a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190600" y="2286000"/>
            <a:ext cx="5639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66"/>
                </a:solidFill>
                <a:latin typeface="Arial"/>
              </a:rPr>
              <a:t>Chapter Fiv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209680" y="3429000"/>
            <a:ext cx="6705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Money Marke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86000" y="3276720"/>
            <a:ext cx="6400800" cy="0"/>
          </a:xfrm>
          <a:prstGeom prst="line">
            <a:avLst/>
          </a:prstGeom>
          <a:ln w="12600">
            <a:solidFill>
              <a:srgbClr val="feed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6477120" y="3657600"/>
            <a:ext cx="2068560" cy="2724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300BE1-C024-4761-B3F8-D26180ACDF7F}" type="slidenum">
              <a:t>1</a:t>
            </a:fld>
          </a:p>
        </p:txBody>
      </p:sp>
    </p:spTree>
  </p:cSld>
  <p:transition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7fbe"/>
              </a:gs>
              <a:gs pos="100000">
                <a:srgbClr val="feedca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The Secondary Market for T-Bills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econdary market for T-bills is the largest of any U.S. money market instru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2 primary dealers “make” a market in T-bills by buying the majority sold at auction and by creating an active secondary mark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ealers trade for themselves and for custom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-bill purchases and sales are book-entry transactions conducted over Fedw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-Bills are sold on a discount ba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C498B9-F39C-4C87-9BE8-8CDFC669C56F}" type="slidenum">
              <a:t>10</a:t>
            </a:fld>
          </a:p>
        </p:txBody>
      </p:sp>
    </p:spTree>
  </p:cSld>
  <p:transition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7fbe"/>
              </a:gs>
              <a:gs pos="100000">
                <a:srgbClr val="feedca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T-Bill Prices 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-Bill prices can be calculated from quotes (e.g.,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Wall Street Journ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by rearranging the discount yield eq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 by rearranging the bond equivalent yield eq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2421000" y="3205080"/>
                <a:ext cx="3610080" cy="80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−</m:t>
                    </m:r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ill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dy</m:t>
                        </m:r>
                        <m:r>
                          <m:t xml:space="preserve">)</m:t>
                        </m:r>
                        <m:r>
                          <m:t xml:space="preserve">×</m:t>
                        </m:r>
                        <m:f>
                          <m:num>
                            <m:r>
                              <m:t xml:space="preserve">h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60</m:t>
                            </m:r>
                          </m:den>
                        </m:f>
                        <m:r>
                          <m:t xml:space="preserve">×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577960" y="4568760"/>
                <a:ext cx="3146400" cy="133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h</m:t>
                                </m:r>
                              </m:num>
                              <m:den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365</m:t>
                                    </m:r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i</m:t>
                                        </m:r>
                                      </m:e>
                                      <m:sub>
                                        <m:r>
                                          <m:t xml:space="preserve">T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Bill</m:t>
                                        </m:r>
                                      </m:sub>
                                    </m:sSub>
                                  </m:den>
                                </m:f>
                                <m:r>
                                  <m:t xml:space="preserve">(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bey</m:t>
                                </m:r>
                                <m:r>
                                  <m:t xml:space="preserve">)</m:t>
                                </m:r>
                              </m:den>
                            </m:f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936F36-DF2D-42A5-B236-5D5C343B6A9A}" type="slidenum">
              <a:t>11</a:t>
            </a:fld>
          </a:p>
        </p:txBody>
      </p:sp>
    </p:spTree>
  </p:cSld>
  <p:transition>
    <p:blinds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7fbe"/>
              </a:gs>
              <a:gs pos="100000">
                <a:srgbClr val="feedca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Federal Funds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federal funds (fed funds) rat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s the target rate in the conduct of monetary polic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ed fund transactions are short-term (mostly overnight) unsecured loa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Banks with excess reserves lend fed funds, while banks with deficient reserves borrow fed fund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ed funds are single-payment loans and thus use single-payment yield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4679CA-B897-4C98-B383-63C821D9E6E7}" type="slidenum">
              <a:t>12</a:t>
            </a:fld>
          </a:p>
        </p:txBody>
      </p:sp>
    </p:spTree>
  </p:cSld>
  <p:transition>
    <p:blinds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7fbe"/>
              </a:gs>
              <a:gs pos="100000">
                <a:srgbClr val="feedca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Repurchase Agreement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repurchase agreement (repo or RP)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s the sale of a security with an agreement to buy the security back at a set price in the futur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epos are short-term collateralized loans (typical collateral is U.S. Treasury securities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 reverse repurchase agreement is the opposite side of a repo (i.e., it is the purchase of a security with an agreement to sell it back in the future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A869DE-4DFF-4C8D-802C-2B800FDC9D8B}" type="slidenum">
              <a:t>13</a:t>
            </a:fld>
          </a:p>
        </p:txBody>
      </p:sp>
    </p:spTree>
  </p:cSld>
  <p:transition>
    <p:blinds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7fbe"/>
              </a:gs>
              <a:gs pos="100000">
                <a:srgbClr val="feedca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Repurchase Agreement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yield on repurchase agreements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R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ses a 360-day year like the discount rate, but uses the current price in the denominator like the bond equivalent yie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the repurchase price of the secur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the selling price of the secur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the number of days until the repo ma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2997360" y="3641760"/>
                <a:ext cx="249696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A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60</m:t>
                        </m:r>
                      </m:num>
                      <m:den>
                        <m:r>
                          <m:t xml:space="preserve">h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7602A1-6131-42B6-A2D7-A87061787E9C}" type="slidenum">
              <a:t>14</a:t>
            </a:fld>
          </a:p>
        </p:txBody>
      </p:sp>
    </p:spTree>
  </p:cSld>
  <p:transition>
    <p:blinds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7fbe"/>
              </a:gs>
              <a:gs pos="100000">
                <a:srgbClr val="feedca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Commercial Paper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mercial paper (CP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largest money market in terms of dollars outstan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 is unsecured short-term corporate debt issued to raise short-term funds (e.g., for working capit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lly sold in large denominations (e.g., $100,000 to $1 million) with maturities between 1 and 270 da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 is usually sold to investors indirectly through brokers and dealers (approximately 85% of the tim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 is usually held by investors until maturity and has no active secondary mark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ields are quoted on a discount basis (like T-bill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D4D8FD-3F19-4382-B9B9-7EBB16F0D8BD}" type="slidenum">
              <a:t>15</a:t>
            </a:fld>
          </a:p>
        </p:txBody>
      </p:sp>
    </p:spTree>
  </p:cSld>
  <p:transition>
    <p:blinds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7fbe"/>
              </a:gs>
              <a:gs pos="100000">
                <a:srgbClr val="feedca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Negotiable Certificate of Deposit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egotiable certificate of deposit (CD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a bank-issued time deposit that specifies the interest rate and the maturity d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s are bearer instruments and thus are salable in the secondary mark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nominations range from $100,000 to $10 million; $1 million being the most comm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ften purchased by money market mutual funds with pools of funds from individual inves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94A889-D715-4015-9237-CD589EE591DF}" type="slidenum">
              <a:t>16</a:t>
            </a:fld>
          </a:p>
        </p:txBody>
      </p:sp>
    </p:spTree>
  </p:cSld>
  <p:transition>
    <p:blinds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7fbe"/>
              </a:gs>
              <a:gs pos="100000">
                <a:srgbClr val="feedca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Banker’s Acceptance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Banker’s Acceptance (BA)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is a time draft payable to a seller of goods with payment guaranteed by a bank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Used in international trade transactions to finance trade in goods that have yet to be shipped from a foreign exporter (seller) to a domestic importer (buyer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Foreign exporters prefer that banks act as payment guarantors before sending goods to importer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Banker’s acceptances are bearer instruments and thus are salable in secondary market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715D8B-3771-4F69-84D1-4108D91334E0}" type="slidenum">
              <a:t>17</a:t>
            </a:fld>
          </a:p>
        </p:txBody>
      </p:sp>
    </p:spTree>
  </p:cSld>
  <p:transition>
    <p:blinds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7fbe"/>
              </a:gs>
              <a:gs pos="100000">
                <a:srgbClr val="feedca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Money Market Participants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U.S. Treasu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Federal Reser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ercial ban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ney market mutual fu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rokers and deal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rpor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financial instit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ividu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3D16BA-795F-4F02-BDAC-499B437238C6}" type="slidenum">
              <a:t>18</a:t>
            </a:fld>
          </a:p>
        </p:txBody>
      </p:sp>
    </p:spTree>
  </p:cSld>
  <p:transition>
    <p:blinds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7fbe"/>
              </a:gs>
              <a:gs pos="100000">
                <a:srgbClr val="feedca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International Money Markets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U.S. dollars held outside the U.S. are tracked among multinational banks in the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urodollar marke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e rate offered for sale on Eurodollar funds is the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London Interbank Offered Rate (LIBOR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urodollar Certificates of Deposit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are U.S. dollar denominated CDs held in foreign bank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urocommercial paper (Euro-CP)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s issued in Europe and can be in local currencies or U.S. dollar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FC560E-5FA1-40A5-93E6-D7DEDBBE5780}" type="slidenum">
              <a:t>19</a:t>
            </a:fld>
          </a:p>
        </p:txBody>
      </p:sp>
    </p:spTree>
  </p:cSld>
  <p:transition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7fbe"/>
              </a:gs>
              <a:gs pos="100000">
                <a:srgbClr val="feedca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Money Markets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quid funds flow between short-term borrowers and lenders through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ney mar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ney markets involv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bt instrum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iginal maturities of one year or l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ney market deb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ssued by high-quality (i.e., low default risk) economic units that require short-term fun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rchased by economic units that have excess short-term fun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ney market instruments hav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ctive secondary mar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75E1D6-0F33-47A2-A65C-0281DE2B7437}" type="slidenum">
              <a:t>2</a:t>
            </a:fld>
          </a:p>
        </p:txBody>
      </p:sp>
    </p:spTree>
  </p:cSld>
  <p:transition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7fbe"/>
              </a:gs>
              <a:gs pos="100000">
                <a:srgbClr val="feedca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Money Market Yields 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me money market instruments are bought and sold on a discount basis (e.g., Treasury bills and commercial paper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iscount yields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dy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a 360-day ye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the face value of the secur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the discount price of the secur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the number of days until matur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2997360" y="3774960"/>
                <a:ext cx="2496960" cy="91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y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60</m:t>
                        </m:r>
                      </m:num>
                      <m:den>
                        <m:r>
                          <m:t xml:space="preserve">h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41434D-8532-42A4-8966-28E5ABE609A3}" type="slidenum">
              <a:t>3</a:t>
            </a:fld>
          </a:p>
        </p:txBody>
      </p:sp>
    </p:spTree>
  </p:cSld>
  <p:transition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7fbe"/>
              </a:gs>
              <a:gs pos="100000">
                <a:srgbClr val="feedca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Money Market Yields 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are discount securities to U.S. Treasury bonds with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ond equivalent yields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bey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vert bond equivalent yields into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ffective annual returns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EAR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2997360" y="3027240"/>
                <a:ext cx="2496960" cy="9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y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65</m:t>
                        </m:r>
                      </m:num>
                      <m:den>
                        <m:r>
                          <m:t xml:space="preserve">h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2690640" y="4898880"/>
                <a:ext cx="3456000" cy="101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AR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ey</m:t>
                                    </m:r>
                                  </m:sub>
                                </m:sSub>
                              </m:num>
                              <m:den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365</m:t>
                                    </m:r>
                                  </m:num>
                                  <m:den>
                                    <m:r>
                                      <m:t xml:space="preserve">h</m:t>
                                    </m:r>
                                  </m:den>
                                </m:f>
                              </m:den>
                            </m:f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65</m:t>
                            </m:r>
                          </m:num>
                          <m:den>
                            <m:r>
                              <m:t xml:space="preserve">h</m:t>
                            </m:r>
                          </m:den>
                        </m:f>
                      </m:sup>
                    </m:sSup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18BB4F-4EFD-4437-8A90-D8CA618FB17F}" type="slidenum">
              <a:t>4</a:t>
            </a:fld>
          </a:p>
        </p:txBody>
      </p:sp>
    </p:spTree>
  </p:cSld>
  <p:transition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7fbe"/>
              </a:gs>
              <a:gs pos="100000">
                <a:srgbClr val="feedca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Money Market Yields 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ney market securities that pay interest only at maturity us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single-payment yields 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spy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e.g., jumbo CDs and fed funds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ce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sp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uses a 360 day year, compare to bonds by converting to a 365 day ye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convert a single-payment yield to an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ffective annual retur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3035160" y="3943440"/>
                <a:ext cx="226692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ey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py</m:t>
                        </m:r>
                      </m:sub>
                    </m:sSub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36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60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2614680" y="4986360"/>
                <a:ext cx="345600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AR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spy</m:t>
                                </m:r>
                              </m:sub>
                            </m:sSub>
                            <m:f>
                              <m:num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365</m:t>
                                    </m:r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360</m:t>
                                    </m:r>
                                  </m:den>
                                </m:f>
                              </m:num>
                              <m:den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365</m:t>
                                    </m:r>
                                  </m:num>
                                  <m:den>
                                    <m:r>
                                      <m:t xml:space="preserve">h</m:t>
                                    </m:r>
                                  </m:den>
                                </m:f>
                              </m:den>
                            </m:f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65</m:t>
                            </m:r>
                          </m:num>
                          <m:den>
                            <m:r>
                              <m:t xml:space="preserve">h</m:t>
                            </m:r>
                          </m:den>
                        </m:f>
                      </m:sup>
                    </m:sSup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1E56DE-5974-40F4-9920-7641DB8F4C50}" type="slidenum">
              <a:t>5</a:t>
            </a:fld>
          </a:p>
        </p:txBody>
      </p:sp>
    </p:spTree>
  </p:cSld>
  <p:transition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7fbe"/>
              </a:gs>
              <a:gs pos="100000">
                <a:srgbClr val="feedca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Money Market Instruments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easury bills (T-bill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ederal funds (fed fund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urchase agreements (repos or R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ercial paper (C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gotiable certificates of deposit (C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nker acceptances (B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6B635F-B78A-4B90-A289-CE1458040B61}" type="slidenum">
              <a:t>6</a:t>
            </a:fld>
          </a:p>
        </p:txBody>
      </p:sp>
    </p:spTree>
  </p:cSld>
  <p:transition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7fbe"/>
              </a:gs>
              <a:gs pos="100000">
                <a:srgbClr val="feedca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Treasury Bills  (T-Bills)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-Bill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e short-term debt obligations issued by the U.S. govern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Federal Reserve buys and sells T-bills to implement monetary poli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-bills are virtually default risk free, are highly liquid, and have little interest rate ris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C5E677-AC0E-4189-A3DB-98D3E3095A38}" type="slidenum">
              <a:t>7</a:t>
            </a:fld>
          </a:p>
        </p:txBody>
      </p:sp>
    </p:spTree>
  </p:cSld>
  <p:transition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7fbe"/>
              </a:gs>
              <a:gs pos="100000">
                <a:srgbClr val="feedca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T-Bill Auctions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3- and 26-week T-bills are auctioned week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ds are submitted by government securities dealers, financial and nonfinancial corporations, and individu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ds can be competitive or noncompeti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ve bids specify the bid price and the desired quantity of T-bi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ncompetitive bidders get preferential allocation and agree to pay the lowest price of the winning competitive bi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7C4BC0-A2BC-40F5-8683-6A50286B0758}" type="slidenum">
              <a:t>8</a:t>
            </a:fld>
          </a:p>
        </p:txBody>
      </p:sp>
    </p:spTree>
  </p:cSld>
  <p:transition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828800" y="2286000"/>
            <a:ext cx="0" cy="3276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828800" y="5562720"/>
            <a:ext cx="5410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253640" y="5181480"/>
            <a:ext cx="1436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Quantity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-bi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34600" y="2346480"/>
            <a:ext cx="118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id Pr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1" name=""/>
          <p:cNvCxnSpPr/>
          <p:nvPr/>
        </p:nvCxnSpPr>
        <p:spPr>
          <a:xfrm>
            <a:off x="2420640" y="3123720"/>
            <a:ext cx="703800" cy="3819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72" name=""/>
          <p:cNvCxnSpPr/>
          <p:nvPr/>
        </p:nvCxnSpPr>
        <p:spPr>
          <a:xfrm>
            <a:off x="3048120" y="3505320"/>
            <a:ext cx="457920" cy="381600"/>
          </a:xfrm>
          <a:prstGeom prst="bentConnector3">
            <a:avLst>
              <a:gd name="adj1" fmla="val 49960"/>
            </a:avLst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73" name=""/>
          <p:cNvCxnSpPr/>
          <p:nvPr/>
        </p:nvCxnSpPr>
        <p:spPr>
          <a:xfrm>
            <a:off x="3505320" y="3886200"/>
            <a:ext cx="457920" cy="381600"/>
          </a:xfrm>
          <a:prstGeom prst="bentConnector3">
            <a:avLst>
              <a:gd name="adj1" fmla="val 49960"/>
            </a:avLst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74" name=""/>
          <p:cNvCxnSpPr/>
          <p:nvPr/>
        </p:nvCxnSpPr>
        <p:spPr>
          <a:xfrm>
            <a:off x="3901680" y="4266720"/>
            <a:ext cx="594360" cy="3819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75" name=""/>
          <p:cNvCxnSpPr/>
          <p:nvPr/>
        </p:nvCxnSpPr>
        <p:spPr>
          <a:xfrm>
            <a:off x="4419360" y="4648320"/>
            <a:ext cx="53388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76" name=""/>
          <p:cNvCxnSpPr/>
          <p:nvPr/>
        </p:nvCxnSpPr>
        <p:spPr>
          <a:xfrm>
            <a:off x="4952880" y="5028840"/>
            <a:ext cx="457920" cy="305640"/>
          </a:xfrm>
          <a:prstGeom prst="bentConnector3">
            <a:avLst>
              <a:gd name="adj1" fmla="val 49960"/>
            </a:avLst>
          </a:prstGeom>
          <a:ln w="25560">
            <a:solidFill>
              <a:srgbClr val="000000"/>
            </a:solidFill>
            <a:miter/>
          </a:ln>
        </p:spPr>
      </p:cxnSp>
      <p:sp>
        <p:nvSpPr>
          <p:cNvPr id="77" name=""/>
          <p:cNvSpPr/>
          <p:nvPr/>
        </p:nvSpPr>
        <p:spPr>
          <a:xfrm>
            <a:off x="5410080" y="5334120"/>
            <a:ext cx="914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8" name=""/>
          <p:cNvCxnSpPr/>
          <p:nvPr/>
        </p:nvCxnSpPr>
        <p:spPr>
          <a:xfrm>
            <a:off x="1855440" y="2759040"/>
            <a:ext cx="888120" cy="3657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</a:ln>
        </p:spPr>
      </p:cxnSp>
      <p:sp>
        <p:nvSpPr>
          <p:cNvPr id="79" name=""/>
          <p:cNvSpPr/>
          <p:nvPr/>
        </p:nvSpPr>
        <p:spPr>
          <a:xfrm>
            <a:off x="1912680" y="2324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363760" y="26812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827080" y="3062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284280" y="342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741480" y="38242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275000" y="4205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808520" y="45864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4267080" y="2655360"/>
            <a:ext cx="0" cy="2907000"/>
          </a:xfrm>
          <a:prstGeom prst="line">
            <a:avLst/>
          </a:prstGeom>
          <a:ln w="50760">
            <a:solidFill>
              <a:srgbClr val="007fb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4648320" y="2682720"/>
            <a:ext cx="0" cy="2880000"/>
          </a:xfrm>
          <a:prstGeom prst="line">
            <a:avLst/>
          </a:prstGeom>
          <a:ln w="50760">
            <a:solidFill>
              <a:srgbClr val="007fb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786840" y="2514600"/>
            <a:ext cx="395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785120" y="2529000"/>
            <a:ext cx="387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451400" y="2286000"/>
            <a:ext cx="0" cy="533520"/>
          </a:xfrm>
          <a:prstGeom prst="line">
            <a:avLst/>
          </a:prstGeom>
          <a:ln w="50760">
            <a:solidFill>
              <a:srgbClr val="cc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464000" y="2286000"/>
            <a:ext cx="99072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362920" y="2071800"/>
            <a:ext cx="24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oncompetitive Bi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46840" y="4343400"/>
            <a:ext cx="116676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op-o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N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828800" y="4648320"/>
            <a:ext cx="236232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gradFill rotWithShape="0">
            <a:gsLst>
              <a:gs pos="0">
                <a:srgbClr val="007fbe"/>
              </a:gs>
              <a:gs pos="100000">
                <a:srgbClr val="feedc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T-Bill Auc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7fbe"/>
              </a:gs>
              <a:gs pos="100000">
                <a:srgbClr val="feedca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T-Bill Auctions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395251-8EE1-4076-8806-BA2D43F11D13}" type="slidenum">
              <a:t>9</a:t>
            </a:fld>
          </a:p>
        </p:txBody>
      </p:sp>
    </p:spTree>
  </p:cSld>
  <p:transition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01T19:33:32Z</dcterms:created>
  <dc:creator>Joseph Ogden</dc:creator>
  <dc:description/>
  <dc:language>en-US</dc:language>
  <cp:lastModifiedBy>balaji.s</cp:lastModifiedBy>
  <dcterms:modified xsi:type="dcterms:W3CDTF">2008-09-10T09:29:26Z</dcterms:modified>
  <cp:revision>183</cp:revision>
  <dc:subject/>
  <dc:title>FINANCIAL MARKETS AND INSTITIUTIONS: A Modern Perspective</dc:title>
</cp:coreProperties>
</file>