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5C678-D7CB-47A6-B5E3-1D48258A83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E97E5-919C-48B9-A50E-A359484D63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0557F-68EA-4648-92B1-45CEE6793B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B5A83-19D9-4AFE-B561-16B4B14FE0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23A0E-17BD-45FB-8DE2-73010B1238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F640C-4152-4958-BB0A-F87A3DC3AC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A7E7E-918E-459F-993D-487551DAF6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8D84C-1E75-4147-BA7D-9F7ABC5DD1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602BC-4EF4-41F3-8115-3D742C4074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C6719-8440-45F1-BA68-98C6F33563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6C5C7-AA7B-4783-8EFC-F9FBE1B2AA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2930A-100F-4908-BB2C-4D49903A4B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-</a:t>
            </a:r>
            <a:fld id="{E9DDB031-D975-4585-AABD-25C48A250B1B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8240" y="65336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&lt;footer&gt;</a:t>
            </a: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49568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2009, The McGraw-Hill Companies,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0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190600" y="2286000"/>
            <a:ext cx="5639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66"/>
                </a:solidFill>
                <a:latin typeface="Arial"/>
              </a:rPr>
              <a:t>Chapter Six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09680" y="342900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Bond Mark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0" y="3276720"/>
            <a:ext cx="6400800" cy="0"/>
          </a:xfrm>
          <a:prstGeom prst="line">
            <a:avLst/>
          </a:prstGeom>
          <a:ln w="12600">
            <a:solidFill>
              <a:srgbClr val="feed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477120" y="3657600"/>
            <a:ext cx="2068560" cy="272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252D2-391F-4FF7-8115-D0A700D7942A}" type="slidenum">
              <a:t>1</a:t>
            </a:fld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Treasury Notes and Bond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imary market of T-notes and T-bonds is similar to that of T-bills; the U.S. Treasury sells T-notes and T-bonds through competitive and noncompetitive single-bid au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year notes are auctioned month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, 5, and 10-year notes are auctioned quarterly (Feb, May, Aug, and No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-year bonds are auctioned semi-annually (Feb and Au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secondary trading occurs directly through brokers and deal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ACF49-9114-4FDB-8C5D-CF38E24BB5B0}" type="slidenum">
              <a:t>10</a:t>
            </a:fld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Municipal Bond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nicipal bonds (Muni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securities issued by state and local gover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fund imbalances between expenditures and receip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finance long-term capital outl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active to household investors because interest is exempt from federal and most local income tax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ral obligation (GO) bo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backed by the full faith and credit of the issuing municip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venue bo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d to finance specific revenue generating projec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6A42C-1E41-48F5-85B5-8004FDC84D3C}" type="slidenum">
              <a:t>11</a:t>
            </a:fld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Municipal Bond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Muni returns with fully taxable corporate bonds by finding the after tax return for corporate bonds: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1 –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after-tax rate of return on a taxable corporate b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before-tax rate of return on a taxable b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marginal total income tax rate of the bond hol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ernately, convert Muni interest rates to tax equivalent rates of return: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(1 –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D2653-A59A-4F73-A637-D7EE7CA0F942}" type="slidenum">
              <a:t>12</a:t>
            </a:fld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Municipal Bond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imary mar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rm commitment underwrit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a public offering of Munis made through an investment bank, where the investment bank guarantees a price for the newly issued bonds by buying the entire issue and then reselling it to the publ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st efforts offer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a public offering in which the investment bank does not guarantee a firm pr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vate placem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bonds are sold on a semi-private basis to qualified investors (generally FI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ary marke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Munis trade infrequently due mainly to a lack of information on bond issu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6678B-5450-4D3C-B125-EDE7EBB2C6B7}" type="slidenum">
              <a:t>13</a:t>
            </a:fld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Corporate Bond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rporate bon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long-term bonds issued by corpo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ond indentu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gal contract that specifies the rights and obligations of the issuer and the hol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ar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ersu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giste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r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ersu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rtgage bond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secured debt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547C2-C12F-464F-8200-F897DB478C08}" type="slidenum">
              <a:t>14</a:t>
            </a:fld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Corporate Bond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bentur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bordinated deben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vertible bon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ersu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n-convertible b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cv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rate of return on a convertible b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ncv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rate of return on a nonconvertible b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cv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value of the conversion o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ock warr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ive bondholders the opportunity to purchase common stock at a prespecified pr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3321000" y="3300480"/>
                <a:ext cx="231768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v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cvb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o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v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1CB2B-91F2-4630-8AFD-A814A47FCE31}" type="slidenum">
              <a:t>15</a:t>
            </a:fld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Corporate Bond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llab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nds versu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n-callab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c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rate of return on a noncallable b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c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rate of return on a callable b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c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value of the call o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nking fund provi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requirement that the issuer retire a certain amount of the bond issue early as the bonds approach mat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3156120" y="2602080"/>
                <a:ext cx="216504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c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o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v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99D7D-BD4C-4D1A-B54B-C306C625A7A9}" type="slidenum">
              <a:t>16</a:t>
            </a:fld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Corporate Bond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imary marke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identical to that of Mun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ary mar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change mark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e.g., NY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ver-the-counter (OTC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ond rat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wo major bond rating agencies ar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ody’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ndard &amp; Poor’s (S&amp;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nds are rated b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ceived default r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nds may be eithe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vest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ecula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i.e.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n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gr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F40AC-B7B6-4F6B-8D8C-FD45D9379F06}" type="slidenum">
              <a:t>17</a:t>
            </a:fld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Bond Market Indexe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ged by major investment ba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lect both the monthly capital gain and loss on bonds plus any interest (coupon) income ear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values of bond indexes can be used by bond traders to evaluate changes in the investment attractiveness of bonds of different types and matur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DA194-5BAB-45E7-B590-7F657D131475}" type="slidenum">
              <a:t>18</a:t>
            </a:fld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Bond Market Participant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jor issuers of debt market securities are federal, state and local governments, and corpo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jor purchasers of capital market securities are households, businesses, government units, and foreign inve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sinesses and financial firms (e.g., banks, insurance companies, and mutual funds) are the major suppliers of funds for Munis and corporate bo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eign investors and governments are the major suppliers of funds for T-notes and T-bo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F63AD-B29A-4C0B-ADAD-F44E2363C5D8}" type="slidenum">
              <a:t>19</a:t>
            </a:fld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Bond and Bond Market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pital market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olve equity and debt instruments with maturities of more than one y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ond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long-term debt obligations issued by corporations and government un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ond market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markets in which bonds are issued and tra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asury notes (T-notes) and bonds (T-bon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nicipal bonds (Mun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porate b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3998E-4339-4326-9869-20655E3D08DF}" type="slidenum">
              <a:t>2</a:t>
            </a:fld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International Bonds and Market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national bond marke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volve unregistered bonds that are internationally syndicated, offered simultaneously to investors in several countries, and issued outside of the jurisdiction of any single coun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urobon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e long-term bonds issued outside the country of the currency in which they are denomin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eign Bond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 long-term bonds issued outside of the issuer’s home coun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rady Bond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 bonds swapped for an outstanding loan to a less developed coun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vereign Bond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 Brady Bonds that have had their underlying collateral removed and the creditworthiness of the country is substituted inst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278F0-D615-4D51-914E-ED74E34C7D7E}" type="slidenum">
              <a:t>20</a:t>
            </a:fld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1932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Bond Market Instruments Outstanding, 1994-2007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222200" y="1639800"/>
          <a:ext cx="6653520" cy="443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22200" y="1639800"/>
                    <a:ext cx="6653520" cy="4438800"/>
                  </a:xfrm>
                  <a:prstGeom prst="rect">
                    <a:avLst/>
                  </a:prstGeom>
                  <a:ln w="31680">
                    <a:solidFill>
                      <a:srgbClr val="007fbe"/>
                    </a:solidFill>
                    <a:miter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AE2E0-1D2E-4D33-B6AF-B9D458B274B8}" type="slidenum">
              <a:t>3</a:t>
            </a:fld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Treasury Notes and Bonds 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easury notes and bonds (T-notes and T-bonds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issued by the U.S. Treasury to finance the national debt and other government expendi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nnual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ederal defici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equal to annual expenditures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less taxes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cei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tional deb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s the sum of historical annual federal deficit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576680" y="5118120"/>
                <a:ext cx="263376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D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F8F6C-E26B-422F-BAD7-1B8A024AFE54}" type="slidenum">
              <a:t>4</a:t>
            </a:fld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Treasury Notes and Bonds 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ault risk fr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backed by the full faith and credit of the U.S. gover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w retur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low interest rates (yields to maturity) reflect low default r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because of their long maturity, T-notes and T-bonds experience wider price fluctuations than money market securities when interest rates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quidity ris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older issued T-bonds and T-notes trade less frequently than newly issued T-bonds and T-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93E74-ACAC-4039-B3A7-3B01F26EF74D}" type="slidenum">
              <a:t>5</a:t>
            </a:fld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Treasury Notes and Bonds 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-notes have original maturities from over 1 to 10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-bonds have original maturities from over 10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sued in minimum denominations (multiples) of 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be either fixed principal or inflation-inde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lation-indexed bonds are calle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easury Inflation Protection Securities (TIP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incipal value of TIPS is adjusted by the percentage change in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sumer Price Index (CPI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very six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e in very active secondary mar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s are quoted as percentages of face value, in 32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364AA-B060-402C-97AE-F2D6C4866EA9}" type="slidenum">
              <a:t>6</a:t>
            </a:fld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Treasury STRIPS 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parate Trading of Registered Interest and Principal Securities (STRIP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.k.a. Treasury zero bonds or Treasury zero-coupon b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ncial institutions and government securities brokers and dealers create STRIPS from T-notes and T-b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PS have the periodic interest payments separated from each other and from the principal pay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set of securities reflects interest pay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set of securities reflects principal pay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PS are used to immunize against interest rate r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45804-0DA3-4FC7-9E73-6909DF4C97AC}" type="slidenum">
              <a:t>7</a:t>
            </a:fld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Treasury Notes and Bond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” prices are calculated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the present value of the b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the par value of the b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annual interest payment (in dolla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the number of years until the bond m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the number of times per year interest is pa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interest rate used to discount cash flows on the b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1536840" y="2486160"/>
                <a:ext cx="541656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VIFA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d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M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VI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d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37F26-07A7-4095-A365-709BC5DCC2A4}" type="slidenum">
              <a:t>8</a:t>
            </a:fld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Treasury Notes and Bond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rued interest on T-notes and T-bonds is calculated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ull (or dirty) price of a T-note or T-bond is the sum of the clean price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nd the accrued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965160" y="3151080"/>
                <a:ext cx="7353360" cy="6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ccrued interest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tual number of days since last coupon paymen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tual number of days in coupon perio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C84D8-3C7F-4311-B641-33992CDBF7A8}" type="slidenum">
              <a:t>9</a:t>
            </a:fld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1T19:33:32Z</dcterms:created>
  <dc:creator>Joseph Ogden</dc:creator>
  <dc:description/>
  <dc:language>en-US</dc:language>
  <cp:lastModifiedBy>balaji.s</cp:lastModifiedBy>
  <dcterms:modified xsi:type="dcterms:W3CDTF">2008-09-10T09:29:43Z</dcterms:modified>
  <cp:revision>185</cp:revision>
  <dc:subject/>
  <dc:title>FINANCIAL MARKETS AND INSTITIUTIONS: A Modern Perspective</dc:title>
</cp:coreProperties>
</file>