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6187-7928-41B9-BE7F-6F9E0A763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F1CF-A4A2-4568-AE96-CF90FCC3A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62E6-B994-4216-B929-DB03AD019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15FC-92BA-46B4-9755-09DF76037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149A-C9A7-4C14-A922-E5B25B3B84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F83-7535-43CB-859B-6AD0A03F1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5A26-899B-4011-BE60-990783EF0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8AA6-96B9-45CF-94EC-8155E7B3D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E558-8F95-47EA-A572-A6795FF32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3AE7-6DBD-4D6C-9165-F81A08025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6F58-81BB-4609-96E0-FF758C873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988B-61B8-4FE8-81E4-0C1F67BA6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E95A708D-2024-48CD-961F-EC8CB307964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ond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ED68-A250-44D7-9B3E-27090344229E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5, and 10-year notes are auctioned quarterly (Feb, May, Aug, and 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F90F-6E3E-47C8-9250-938D4581B297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FA7E-7133-478C-B2C2-4478DE70E402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1B62-4F27-4A19-A5F5-E5FE5F27DA2C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9C79-2978-4859-8BB7-D0E53A0E733A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D037-BF69-4AA5-8116-BBDC5CFE71A6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21000" y="3300480"/>
                <a:ext cx="2317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E197-2541-4579-A1E6-21CFA033EA27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king fund pro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56120" y="2602080"/>
                <a:ext cx="2165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0954-E359-406E-AC93-C1EC5A9E2CC6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major bond rating agenci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ody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&amp; Poor’s (S&amp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6E5B-E989-4903-BFB3-6F23B09648CB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56B8-DFED-402B-859C-43E2806476C3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DF7BE-178C-426C-9D50-8EE6B334DA74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and Bo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E2D8-65F3-448D-B433-25EF3A352233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Bonds a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dy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swapped for an outstanding loan to a less develop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rady Bonds that have had their underlying collateral removed and the creditworthiness of the country is substituted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64BE-DE37-4A7D-8446-D9E33C4266C9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struments Outstanding, 1994-2007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2200" y="1639800"/>
          <a:ext cx="6653520" cy="44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2200" y="1639800"/>
                    <a:ext cx="6653520" cy="4438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CD77-54DC-43E2-9B05-D15704DEB2E4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nu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deral def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annual expenditur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ss tax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sum of historical annual federal defici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6680" y="5118120"/>
                <a:ext cx="263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15BBE-AABF-4DF1-8895-66058108D128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5784-E3DC-47A2-AD8D-1FCBFAA5D84C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D17E-56A2-40F2-883C-9273DB76AC24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STRIP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88FF-8DA2-4916-9F49-01131A83DF11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36840" y="2486160"/>
                <a:ext cx="5416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B471-06DB-410C-B52B-1C8144D51B27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65160" y="3151080"/>
                <a:ext cx="7353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3DAB-0CBE-4553-A75D-BF781B4645EA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43Z</dcterms:modified>
  <cp:revision>185</cp:revision>
  <dc:subject/>
  <dc:title>FINANCIAL MARKETS AND INSTITIUTIONS: A Modern Perspective</dc:title>
</cp:coreProperties>
</file>