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54720-2A72-4311-A2B3-D02DA955A5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0B7AF-4E47-473E-AE2C-1E8A81D3DF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6852B-9AF9-47F7-9ADC-8E7FD75955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C5EF3-B1E9-444E-8A9C-13A78018E7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5BB4B-2BB4-4375-B025-D5211D2957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DFA63-747E-445D-AE5B-316FF4F93F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E9AFC-7841-48F1-A491-4751C2E01D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522D4-942B-4474-97FD-1C38115FEA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AB69B-DCE2-49E0-AB15-EF8683A986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062DB-3CAF-4F82-81E3-285502EF04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86936-A080-4E54-9301-01A366A1E1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6259B-E3FF-4939-BF42-6FB672AE66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-</a:t>
            </a:r>
            <a:fld id="{93A8DF20-96C3-4240-A2A0-58E6E1594727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2009, The McGraw-Hill Companies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0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90600" y="2286000"/>
            <a:ext cx="563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rial"/>
              </a:rPr>
              <a:t>Chapter Si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09680" y="342900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Bond Mar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3276720"/>
            <a:ext cx="6400800" cy="0"/>
          </a:xfrm>
          <a:prstGeom prst="line">
            <a:avLst/>
          </a:prstGeom>
          <a:ln w="12600">
            <a:solidFill>
              <a:srgbClr val="fee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477120" y="3657600"/>
            <a:ext cx="2068560" cy="272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FDB9F-D72A-47C2-A00C-994BC5B52F52}" type="slidenum">
              <a:t>1</a:t>
            </a:fld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Treasury Notes and Bond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imary market of T-notes and T-bonds is similar to that of T-bills; the U.S. Treasury sells T-notes and T-bonds through competitive and noncompetitive single-bid a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year notes are auctioned month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 5, and 10-year notes are auctioned quarterly (Feb, May, Aug, and No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-year bonds are auctioned semi-annually (Feb and Au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secondary trading occurs directly through brokers and deal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EB361-D198-45AC-B5D6-8A6D1AEE12E3}" type="slidenum">
              <a:t>10</a:t>
            </a:fld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unicipal Bond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nicipal bonds (Muni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securities issued by state and local gover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fund imbalances between expenditures and recei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finance long-term capital out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active to household investors because interest is exempt from federal and most local income ta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 obligation (GO) bo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backed by the full faith and credit of the issuing municip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venue bo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d to finance specific revenue generating proj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CD482-725C-4C6D-8A2C-0621EC308F71}" type="slidenum">
              <a:t>11</a:t>
            </a:fld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unicipal Bond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Muni returns with fully taxable corporate bonds by finding the after tax return for corporate bonds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 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after-tax rate of return on a taxable corporate b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before-tax rate of return on a taxable b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marginal total income tax rate of the bond h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ely, convert Muni interest rates to tax equivalent rates of return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(1 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793CD-CDE9-400F-8F17-BC1A16D3FF62}" type="slidenum">
              <a:t>12</a:t>
            </a:fld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unicipal Bond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mary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m commitment underwrit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a public offering of Munis made through an investment bank, where the investment bank guarantees a price for the newly issued bonds by buying the entire issue and then reselling it to the 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st efforts offe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a public offering in which the investment bank does not guarantee a firm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vate place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bonds are sold on a semi-private basis to qualified investors (generally F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ary marke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Munis trade infrequently due mainly to a lack of information on bond issu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780C6-8FAB-4149-AA27-00BF17FE40D9}" type="slidenum">
              <a:t>13</a:t>
            </a:fld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rporate Bond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rporate bon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long-term bonds issued by corpo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nd indent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gal contract that specifies the rights and obligations of the issuer and the ho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ar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ersu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giste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ersu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rtgage bond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secured debt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8F613-F8B1-42F7-9A47-F77B5183C7BB}" type="slidenum">
              <a:t>14</a:t>
            </a:fld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rporate Bond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bentur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bordinated deben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vertible bon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ersu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n-convertible b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cv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rate of return on a convertible b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ncv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rate of return on a nonconvertible b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cv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value of the conversion o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ock warr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ive bondholders the opportunity to purchase common stock at a prespecified pr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321000" y="3300480"/>
                <a:ext cx="231768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v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cvb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v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792F6-A1F1-4B46-A95A-EB2019640C71}" type="slidenum">
              <a:t>15</a:t>
            </a:fld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rporate Bond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ll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nds versu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n-call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c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rate of return on a noncallable b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c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rate of return on a callable b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c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value of the call o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nking fund provi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requirement that the issuer retire a certain amount of the bond issue early as the bonds approach mat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156120" y="2602080"/>
                <a:ext cx="216504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c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v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408BC-A71A-4630-9E7E-E47E56099D0A}" type="slidenum">
              <a:t>16</a:t>
            </a:fld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rporate Bond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mary mark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identical to that of Mun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ary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change mark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.g., NY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ver-the-counter (OT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nd rat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wo major bond rating agencies a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ody’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 &amp; Poor’s (S&amp;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nds are rated b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ceived default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nds may be eith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est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ecula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.e.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g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998B1-0D17-4135-858F-E28AC059A404}" type="slidenum">
              <a:t>17</a:t>
            </a:fld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Bond Market Indexe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d by major investment ba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ct both the monthly capital gain and loss on bonds plus any interest (coupon) income ear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values of bond indexes can be used by bond traders to evaluate changes in the investment attractiveness of bonds of different types and matur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B1BC5-72BE-4DA9-849F-CBBC18538D55}" type="slidenum">
              <a:t>18</a:t>
            </a:fld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Bond Market Participan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jor issuers of debt market securities are federal, state and local governments, and corpo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jor purchasers of capital market securities are households, businesses, government units, and foreign inv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inesses and financial firms (e.g., banks, insurance companies, and mutual funds) are the major suppliers of funds for Munis and corporate b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ign investors and governments are the major suppliers of funds for T-notes and T-b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4E59C-EE86-490C-87C6-272F3E48323B}" type="slidenum">
              <a:t>19</a:t>
            </a:fld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Bond and Bond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pital market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lve equity and debt instruments with maturities of more than one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nd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long-term debt obligations issued by corporations and government 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nd market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markets in which bonds are issued and tra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sury notes (T-notes) and bonds (T-bon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nicipal bonds (Mun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porate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3B067-0C1F-468E-8FCE-54F095B99226}" type="slidenum">
              <a:t>2</a:t>
            </a:fld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nternational Bonds and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national bond marke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volve unregistered bonds that are internationally syndicated, offered simultaneously to investors in several countries, and issued outside of the jurisdiction of any single cou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urobon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long-term bonds issued outside the country of the currency in which they are denomin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eign Bond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long-term bonds issued outside of the issuer’s home cou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ady Bond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bonds swapped for an outstanding loan to a less developed cou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vereign Bond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Brady Bonds that have had their underlying collateral removed and the creditworthiness of the country is substituted inst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46044-E0F1-4F64-90FD-2D2F0AE1087B}" type="slidenum">
              <a:t>20</a:t>
            </a:fld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Bond Market Instruments Outstanding, 1994-2007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222200" y="1639800"/>
          <a:ext cx="6653520" cy="443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22200" y="1639800"/>
                    <a:ext cx="6653520" cy="4438800"/>
                  </a:xfrm>
                  <a:prstGeom prst="rect">
                    <a:avLst/>
                  </a:prstGeom>
                  <a:ln w="31680">
                    <a:solidFill>
                      <a:srgbClr val="007fbe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428E3-43ED-439B-A484-48EE2D5BF313}" type="slidenum">
              <a:t>3</a:t>
            </a:fld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Treasury Notes and Bonds 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easury notes and bonds (T-notes and T-bond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issued by the U.S. Treasury to finance the national debt and other government expendi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nnua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deral defic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equal to annual expenditures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less taxes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cei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tional de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the sum of historical annual federal deficit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576680" y="5118120"/>
                <a:ext cx="26337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1D4E9-6E35-46DE-85C9-B2C8E963D86F}" type="slidenum">
              <a:t>4</a:t>
            </a:fld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Treasury Notes and Bonds 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ault risk f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backed by the full faith and credit of the U.S.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w retur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low interest rates (yields to maturity) reflect low default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because of their long maturity, T-notes and T-bonds experience wider price fluctuations than money market securities when interest rates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quidity ri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older issued T-bonds and T-notes trade less frequently than newly issued T-bonds and T-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33C7E-DC4F-4A8F-9927-C5FEDD8D6E18}" type="slidenum">
              <a:t>5</a:t>
            </a:fld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Treasury Notes and Bonds 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-notes have original maturities from over 1 to 1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-bonds have original maturities from over 1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d in minimum denominations (multiples) of 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either fixed principal or inflation-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lation-indexed bonds are call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easury Inflation Protection Securities (TI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incipal value of TIPS is adjusted by the percentage change i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umer Price Index (CPI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very six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e in very active secondary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s are quoted as percentages of face value, in 32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74A30-C4EB-45D2-9D09-318E534C59C7}" type="slidenum">
              <a:t>6</a:t>
            </a:fld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Treasury STRIPS 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parate Trading of Registered Interest and Principal Securities (STRIP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.k.a. Treasury zero bonds or Treasury zero-coupon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ncial institutions and government securities brokers and dealers create STRIPS from T-notes and T-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PS have the periodic interest payments separated from each other and from the principal pa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set of securities reflects interest pay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set of securities reflects principal pay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PS are used to immunize against interest rate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95F9A-FA97-40FB-A616-492DB9B6CC8F}" type="slidenum">
              <a:t>7</a:t>
            </a:fld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Treasury Notes and Bond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” prices are calculated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he present value of the b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he par value of the b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annual interest payment (in dolla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he number of years until the bond m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he number of times per year interest is pa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interest rate used to discount cash flows on the b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536840" y="2486160"/>
                <a:ext cx="541656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VIFA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VI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53CDB-CBD3-43F1-AA58-9DBD70C264CF}" type="slidenum">
              <a:t>8</a:t>
            </a:fld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Treasury Notes and Bond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rued interest on T-notes and T-bonds is calculated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ull (or dirty) price of a T-note or T-bond is the sum of the clean price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nd the accrued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965160" y="3151080"/>
                <a:ext cx="735336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crued interest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tual number of days since last coupon paymen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tual number of days in coupon perio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5FA7E-DC6F-43DA-81D3-96696F861C82}" type="slidenum">
              <a:t>9</a:t>
            </a:fld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1T19:33:32Z</dcterms:created>
  <dc:creator>Joseph Ogden</dc:creator>
  <dc:description/>
  <dc:language>en-US</dc:language>
  <cp:lastModifiedBy>balaji.s</cp:lastModifiedBy>
  <dcterms:modified xsi:type="dcterms:W3CDTF">2008-09-10T09:29:43Z</dcterms:modified>
  <cp:revision>185</cp:revision>
  <dc:subject/>
  <dc:title>FINANCIAL MARKETS AND INSTITIUTIONS: A Modern Perspective</dc:title>
</cp:coreProperties>
</file>