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9DAA2-40AF-48C5-9977-EC9E438059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5B69-A2B4-4551-8699-5F679E97B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A5E06-A287-4160-9C6C-78A504A06E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26D6-12D1-4B28-A51C-3710595D69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D48B-D313-46CC-ACAF-57A8C8C9B3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6B7E-68BF-4823-8D20-7FB511BD2D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81FBA-764A-472D-9342-C332436A2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F38DE-43D0-4DF1-BCC7-C4744BD573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9F11A-E3AD-43DD-AE5E-BC0961FA5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0F24-FB6B-4336-AAE9-E5AF763D4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6956F-D386-4285-A072-4CF3E3A0E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76350-504E-4C75-94FA-E04AA6A4E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-</a:t>
            </a:r>
            <a:fld id="{DFB9022C-64F8-4C96-9B7F-D1596A263BC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Si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9680" y="3429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Bond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59B40-CCD7-43A6-A33D-8052C348B1C6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imary market of T-notes and T-bonds is similar to that of T-bills; the U.S. Treasury sells T-notes and T-bonds through competitive and noncompetitive single-bid a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year notes are auctioned month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 5, and 10-year notes are auctioned quarterly (Feb, May, Aug, and No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-year bonds are auctioned semi-annually (Feb and Au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econdary trading occurs directly through brokers and dea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6FF02-0D99-46C4-A8F2-49204EDD9D80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unicipal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nicipal bonds (Muni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ecurities issued by state and local gover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und imbalances between expenditures and recei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inance long-term capital outl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active to household investors because interest is exempt from federal and most local income ta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neral obligation (GO) bo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backed by the full faith and credit of the issuing municip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venue bo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d to finance specific revenue generating pro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579CA-D04E-4DC7-A868-35C7C7B0E3E1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unicipal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Muni returns with fully taxable corporate bonds by finding the after tax return for corporate bonds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after-tax rate of return on a taxable corporat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before-tax rate of return on a taxabl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rginal total income tax rate of the bond h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ely, convert Muni interest rates to tax equivalent rates of return: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(1 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F2C2-C04B-40E0-8C6D-1B32C6001BC3}" type="slidenum">
              <a:t>12</a:t>
            </a:fld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unicipal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mary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m commitment underwri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 public offering of Munis made through an investment bank, where the investment bank guarantees a price for the newly issued bonds by buying the entire issue and then reselling it to the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st efforts offer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a public offering in which the investment bank does not guarantee a firm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vate placem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bonds are sold on a semi-private basis to qualified investors (generally FI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unis trade infrequently due mainly to a lack of information on bond issu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04C75-7938-4627-BFB9-F9F354525732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rporate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rporate bo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long-term bonds issued by corpo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 inden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gal contract that specifies the rights and obligations of the issuer and the 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ar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iste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r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tgage bon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secured debt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80AF7-32C1-4849-BF52-AB46C772094A}" type="slidenum">
              <a:t>14</a:t>
            </a:fld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rporate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bent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ordinated deben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vertible bon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convertible 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v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ate of return on a convertibl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ncv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rate of return on a nonconvertibl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cv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value of the conversion 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ck warr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ive bondholders the opportunity to purchase common stock at a prespecified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321000" y="3300480"/>
                <a:ext cx="23176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cv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FDBD1-F67D-469E-9540-7B9CD5113CF2}" type="slidenum">
              <a:t>15</a:t>
            </a:fld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rporate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ll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ds versu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on-callab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nc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ate of return on a noncallable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ate of return on a callable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p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value of the call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king fund provi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requirement that the issuer retire a certain amount of the bond issue early as the bonds approach mat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3156120" y="2602080"/>
                <a:ext cx="216504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c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o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v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1ACB-32A0-45A0-8287-F868AC16C48C}" type="slidenum">
              <a:t>16</a:t>
            </a:fld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rporate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mary mark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dentical to that of Mun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hange mark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e.g., NY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-the-counter (OT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 ra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wo major bond rating agencies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ody’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ndard &amp; Poor’s (S&amp;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s are rated 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ceived default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ds may be eith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cul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i.e.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g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8D404-46A7-4CA5-84FB-60028AE49A32}" type="slidenum">
              <a:t>17</a:t>
            </a:fld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ond Market Index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d by major investment ba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 both the monthly capital gain and loss on bonds plus any interest (coupon) income ear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values of bond indexes can be used by bond traders to evaluate changes in the investment attractiveness of bonds of different types and matu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2F19E-E982-4E73-9D96-7BD1A0544227}" type="slidenum">
              <a:t>18</a:t>
            </a:fld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ond Market Participan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jor issuers of debt market securities are federal, state and local governments, and 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jor purchasers of capital market securities are households, businesses, government units, and foreign inv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inesses and financial firms (e.g., banks, insurance companies, and mutual funds) are the major suppliers of funds for Munis and corporate 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 investors and governments are the major suppliers of funds for T-notes and T-b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74C8D-E19B-483F-A771-8CF4E409614D}" type="slidenum">
              <a:t>19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ond and Bond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pital marke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 equity and debt instruments with maturities of more than one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long-term debt obligations issued by corporations and government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nd market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arkets in which bonds are issued and tr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sury notes (T-notes) and bonds (T-bon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nicipal bonds (Mun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orate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6E6C-2111-410A-BD67-D8BCD7D3427E}" type="slidenum">
              <a:t>2</a:t>
            </a:fld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Bonds and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tional bond marke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volve unregistered bonds that are internationally syndicated, offered simultaneously to investors in several countries, and issued outside of the jurisdiction of any single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urobon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long-term bonds issued outside the country of the currency in which they are denomin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eign Bon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long-term bonds issued outside of the issuer’s home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dy Bon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bonds swapped for an outstanding loan to a less developed cou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vereign Bond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Brady Bonds that have had their underlying collateral removed and the creditworthiness of the country is substituted inst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2432-CB2F-401A-8BB6-3933B74D007D}" type="slidenum">
              <a:t>20</a:t>
            </a:fld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ond Market Instruments Outstanding, 1994-2007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22200" y="1639800"/>
          <a:ext cx="6653520" cy="443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22200" y="1639800"/>
                    <a:ext cx="6653520" cy="443880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93EDA-AA71-4E76-8B32-D196F86FCE01}" type="slidenum">
              <a:t>3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easury notes and bonds (T-notes and T-bonds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issued by the U.S. Treasury to finance the national debt and other government expendi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nnual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deral defic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qual to annual expenditure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less taxes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 de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sum of historical annual federal deficit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576680" y="5118120"/>
                <a:ext cx="26337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D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8650-333C-41E5-AA25-9E33842003BC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risk fr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acked by the full faith and credit of the U.S. 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 retur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ow interest rates (yields to maturity) reflect low default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because of their long maturity, T-notes and T-bonds experience wider price fluctuations than money market securities when interest rates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quidity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older issued T-bonds and T-notes trade less frequently than newly issued T-bonds and T-n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53CC-99BD-4B90-BC4E-72E2599796B3}" type="slidenum">
              <a:t>5</a:t>
            </a:fld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notes have original maturities from over 1 to 1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-bonds have original maturities from over 1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d in minimum denominations (multiples) of 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either fixed principal or inflation-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lation-indexed bonds are call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easury Inflation Protection Securities (TI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incipal value of TIPS is adjusted by the percentage change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mer Price Index (CPI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ery six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 in very active secondary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s are quoted as percentages of face value, in 32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2A17-87B8-4778-8EE0-015BAC24A7D7}" type="slidenum">
              <a:t>6</a:t>
            </a:fld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STRIP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parate Trading of Registered Interest and Principal Securities (STRIP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.k.a. Treasury zero bonds or Treasury zero-coupon 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ncial institutions and government securities brokers and dealers create STRIPS from T-notes and T-bo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PS have the periodic interest payments separated from each other and from the principal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et of securities reflects interest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et of securities reflects principal pay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PS are used to immunize against interest rate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917EE-6624-4A85-BB4C-92E9D33AABA7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” prices are calculated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he present value of th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he par value of th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annual interest payment (in dolla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he number of years until the bond m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he number of times per year interest is p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interest rate used to discount cash flows on the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536840" y="2486160"/>
                <a:ext cx="541656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IFA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I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d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6B377-29EF-4D5E-B034-4D8C7C3CB0F1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reasury Notes and Bo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ued interest on T-notes and T-bonds is calculated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ull (or dirty) price of a T-note or T-bond is the sum of the clean price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nd the accrue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965160" y="3151080"/>
                <a:ext cx="735336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crued interest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tual number of days since last coupon paymen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tual number of days in coupon perio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B8251-CDED-4105-9CCC-6A2EBAB6CB00}" type="slidenum">
              <a:t>9</a:t>
            </a:fld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9-10T09:29:43Z</dcterms:modified>
  <cp:revision>185</cp:revision>
  <dc:subject/>
  <dc:title>FINANCIAL MARKETS AND INSTITIUTIONS: A Modern Perspective</dc:title>
</cp:coreProperties>
</file>