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4C74-7BC0-43B3-8468-3A8EE34F6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2E97-6922-40E7-A0C2-4C04C1833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3467-DD50-4273-8F0B-4ADF6E5FF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C6B4-ECE3-43A2-ADAF-48ADC1475B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5406-C67B-4AE2-BE94-DA0AB5E27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1A25-D5FC-4A38-AC78-147D173A9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06FB-150E-41E9-A61D-361557E15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FB9D-CBC0-4BE7-8544-ADCE52183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4707-897A-499E-95F5-BA5324683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A2AD-B43F-427D-BA4D-50497256D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41D5-115C-47C3-83AA-E888611C0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C15A-0D4F-4D39-A518-53B8731C0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11123465-BAE9-4EE0-ACA6-7A41C5EDEB1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e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ortgage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8BE7-6A6E-4FF6-BEE3-5F6DEAD30B5C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Amortization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ixed monthly payment consists partly of repayment of the principal and partly of the interest on the outstanding mortgag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ortization sched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ws how the fixed monthly payments are split between principal a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FF0B-6ED3-4DC9-ADA0-E69D3E635413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Payment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value of a mortg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incipal amount borr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nthly mortgage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VI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esent value interest factor of an ann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nthly interest rate on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monthly payments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rrange to isol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495440" y="2413080"/>
                <a:ext cx="47800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MT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MT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A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424480" y="5118120"/>
                <a:ext cx="2297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VIFA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57B8-8905-4727-BA80-01FC7DE1FCD4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ther Types of Mortgage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rate-reduction mortg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d-payment mortgages (GP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ing-equity mortgages (G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mortgages and home equity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-appreciation mortgages (S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-participation mortgages (EP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-annuity mortgages (R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049E-F61D-4F3D-BA7C-BC432DB2EBE5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Mortgage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 remove mortgages from their balance sheets through one of two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ooling recently originated mortgages together and selling them in the secondar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zing mortg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, by issuing securities backed by newly originated mortg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secur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can reduce the liquidity risk, interest rate risk, and credit risk of their loan portfo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generate income from origination and service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33AC-6141-4D24-94F7-E94B279C76CD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Mortgage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government establish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National Mortgage Association (FNMA or Fannie Ma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1930s to buy mortgages from thrifts so they could make more mortgage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A and VA insured loans make securitization eas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National Mortgage Association (GNMA or “Ginnie Mae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Home Loan Mortgage Corp. (FHLMC or “Freddie Mac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the 196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ed continued expansion of the housing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direct and indirect guarantees that allow for the creation of mortgage-backed sec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9255-034C-45BE-8525-65124E3D4F50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Sal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have sold mortgages among themselves for over 1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par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spondent ba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small banks selling parts of large loans to larg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often sell parts of their loans (i.e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small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 when an FI originates a mortgage and sells it to an outside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an sale is ma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re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the loan buyer can sell the loan back to the originator should it go 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CC70-E215-4A08-8D88-4BF6175A6CF7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Sal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sel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oney center banks, smaller banks, foreign banks, investment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 sales allow FIs to manage credit risk, achieve better asset diversification, and improve their liquidity and interest rate risk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are encouraged to sell loans for economic and regulatory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 mortgages can still generate fee income for th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 mortgages reduce the cost of reserve and capit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buy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eign and domestic banks, insurance companies, pension funds, closed-end bank loan mutual funds, and nonfinanci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E783-30D3-4C65-9566-29B051CB2CA4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Backed Secur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-through secu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pass through” promised principal and interest payments to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gencies are directly involved in the creation of pass-through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nnie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nnie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ddi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mortgage pass-through issu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pass-throughs from nonconforming mort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F8FE-18F5-4429-9F48-91EBCDAAA0D4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Backed Secur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teralized mortgage obligations (CMO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ulticlass pass-throughs with multiple bond holder classes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ond holder class has a different guaranteed coup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 prepayments retire only one tranche at a time, so all other trances are sequentially prepayment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backed bonds (MB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Bs allow FIs to raise long-term low-cost funds without removing mortgages from their balance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roup of mortgage assets is pledged as collateral against a MBB issue, but there is no direct link between the cash flows of the mortgages and the cash flows on the MB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AE56-3260-4E25-8F2D-791601935CF0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rtgages Outstanding by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ype of Holder (%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1360" y="1928880"/>
          <a:ext cx="773568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360" y="1928880"/>
                    <a:ext cx="7735680" cy="442116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EC3F-705A-452C-B2C8-E5426550D98F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rtgages and Mortgage-Backed Securitie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loans to individuals or businesses to purchase homes, land, or other re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mortgag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s are packaged and sold as assets backing publicly traded or privately held debt instruments (i.e.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tgage-backed securities (MB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 differ from bonds and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s are backed by a specific piece of re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mortgages have no set size or deno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mortgages generally involve only a single inve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tively little information exists on mortgage borr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6B18-FD80-401A-ACA4-91AC30170981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Trends in Securitiz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investors participate in U.S. mortgage and MBS markets, but the value held has decreased since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 is the world’s second largest and most developed securitizatio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nited Kingdom is the biggest MBS issuer in the European market, followed by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dvent of the Euro has accentuated the increased trend in securitization i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 lending has grown in Russia since the early 2000s because of changes in property ownership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DA08-D973-47B6-ADAB-0BEE667C8199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Mortgage Market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basic types of mortgages are issued by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s are used to purchase one- to four-family dwe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family dwellings mortgages are used to purchase apartment complexes, townhouses, and condomin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mortgages are used to finance the purchase of real estate for business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m mortgages are used to finance the purchase of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B013-1EE5-4539-BF8F-3983CB96AEF4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Loans Outstanding,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007 (Trillions of $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1981080"/>
          <a:ext cx="72007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981080"/>
                    <a:ext cx="7200720" cy="411480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352B-91A7-4F78-BC30-B8F093A907DD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t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enders pl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e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properties that remain in place until loans are fully pai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 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ortion of the purchase price of the property a financial institution requires the borrower to pay up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mortgage insurance (PMI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generally required when the loan-to-value ratio is more than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insu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ayment is guaranteed by eithe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Housing Administration (FHA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terans Administration (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E3BF-F276-4A29-96FB-EAF469FFE3DA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ntional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ortgages that are not federally in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rtized mortg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fixed principal and interest payments that fully pay off the mortgage by its maturity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mortized mortgage maturities are usually either 15 or 3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lloon payment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quire fixed monthly interest payments for 3 to 5 years whereupon full payment of the mortgage principal is d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E142-34B5-47DB-8598-DB9D2576EE59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ed-rate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 in the borrower’s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monthly payments are fixed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ders assume interest rat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ustable-rate mortgages (ARM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the borrower’s interest rate to some market interest rate or interest rat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monthly payments can change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ly interest rate changes are often ca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rowers assume interest rat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s can increase defaul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AB2E-E011-45F5-A304-5C7CAF5D32DC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ount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ees or payments made when a mortgage loan is 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oint costs the borrower 1 percent of the princip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nder reduces the interest rate used to determine the payments on the mortgage in exchange for points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aisal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 origination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ing agent and review 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fees (e.g., VA or FHA loan guarantees and P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A573-780A-471D-B761-CD779399DACD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tgage refin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borrower takes out a new mortgage and uses the proceeds to pay off an existing mortg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 are most often refinanced when an existing mortgage has a higher interest rate than prevailing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s must balance the savings of a lower monthly payment with the costs (fees) of re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ften-cited rule of thumb is that the new interest rate should be 2 percentage points less than the refinanced mortga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093E-0C61-4D69-96AB-9FAE1650DB68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0:49Z</dcterms:modified>
  <cp:revision>186</cp:revision>
  <dc:subject/>
  <dc:title>FINANCIAL MARKETS AND INSTITIUTIONS: A Modern Perspective</dc:title>
</cp:coreProperties>
</file>