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EC371-0B04-45FD-B5FC-2930DB0430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0C784-E099-4888-9173-41E6FBF5CA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CDA47-DFE2-4242-9595-3B1245D85D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8E906-287F-4545-886D-D092AF0B55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2F022-D3AA-41A0-9A50-7CA17AA9FC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9C208-6E36-40AF-B5D1-B6A0502834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ED771-448A-4F1B-BA99-B792AA8CB3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9EB83-59DE-4454-A55E-467CF8DEAD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AB2BE-703A-49A9-B765-9FBADE8653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BA85F-E98C-4C94-82D8-0FCFF1C6EB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48775-2ADC-4EFF-985B-6836CA5085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96478-1E58-4259-9ECF-00E1FCB4E7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-</a:t>
            </a:r>
            <a:fld id="{8B70C5F6-63D8-454E-8017-AD6E21157282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2009, The McGraw-Hill Companies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0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90600" y="2286000"/>
            <a:ext cx="563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rial"/>
              </a:rPr>
              <a:t>Chapter Seve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342900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Mortgage Mar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3276720"/>
            <a:ext cx="6400800" cy="0"/>
          </a:xfrm>
          <a:prstGeom prst="line">
            <a:avLst/>
          </a:prstGeom>
          <a:ln w="12600">
            <a:solidFill>
              <a:srgbClr val="fee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477120" y="3657600"/>
            <a:ext cx="2068560" cy="272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B2A77-15EE-40CC-83D6-56C3CBF97FC1}" type="slidenum">
              <a:t>1</a:t>
            </a:fld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rtgage Amortization 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fixed monthly payment consists partly of repayment of the principal and partly of the interest on the outstanding mortgage 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ortization schedu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hows how the fixed monthly payments are split between principal and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737EC-D78B-436D-AAA8-16D073B6811A}" type="slidenum">
              <a:t>10</a:t>
            </a:fld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rtgage Payments 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ent value of a mortg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written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principal amount borrow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M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monthly mortgage pa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VIF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present value interest factor of an annu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monthly interest rate on the mortg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number of monthly payments over the life of the mortg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rrange to isolate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495440" y="2413080"/>
                <a:ext cx="478008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MT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MT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VIFA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424480" y="5118120"/>
                <a:ext cx="22971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M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VIFA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F9ADD-A787-4946-A7E0-64F6789B130D}" type="slidenum">
              <a:t>11</a:t>
            </a:fld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Other Types of Mortgages 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rate-reduction mortgag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duated-payment mortgages (GP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wing-equity mortgages (GE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mortgages and home equity lo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ed-appreciation mortgages (SA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ty-participation mortgages (EP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rse-annuity mortgages (RA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15107-A6B7-4AB5-A724-5725BD6B6B1A}" type="slidenum">
              <a:t>12</a:t>
            </a:fld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econdary Mortgage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s remove mortgages from their balance sheets through one of two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pooling recently originated mortgages together and selling them in the secondary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ritizing mortgag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, by issuing securities backed by newly originated mortgag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tages of securit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 can reduce the liquidity risk, interest rate risk, and credit risk of their loan portfol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 generate income from origination and service f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0632D-A478-4D14-B7BB-59086EF03477}" type="slidenum">
              <a:t>13</a:t>
            </a:fld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econdary Mortgage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.S. government established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deral National Mortgage Association (FNMA or Fannie Ma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1930s to buy mortgages from thrifts so they could make more mortgage lo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HA and VA insured loans make securitization easi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vernment National Mortgage Association (GNMA or “Ginnie Mae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deral Home Loan Mortgage Corp. (FHLMC or “Freddie Mac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reated in the 1960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ouraged continued expansion of the housing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d direct and indirect guarantees that allow for the creation of mortgage-backed secur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733AC-4BAE-4DC9-A56E-898985AC0D87}" type="slidenum">
              <a:t>14</a:t>
            </a:fld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rtgage Sale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 have sold mortgages among themselves for over 10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arge part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rrespondent bank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volves small banks selling parts of large loans to larger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banks often sell parts of their loans (i.e.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ticip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o smaller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tgage sa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ccur when an FI originates a mortgage and sells it to an outside 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oan sale is mad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th recour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the loan buyer can sell the loan back to the originator should it go b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10AC5-93B7-43DB-847D-74A284CE57A1}" type="slidenum">
              <a:t>15</a:t>
            </a:fld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rtgage Sale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tgage sell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money center banks, smaller banks, foreign banks, investment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tgage sales allow FIs to manage credit risk, achieve better asset diversification, and improve their liquidity and interest rate risk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 are encouraged to sell loans for economic and regulatory rea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d mortgages can still generate fee income for the b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d mortgages reduce the cost of reserve and capital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tgage buy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foreign and domestic banks, insurance companies, pension funds, closed-end bank loan mutual funds, and nonfinancial corpo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7B729-9253-41CC-9325-1C279F258005}" type="slidenum">
              <a:t>16</a:t>
            </a:fld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rtgage Backed Securitie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ss-through securit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“pass through” promised principal and interest payments to inves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agencies are directly involved in the creation of pass-through secur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innie M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nnie M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eddie 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vate mortgage pass-through issuer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pass-throughs from nonconforming mortg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24971-101A-4B60-8CA6-0F9C01D56CA7}" type="slidenum">
              <a:t>17</a:t>
            </a:fld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rtgage Backed Securitie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llateralized mortgage obligations (CMO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multiclass pass-throughs with multiple bond holder classes 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bond holder class has a different guaranteed coup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tgage prepayments retire only one tranche at a time, so all other trances are sequentially prepayment prot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tgage backed bonds (MBB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BBs allow FIs to raise long-term low-cost funds without removing mortgages from their balance she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group of mortgage assets is pledged as collateral against a MBB issue, but there is no direct link between the cash flows of the mortgages and the cash flows on the MB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67CA1-6622-4F9B-B990-4333B862DD11}" type="slidenum">
              <a:t>18</a:t>
            </a:fld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Mortgages Outstanding by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Type of Holder (%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11360" y="1928880"/>
          <a:ext cx="7735680" cy="442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1360" y="1928880"/>
                    <a:ext cx="7735680" cy="4421160"/>
                  </a:xfrm>
                  <a:prstGeom prst="rect">
                    <a:avLst/>
                  </a:prstGeom>
                  <a:ln w="31680">
                    <a:solidFill>
                      <a:srgbClr val="007fbe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8A253-86F3-4BC1-99FC-3990A7EA71FA}" type="slidenum">
              <a:t>19</a:t>
            </a:fld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Mortgages and Mortgage-Backed Securities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tg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loans to individuals or businesses to purchase homes, land, or other real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mortgages a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rit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tgages are packaged and sold as assets backing publicly traded or privately held debt instruments (i.e.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rtgage-backed securities (MBS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tgages differ from bonds and st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tgages are backed by a specific piece of real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mary mortgages have no set size or deno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mary mortgages generally involve only a single inve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atively little information exists on mortgage borrow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B6E3E-43FA-477D-B452-95A537EC28F0}" type="slidenum">
              <a:t>2</a:t>
            </a:fld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nternational Trends in Securitization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ign investors participate in U.S. mortgage and MBS markets, but the value held has decreased since 19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 is the world’s second largest and most developed securitization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United Kingdom is the biggest MBS issuer in the European market, followed by Germ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dvent of the Euro has accentuated the increased trend in securitization in Eur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tgage lending has grown in Russia since the early 2000s because of changes in property ownership l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48E25-6D40-49B3-A476-00658C7D66E6}" type="slidenum">
              <a:t>20</a:t>
            </a:fld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imary Mortgage Market 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basic types of mortgages are issued by financial instit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 mortgages are used to purchase one- to four-family dwell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family dwellings mortgages are used to purchase apartment complexes, townhouses, and condomini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mortgages are used to finance the purchase of real estate for business purp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rm mortgages are used to finance the purchase of f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0203B-66F8-46DB-8BF3-F18EC44FA337}" type="slidenum">
              <a:t>3</a:t>
            </a:fld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rtgage Loans Outstanding, </a:t>
            </a: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2007 (Trillions of $)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971640" y="1981080"/>
          <a:ext cx="720072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1981080"/>
                    <a:ext cx="7200720" cy="4114800"/>
                  </a:xfrm>
                  <a:prstGeom prst="rect">
                    <a:avLst/>
                  </a:prstGeom>
                  <a:ln w="31680">
                    <a:solidFill>
                      <a:srgbClr val="007fbe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A28AB-E57D-433E-B9AC-9E89C7DBF645}" type="slidenum">
              <a:t>4</a:t>
            </a:fld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rtgage Characteristics 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llater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lenders plac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e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st properties that remain in place until loans are fully paid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n pay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portion of the purchase price of the property a financial institution requires the borrower to pay up 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vate mortgage insurance (PMI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generally required when the loan-to-value ratio is more than 8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derally insur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tg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ayment is guaranteed by either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deral Housing Administration (FHA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terans Administration (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5B9DD-7B14-4E47-B827-5EBAB11C9A52}" type="slidenum">
              <a:t>5</a:t>
            </a:fld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rtgage Characteristics 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ventional mortg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mortgages that are not federally ins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ortized mortgag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fixed principal and interest payments that fully pay off the mortgage by its maturity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lly amortized mortgage maturities are usually either 15 or 30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lloon payment mortg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quire fixed monthly interest payments for 3 to 5 years whereupon full payment of the mortgage principal is d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010CC-D161-4788-9DAB-CCC31F940571}" type="slidenum">
              <a:t>6</a:t>
            </a:fld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rtgage Characteristics 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xed-rate mortg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ck in the borrower’s interest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d monthly payments are fixed over the life of the mortg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nders assume interest rate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justable-rate mortgages (ARM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 the borrower’s interest rate to some market interest rate or interest rate 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d monthly payments can change over the life of the mortg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arly interest rate changes are often cap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rrowers assume interest rate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Ms can increase default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25EE9-E427-4441-BFB8-9373E3E2792B}" type="slidenum">
              <a:t>7</a:t>
            </a:fld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rtgage Characteristics 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count poi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ees or payments made when a mortgage loan is iss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oint costs the borrower 1 percent of the principal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lender reduces the interest rate used to determine the payments on the mortgage in exchange for points pa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 f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f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tle 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tle insu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aisal f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an origination f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ing agent and review f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fees (e.g., VA or FHA loan guarantees and PM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91535-1342-41D8-AADF-1463A16F0DA6}" type="slidenum">
              <a:t>8</a:t>
            </a:fld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rtgage Characteristics 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rtgage refinan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borrower takes out a new mortgage and uses the proceeds to pay off an existing mortg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tgages are most often refinanced when an existing mortgage has a higher interest rate than prevailing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rowers must balance the savings of a lower monthly payment with the costs (fees) of refina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ften-cited rule of thumb is that the new interest rate should be 2 percentage points less than the refinanced mortgage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90DB4-3981-45FB-BF67-69FDDB331F7B}" type="slidenum">
              <a:t>9</a:t>
            </a:fld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1T19:33:32Z</dcterms:created>
  <dc:creator>Joseph Ogden</dc:creator>
  <dc:description/>
  <dc:language>en-US</dc:language>
  <cp:lastModifiedBy>balaji.s</cp:lastModifiedBy>
  <dcterms:modified xsi:type="dcterms:W3CDTF">2008-09-10T09:30:49Z</dcterms:modified>
  <cp:revision>186</cp:revision>
  <dc:subject/>
  <dc:title>FINANCIAL MARKETS AND INSTITIUTIONS: A Modern Perspective</dc:title>
</cp:coreProperties>
</file>