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2145-E970-48FE-97E6-0A86BE02C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351F-6F2D-4504-8849-2E9AB9665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924A-3B74-4A3E-8F12-A3E067ED7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392C-A771-48A5-A77A-DD99E68B70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7C00-4B41-4E3B-9C33-32A05792EB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D801-1B9C-4AC4-8234-27CEA630E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7056-735D-4A2E-8B56-5C459235D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3FBB-3AEB-49A0-A32E-B033CCD4B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2250-35F9-4566-A549-D46843088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927A-3A99-4811-9109-C5B8C8955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C294-1046-4331-9C5C-9350BDB72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B239-907B-4CC4-B01B-A17CCD514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453DB405-9F09-4998-8770-4075EE42FC5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Sev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Mortgage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D084-A419-492B-B46F-B8519D3E4AC3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Amortization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fixed monthly payment consists partly of repayment of the principal and partly of the interest on the outstanding mortgag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ortization schedu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ows how the fixed monthly payments are split between principal a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6C0C-3D6A-4AA7-AF3F-0589CBE91A12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Payment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 value of a mortg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rincipal amount borr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M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onthly mortgage 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VIF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resent value interest factor of an ann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onthly interest rate on the mortg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umber of monthly payments over the life of the mortg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rrange to isolat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495440" y="2413080"/>
                <a:ext cx="47800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MT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MT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IFA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424480" y="5118120"/>
                <a:ext cx="22971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VIFA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BB6F-82AC-4218-8657-0DD3A36D59D8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ther Types of Mortgage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rate-reduction mortg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uated-payment mortgages (GP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ing-equity mortgages (G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mortgages and home equity 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-appreciation mortgages (SA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ty-participation mortgages (EP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e-annuity mortgages (RA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3725-2BDC-4771-BEAA-8B5857B6A46E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ondary Mortgage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 remove mortgages from their balance sheets through one of two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ooling recently originated mortgages together and selling them in the secondar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izing mortga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, by issuing securities backed by newly originated mortg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of securi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 can reduce the liquidity risk, interest rate risk, and credit risk of their loan portfol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 generate income from origination and service f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FCC5-649C-4CE8-AC83-417F08157BD3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ondary Mortgage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.S. government establish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 National Mortgage Association (FNMA or Fannie Ma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1930s to buy mortgages from thrifts so they could make more mortgage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HA and VA insured loans make securitization eas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National Mortgage Association (GNMA or “Ginnie Mae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 Home Loan Mortgage Corp. (FHLMC or “Freddie Mac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d in the 1960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uraged continued expansion of the housing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d direct and indirect guarantees that allow for the creation of mortgage-backed secu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C3DB-816C-4BD7-BF5A-520B34251758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Sal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 have sold mortgages among themselves for over 1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rge par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espondent ban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small banks selling parts of large loans to larger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banks often sell parts of their loans (i.e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smaller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 s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 when an FI originates a mortgage and sells it to an outside 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an sale is mad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th re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the loan buyer can sell the loan back to the originator should it go 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9804-61DD-4531-8D92-479B6BDEF4FA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Sal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 sell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oney center banks, smaller banks, foreign banks, investment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 sales allow FIs to manage credit risk, achieve better asset diversification, and improve their liquidity and interest rate risk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 are encouraged to sell loans for economic and regulatory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d mortgages can still generate fee income for the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d mortgages reduce the cost of reserve and capit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 buy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eign and domestic banks, insurance companies, pension funds, closed-end bank loan mutual funds, and nonfinanci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587B-C4AF-4EBA-887B-B22269B90FCC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Backed Secur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-through secur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pass through” promised principal and interest payments to inve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agencies are directly involved in the creation of pass-through sec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nnie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nnie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ddie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vate mortgage pass-through issu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pass-throughs from nonconforming mortg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F918-F1E1-4DAC-BA49-D7FD2CC747F7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Backed Secur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ateralized mortgage obligations (CMO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multiclass pass-throughs with multiple bond holder classes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bond holder class has a different guaranteed coup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gage prepayments retire only one tranche at a time, so all other trances are sequentially prepayment 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 backed bonds (MB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BBs allow FIs to raise long-term low-cost funds without removing mortgages from their balance 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roup of mortgage assets is pledged as collateral against a MBB issue, but there is no direct link between the cash flows of the mortgages and the cash flows on the MB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5E27-4CC2-4B40-8A02-B6E3151311E9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ortgages Outstanding by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ype of Holder (%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11360" y="1928880"/>
          <a:ext cx="773568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1360" y="1928880"/>
                    <a:ext cx="7735680" cy="442116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1785-694A-48AB-B439-A634EAE985BF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ortgages and Mortgage-Backed Securitie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loans to individuals or businesses to purchase homes, land, or other re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mortgage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gages are packaged and sold as assets backing publicly traded or privately held debt instruments (i.e.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rtgage-backed securities (MBS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s differ from bonds and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gages are backed by a specific piece of real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mortgages have no set size or deno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mortgages generally involve only a single inve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atively little information exists on mortgage borro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6342-BF03-484F-908E-5DED488D59E1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Trends in Securitiz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investors participate in U.S. mortgage and MBS markets, but the value held has decreased since 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 is the world’s second largest and most developed securitization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nited Kingdom is the biggest MBS issuer in the European market, followed by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dvent of the Euro has accentuated the increased trend in securitization in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 lending has grown in Russia since the early 2000s because of changes in property ownership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5E9F-E5DC-4F7E-93CD-831E88E31CDE}" type="slidenum">
              <a:t>20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Mortgage Market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basic types of mortgages are issued by financi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mortgages are used to purchase one- to four-family dwel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family dwellings mortgages are used to purchase apartment complexes, townhouses, and condomini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mortgages are used to finance the purchase of real estate for business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m mortgages are used to finance the purchase of 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D034-F42F-4EEE-A86C-97026FE1D8B4}" type="slidenum">
              <a:t>3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Loans Outstanding,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007 (Trillions of $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71640" y="1981080"/>
          <a:ext cx="72007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981080"/>
                    <a:ext cx="7200720" cy="411480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4B76-13D5-4F95-981A-CD8B5E76DC28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at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enders pla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e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properties that remain in place until loans are fully pai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 pay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ortion of the purchase price of the property a financial institution requires the borrower to pay up 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ate mortgage insurance (PMI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generally required when the loan-to-value ratio is more than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ly insur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ayment is guaranteed by either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Housing Administration (FHA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terans Administration (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74C1-6C82-4D00-A0C9-0C082AEEAA13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ntional mortg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mortgages that are not federally in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rtized mortga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fixed principal and interest payments that fully pay off the mortgage by its maturity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amortized mortgage maturities are usually either 15 or 30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lloon payment mortg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quire fixed monthly interest payments for 3 to 5 years whereupon full payment of the mortgage principal is d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E414-906A-4252-83B2-417253880BDE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xed-rate mortg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k in the borrower’s interes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monthly payments are fixed over the life of the mortg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ders assume interest rat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ustable-rate mortgages (ARM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the borrower’s interest rate to some market interest rate or interest rate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monthly payments can change over the life of the mortg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ly interest rate changes are often ca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rowers assume interest rat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s can increase defaul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0682-A1F1-4A92-89D5-B5560C24E624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ount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ees or payments made when a mortgage loan is iss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oint costs the borrower 1 percent of the principal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ender reduces the interest rate used to determine the payments on the mortgage in exchange for points 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f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tle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tle 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aisal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n origination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ing agent and review f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fees (e.g., VA or FHA loan guarantees and P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A4BC-3445-4309-AF9D-5873F4DD0A43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tgage refina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borrower takes out a new mortgage and uses the proceeds to pay off an existing mortg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s are most often refinanced when an existing mortgage has a higher interest rate than prevailing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rs must balance the savings of a lower monthly payment with the costs (fees) of re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ften-cited rule of thumb is that the new interest rate should be 2 percentage points less than the refinanced mortga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DA36-2571-47E0-8B78-F35EB70108B8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30:49Z</dcterms:modified>
  <cp:revision>186</cp:revision>
  <dc:subject/>
  <dc:title>FINANCIAL MARKETS AND INSTITIUTIONS: A Modern Perspective</dc:title>
</cp:coreProperties>
</file>