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38711-3B06-48C8-97A2-D402ED80B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EDF17-AA11-4C41-B1FB-9FF7A0804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95C07-2C90-4E40-BD1D-2BAC9EF00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A545-3385-4448-8321-5196A61924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BB33D-7DD6-4DE1-84B5-E56751CA91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02A11-6349-4897-AC41-A2813199C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1FDE-2746-4EB1-BB7E-837739F437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2DE3-DB02-4F06-A92C-B11E9D885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F143-87CC-4BEF-938E-9E1B78288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AE98-5F54-4ABE-A563-1E2E59F67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D0B3C-295C-4D7B-91FB-9EA93EDECA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5567-2895-4F07-814C-CBAF12F0B1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733920" y="647712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7-</a:t>
            </a:r>
            <a:fld id="{73AAC658-F595-4E5F-9E0F-841269E0F203}" type="slidenum"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240" y="65336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&lt;footer&gt;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5680" y="6553080"/>
            <a:ext cx="4648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2009, The McGraw-Hill Companie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eedca"/>
              </a:gs>
              <a:gs pos="100000">
                <a:srgbClr val="0070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90600" y="22860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Arial"/>
              </a:rPr>
              <a:t>Chapter Sev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3429000"/>
            <a:ext cx="670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Mortgage Mar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3276720"/>
            <a:ext cx="6400800" cy="0"/>
          </a:xfrm>
          <a:prstGeom prst="line">
            <a:avLst/>
          </a:prstGeom>
          <a:ln w="12600">
            <a:solidFill>
              <a:srgbClr val="feed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477120" y="3657600"/>
            <a:ext cx="206856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BC06-0B66-4E4D-8918-061A660E7A60}" type="slidenum">
              <a:t>1</a:t>
            </a:fld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Amortization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fixed monthly payment consists partly of repayment of the principal and partly of the interest on the outstanding mortgage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ortization sched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ows how the fixed monthly payments are split between principal and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9A49-8E64-48F9-A5E7-4966F2B0EEBE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Payment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sent value of a mortg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written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incipal amount borrow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M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mortgage pa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VIF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esent value interest factor of an ann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nthly interest rate on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monthly payments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rrange to isolat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495440" y="2413080"/>
                <a:ext cx="47800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1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r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VIFA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424480" y="5118120"/>
                <a:ext cx="22971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MT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VIFA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,</m:t>
                            </m:r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2F83-A77B-4B77-8C9E-B84655CDC06F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Other Types of Mortgage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ate-reduction mortg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d-payment mortgages (G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wing-equity mortgages (G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mortgages and home equity lo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-appreciation mortgages (S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ty-participation mortgages (EP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e-annuity mortgages (RA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2391-B5BB-4E0D-BD98-296EE7004D31}" type="slidenum">
              <a:t>12</a:t>
            </a:fld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 remove mortgages from their balance sheets through one of two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ooling recently originated mortgages together and selling them in the secondary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ing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, by issuing securities backed by newly originated mortgag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securi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can reduce the liquidity risk, interest rate risk, and credit risk of their loan portfol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generate income from origination and service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0B03-14A1-4E9B-A78F-F5078B40CBA5}" type="slidenum">
              <a:t>13</a:t>
            </a:fld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Secondary Mortgage Market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.S. government establishe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National Mortgage Association (FNMA or Fannie Ma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1930s to buy mortgages from thrifts so they could make more mortgage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HA and VA insured loans make securitization eas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ment National Mortgage Association (GNMA or “Ginnie Mae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 Home Loan Mortgage Corp. (FHLMC or “Freddie Mac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d in the 1960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uraged continued expansion of the housing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direct and indirect guarantees that allow for the creation of mortgage-backed secur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D6A5D-A8B0-4A1B-A05E-834503570EC8}" type="slidenum">
              <a:t>14</a:t>
            </a:fld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have sold mortgages among themselves for over 1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arge part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respondent ban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volves small banks selling parts of large loans to larg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banks often sell parts of their loans (i.e.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rticip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to smaller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a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cur when an FI originates a mortgage and sells it to an outside bu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oan sale is mad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th recour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the loan buyer can sell the loan back to the originator should it go b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147F1-5C8F-4434-BDDE-1507E765AF69}" type="slidenum">
              <a:t>15</a:t>
            </a:fld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Sal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sell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money center banks, smaller banks, foreign banks, investment ba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sales allow FIs to manage credit risk, achieve better asset diversification, and improve their liquidity and interest rate risk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 are encouraged to sell loans for economic and regulatory reas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can still generate fee income for the b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d mortgages reduce the cost of reserve and capit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uy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foreign and domestic banks, insurance companies, pension funds, closed-end bank loan mutual funds, and nonfinanci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9A7A8-462E-43AF-BCA6-1EDFBFF43022}" type="slidenum">
              <a:t>16</a:t>
            </a:fld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s-through securiti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“pass through” promised principal and interest payments to inves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gencies are directly involved in the creation of pass-through secur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nnie M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eddie 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ivate mortgage pass-through issuer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pass-throughs from nonconforming mort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F2A4-6868-491D-9344-B26CBE5D146B}" type="slidenum">
              <a:t>17</a:t>
            </a:fld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Backed Securities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ized mortgage obligations (CMO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ulticlass pass-throughs with multiple bond holder classes 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ond holder class has a different guaranteed coup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 prepayments retire only one tranche at a time, so all other trances are sequentially prepayment prot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 backed bonds (MBB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BBs allow FIs to raise long-term low-cost funds without removing mortgages from their balance she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roup of mortgage assets is pledged as collateral against a MBB issue, but there is no direct link between the cash flows of the mortgages and the cash flows on the MB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8708C-408B-4BEA-B08E-2583964907A4}" type="slidenum">
              <a:t>18</a:t>
            </a:fld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Outstanding by </a:t>
            </a:r>
            <a:br>
              <a:rPr sz="3200"/>
            </a:b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Type of Holder (%)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711360" y="1928880"/>
          <a:ext cx="7735680" cy="4421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1360" y="1928880"/>
                    <a:ext cx="7735680" cy="442116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E17A-A348-4196-B154-6F949D2BAA66}" type="slidenum">
              <a:t>19</a:t>
            </a:fld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Mortgages and Mortgage-Backed Securities</a:t>
            </a:r>
            <a:endParaRPr b="0" lang="en-US" sz="32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loans to individuals or businesses to purchase homes, land, or other re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mortgage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urit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packaged and sold as assets backing publicly traded or privately held debt instruments (i.e.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rtgage-backed securities (MBSs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differ from bonds and st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tgages are backed by a specific piece of real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have no set size or denom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mortgages generally involve only a single inve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tively little information exists on mortgage borro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2855-9F31-4298-89E5-A6AEBD2473B5}" type="slidenum">
              <a:t>2</a:t>
            </a:fld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International Trends in Securitization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investors participate in U.S. mortgage and MBS markets, but the value held has decreased since 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 is the world’s second largest and most developed securitizatio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United Kingdom is the biggest MBS issuer in the European market, followed by Germ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dvent of the Euro has accentuated the increased trend in securitization in Eur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 lending has grown in Russia since the early 2000s because of changes in property ownership la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7D87D-F513-49A5-A7CA-7F2C3A404AC8}" type="slidenum">
              <a:t>20</a:t>
            </a:fld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imary Mortgage Market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basic types of mortgages are issued by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me mortgages are used to purchase one- to four-family dwel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family dwellings mortgages are used to purchase apartment complexes, townhouses, and condomini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mortgages are used to finance the purchase of real estate for business purp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m mortgages are used to finance the purchase of f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F4D3-CF5F-45BF-9520-EB924A2720B7}" type="slidenum">
              <a:t>3</a:t>
            </a:fld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Loans Outstanding, 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2007 (Trillions of $)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1981080"/>
          <a:ext cx="720072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1080"/>
                    <a:ext cx="7200720" cy="4114800"/>
                  </a:xfrm>
                  <a:prstGeom prst="rect">
                    <a:avLst/>
                  </a:prstGeom>
                  <a:ln w="31680">
                    <a:solidFill>
                      <a:srgbClr val="007fbe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B976-5BF0-48C4-BD32-413746D1D47D}" type="slidenum">
              <a:t>4</a:t>
            </a:fld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ater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enders plac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st properties that remain in place until loans are fully pai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 pay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portion of the purchase price of the property a financial institution requires the borrower to pay up 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vate mortgage insurance (PMI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generally required when the loan-to-value ratio is more than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derally insur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is guaranteed by eithe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deral Housing Administration (FHA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terans Administration (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A1C7-31ED-4823-B717-957B44C6FF3F}" type="slidenum">
              <a:t>5</a:t>
            </a:fld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ventional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mortgages that are not federally in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ortized mortgag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fixed principal and interest payments that fully pay off the mortgage by its maturity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mortized mortgage maturities are usually either 15 or 3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lloon payment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quire fixed monthly interest payments for 3 to 5 years whereupon full payment of the mortgage principal is d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2414-F7B4-4BCC-B282-263C99ED4556}" type="slidenum">
              <a:t>6</a:t>
            </a:fld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xed-rate mortgag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k in the borrower’s interes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are fixed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nd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justable-rate mortgages (ARM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e the borrower’s interest rate to some market interest rate or interest rate 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d monthly payments can change over the life of the mortg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early interest rate changes are often c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rrowers assume interest rate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s can increase default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1FA37-980C-43EF-8080-8FB8956D5DBF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ount poi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ees or payments made when a mortgage loan is iss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oint costs the borrower 1 percent of the principal val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ender reduces the interest rate used to determine the payments on the mortgage in exchange for points pa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f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tle insu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raisal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origination f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ing agent and review 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fees (e.g., VA or FHA loan guarantees and P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6F6B-6DB4-4000-9C26-6CBC83C71AD1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gradFill rotWithShape="0">
            <a:gsLst>
              <a:gs pos="0">
                <a:srgbClr val="007fbe"/>
              </a:gs>
              <a:gs pos="100000">
                <a:srgbClr val="feedca"/>
              </a:gs>
            </a:gsLst>
            <a:lin ang="135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Mortgage Characteristics </a:t>
            </a:r>
            <a:endParaRPr b="0" lang="en-US" sz="3600" spc="-1" strike="noStrike">
              <a:solidFill>
                <a:srgbClr val="0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007fbe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rtgage refinan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borrower takes out a new mortgage and uses the proceeds to pay off an existing mortg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tgages are most often refinanced when an existing mortgage has a higher interest rate than prevailing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s must balance the savings of a lower monthly payment with the costs (fees) of refina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ften-cited rule of thumb is that the new interest rate should be 2 percentage points less than the refinanced mortgage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F977-38BD-4838-979D-4F413EE47C37}" type="slidenum">
              <a:t>9</a:t>
            </a:fld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1T19:33:32Z</dcterms:created>
  <dc:creator>Joseph Ogden</dc:creator>
  <dc:description/>
  <dc:language>en-US</dc:language>
  <cp:lastModifiedBy>balaji.s</cp:lastModifiedBy>
  <dcterms:modified xsi:type="dcterms:W3CDTF">2008-09-10T09:30:49Z</dcterms:modified>
  <cp:revision>186</cp:revision>
  <dc:subject/>
  <dc:title>FINANCIAL MARKETS AND INSTITIUTIONS: A Modern Perspective</dc:title>
</cp:coreProperties>
</file>