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43BA-17A2-4385-B34E-5AB076FBC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91EB-0742-4BAD-8706-520B5991F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C3D4-A418-477E-BD52-82C81A072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3D55-3908-40A8-B9A2-3AB34ED060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46A3-5493-4DCC-9BDD-31FDB649ED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4D66-96BA-41CB-AC93-4273DC8A1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AD0C-9D35-4EE3-8143-A42000002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B1AF-3387-4486-9109-49B87E9D1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EB75D-2D13-4E2B-B6B3-9BC5DC697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07C7-A542-4963-8CE1-C1F436443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1118-04C0-4DC6-A2AF-F9D9F3A39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EB2E-8BA5-4D8A-BA93-20D3B1EF0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6219CEA2-1839-48D0-9A8B-B251B8C6716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tock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6DF6-95DC-4292-B7F5-E94522B5A35F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d by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YSE Group, Inc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next N.V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pril 4, 2007 to become the first truly global stock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 3,200 different stocks trade on NYSE Euron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ding occurs at a specific place on the floor of the exchange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ding 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stock has a special market maker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maintains liquidity for the stock at all ti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6A24-02B3-48FB-BA14-AF2CE61E07A2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transactions occur at trading p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the best price available when the order reaches the trading 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a specifie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ts transact for their own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 portfolio of at least 15 different stocks valued at more than $1 million using computer programs to initiate the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 investors time to make informed choices during periods of high market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6F55-A77C-4A1C-9785-4996AE0A22D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ading on NYSE Euronext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2413080"/>
            <a:ext cx="8686800" cy="27550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der                                  Order                                   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roke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mm.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                        Maker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ash                                   Cash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r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Cash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                 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36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3840" y="27558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3840" y="382284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652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9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9840" y="27558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79840" y="382284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65840" y="283212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5840" y="43560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2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284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4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1244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22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08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2800" y="3898800"/>
            <a:ext cx="960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2840" y="3898800"/>
            <a:ext cx="8683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8840" y="3898800"/>
            <a:ext cx="960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75520" y="2755800"/>
            <a:ext cx="1523880" cy="1600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3252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30CD-2648-4DE2-8719-70077D5C9A98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Quot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TD 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58A2-71BB-4B45-96E1-4611BFE6B805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ists smaller firms than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s a broker-specialist market-maker system similar to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ne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hange traded funds (ET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Fs are index funds that are listed on an exchange and can be traded int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9E8B-5580-45FC-908A-5FA9D61071D2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ASDAQ and OTC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DAQ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’s first electronic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as no physical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tinuous trading for the most active stocks trad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the counter (O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 dealer market in which often more than 20 dealers act as market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order execution system (SO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utomatic order execution for orders of less than or equal to 1,000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SD maintains an electronic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C bulletin 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nk 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or small firms that are not part of the NASD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5A85-6D6E-43BE-B698-9364003D5518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market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has extensive listing requirements (e.g., firm market value and trading volu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X listing requirements are less stringent than NYSE and NASDAQ requirements are even less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ommunication networks (EC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trading occurs between 9:30 a.m. and 4:00 p.m. eastern standa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-hours trading occurs through computeriz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tive trading systems (AT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k.a. EC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the internet is becoming increasingly popular to both individual and profess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6447-C61C-4C64-97D1-5EA1FDCBC8A9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market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omposite value of a group of secondary market-trade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-weight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w Jones Industrial Average (DJIA), composed of 30 companies, is the most widely know stock marke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-weighted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&amp; Poor’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DAQ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shire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C84D-9B7F-41E0-9B35-1DF90B3CC654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s, mutual funds, and private pension funds are the largest holders of corporate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tock market forecast the econom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peed with which financial security prices adjust to unexpected n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6E8EF-F11B-4D73-839A-CEB80A2CB1B1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Regula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imary regulator of stock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emphasis of SEC regulation is on full and fair disclosure of information on secu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ct of 1933/Securities Exchange Act of 1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 delegates certain regulatory responsibilities to the exchanges for the day-to-day surveillance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imposed regulations aim to reduce excessive price fluctuations and increase auditing over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1821-689F-4F1D-A802-2055A8795521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verview of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stock markets allow suppliers of funds to raise equity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tock markets are the most closely watched and reported of all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holders are the legal owners of a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right to share in the firm’s profits (e.g., through divide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sidual claim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limited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voting rights (e.g., to elect board of dire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F1BAE-3B22-4B1E-8353-6E532EBF2F5C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Aspects of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tock markets are the world’s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markets have increased their share of the global market with the advent of a common currency, the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has recently strengthened in the U.K., Canada, Japan, and Pacific Basi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stock markets allow investors to diversify by holding stocks issued by corporations in foreig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diversification can increase risk due to incomplete information about foreign stocks as well as foreign exchange and politic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FA6E-C014-4B17-90CC-78B33896F860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Retur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s on a stock over one perio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an be divided into capital gains and dividend retu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tock price at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apital gain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turn from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52960" y="2933640"/>
                <a:ext cx="2560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A2EF-EC1F-4481-ACB6-3A50194E446A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amental ownership cl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ublic or priva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iscretionary and are thus not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have the lowest priority claim in the event of bankruptcy (i.e.,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cla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that common stockholders can lose no more than their origin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control the firm’s activities indirectly by exercising thei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ing r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election of th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0C0A-5C30-4B81-BD98-EB5AAA0704C5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-class fi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two classes of common shares outstanding, with different voting rights assigned to each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mulative vo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votes assigned to each stockholder equals the number of shares held multiplied by the number of directors to be 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shares needed to ele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or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# of shares outstanding)/(# of directors to be elected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]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 v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tockholders to vote by absentee ballot (e.g., by 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6E77-F7C8-471B-B427-4509BCE6427B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red sto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brid security that has characteristics of both bonds and common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divid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paid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not have voting r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dividend payments ar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cum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1CED-A3B8-446D-8254-80379423368B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arkets in which corporations raise funds through new issues of stock, most of the time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distribution agent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ss procee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procee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writer’s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group of investment banks working in concert to issue stock; the lead underwriter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ing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9FF8-9905-4882-9B0B-37B79BD76302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 (I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irst public issue of financial instruments by a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o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le of additional securities by a firm whose securities are already publicly t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emptive righ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existing stockholders the ability to maintain their proportional 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herring prospec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eliminary version of the prospectus that describes a new security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firms to offer multiple issues of stock over a two-year period with only one registr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1520-7658-488D-99ED-88318D019701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stock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arkets in which stocks, once issued, are traded among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has three major stock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Euronext (NYSE Euro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Automated Quotation (NASD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Stock Exchange (AM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667D-66C4-433A-A9E4-A9982B8B159D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1:12Z</dcterms:modified>
  <cp:revision>189</cp:revision>
  <dc:subject/>
  <dc:title>FINANCIAL MARKETS AND INSTITIUTIONS: A Modern Perspective</dc:title>
</cp:coreProperties>
</file>