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2482-BAF7-47E8-A4C9-BC55D5369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8179-BBB3-4E31-BF83-6011E4156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710C-A4D1-4C93-9DA6-118EDD30E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7919-9918-461D-B7ED-E3108B0FAA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2BFB-3A58-495C-80E5-2ECEFF248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9779-3761-4FED-AFE8-349911929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1960-41E8-4254-B66C-E93CEFBDB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19D1-3C37-4C41-8CF2-9BBED9B0F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A6AB-3E22-43AA-9385-A715395F7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F1AC-0B05-4F26-9773-5E998A1A6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82E6-1BDD-4D25-A126-86BB9B3D9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6828-C71E-4B1D-AB9F-F432A3ED5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8EDD6EF3-69DE-41E8-865E-DFE283B95F5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E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tock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D91D-5DC4-447F-8225-2103A9ED3C55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YSE Euronex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ed by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YSE Group, Inc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uronext N.V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April 4, 2007 to become the first truly global stock 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ver 3,200 different stocks trade on NYSE Euron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ding occurs at a specific place on the floor of the exchange called 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ding p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stock has a special market maker called 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maintains liquidity for the stock at all ti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B1E3-F748-4536-869D-7639D90A369B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YSE Euronex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 of transactions occur at trading p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 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order to transact at the best price available when the order reaches the trading 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 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order to transact at a specifie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sts transact for their own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imultaneous buying and selling of a portfolio of at least 15 different stocks valued at more than $1 million using computer programs to initiate the t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it break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 investors time to make informed choices during periods of high market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0661-9A49-49FB-A1DB-84CF5E5E352F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ading on NYSE Euronext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nd AMEX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000" y="2413080"/>
            <a:ext cx="8686800" cy="27550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rder                                  Order                                   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or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h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Broker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h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mm.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h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                         Maker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ash                                   Cash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r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     Cash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                 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84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3684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3840" y="27558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3840" y="382284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4652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7984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79840" y="275580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79840" y="382284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2832120"/>
            <a:ext cx="0" cy="1508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65840" y="283212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5840" y="435600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12800" y="2984400"/>
            <a:ext cx="88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22840" y="2984400"/>
            <a:ext cx="88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84800" y="2984400"/>
            <a:ext cx="88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12440" y="3365640"/>
            <a:ext cx="88740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22480" y="3365640"/>
            <a:ext cx="88740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08480" y="3365640"/>
            <a:ext cx="88740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2800" y="3898800"/>
            <a:ext cx="960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2840" y="3898800"/>
            <a:ext cx="8683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08840" y="3898800"/>
            <a:ext cx="960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75520" y="2755800"/>
            <a:ext cx="1523880" cy="16002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32520" y="2832120"/>
            <a:ext cx="0" cy="1508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1286-D756-4F1C-A797-20926AD33397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 Quot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Ch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Ch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 Wk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 Wk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TD % Ch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B69F-423A-4CC4-9592-332FC216D69C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MEX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lists smaller firms than NYSE Euro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as a broker-specialist market-maker system similar to NYSE Euro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oneer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hange traded funds (ET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Fs are index funds that are listed on an exchange and can be traded intra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1D80-9338-40D2-A948-6E1BE98B49AA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ASDAQ and OTC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DAQ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’s first electronic 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has no physical trading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continuous trading for the most active stocks trad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 the counter (O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a dealer market in which often more than 20 dealers act as market 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order execution system (SOE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automatic order execution for orders of less than or equal to 1,000 sh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SD maintains an electronic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C bulletin bo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nk she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for small firms that are not part of the NASD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9368-5B7C-438D-A982-B04A4D51F8F4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 of market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SE has extensive listing requirements (e.g., firm market value and trading volu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X listing requirements are less stringent than NYSE and NASDAQ requirements are even less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ic communication networks (EC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trading occurs between 9:30 a.m. and 4:00 p.m. eastern standar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ed-hours trading occurs through computeriz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ernative trading systems (ATS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.k.a. EC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a the internet is becoming increasingly popular to both individual and professional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2A7E-AB08-4C86-B0ED-D7BB0ED5ADF5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 Index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 market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composite value of a group of secondary market-traded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ce-weighted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w Jones Industrial Average (DJIA), composed of 30 companies, is the most widely know stock marke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-weighted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SE 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&amp; Poor’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DAQ 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shire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40E2-84F2-4DED-86A8-0CF599EAC0EA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holds, mutual funds, and private pension funds are the largest holders of corporate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tock market forecast the econom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effici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peed with which financial security prices adjust to unexpected ne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form marke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strong form marke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form marke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6FC7-76D9-4B07-9374-F531E274A910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 Regula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es and Exchange Commission (SE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rimary regulator of stock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emphasis of SEC regulation is on full and fair disclosure of information on secu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es Act of 1933/Securities Exchange Act of 19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 delegates certain regulatory responsibilities to the exchanges for the day-to-day surveillance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ly imposed regulations aim to reduce excessive price fluctuations and increase auditing over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B2A4-D2AB-4FD0-B2FD-C64FF58ED1D4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verview of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stock markets allow suppliers of funds to raise equity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stock markets are the most closely watched and reported of all financi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holders are the legal owners of a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 right to share in the firm’s profits (e.g., through divide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esidual claim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limited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voting rights (e.g., to elect board of direc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8BA3-6830-4BB5-BA9C-F792A49F7AC8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Aspects of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stock markets are the world’s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markets have increased their share of the global market with the advent of a common currency, the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has recently strengthened in the U.K., Canada, Japan, and Pacific Basi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stock markets allow investors to diversify by holding stocks issued by corporations in foreig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diversification can increase risk due to incomplete information about foreign stocks as well as foreign exchange and political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FE58-9A58-4C8E-A4FC-FF64D5EEE832}" type="slidenum">
              <a:t>20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Retur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urns on a stock over one perio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an be divided into capital gains and dividend retu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tock price at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ividends paid over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apital gain over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return from dividends paid over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52960" y="2933640"/>
                <a:ext cx="2560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8E43-5D2C-4691-9850-DA13E790990C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amental ownership cla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public or private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d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iscretionary and are thus not 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holders have the lowest priority claim in the event of bankruptcy (i.e.,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cla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ed l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ies that common stockholders can lose no more than their original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holders control the firm’s activities indirectly by exercising thei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ing righ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election of the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BC99E-29B4-4C64-97CC-2A17574EFC5D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-class fi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two classes of common shares outstanding, with different voting rights assigned to each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mulative vo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number of votes assigned to each stockholder equals the number of shares held multiplied by the number of directors to be 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ber of shares needed to elec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or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[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# of shares outstanding)/(# of directors to be elected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] 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 vo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tockholders to vote by absentee ballot (e.g., by m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B4B0-6EAB-497B-A66B-9999A1232CDE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ferred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erred stoc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ybrid security that has characteristics of both bonds and common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ed divide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re paid quart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 not have voting righ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less dividend payments are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particip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ip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cum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61D3-1B0E-4B19-9E6E-00F998C2491D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arkets in which corporations raise funds through new issues of stock, most of the time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banks act as distribution agent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efforts under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banks act as principal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m commitment under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ss procee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procee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derwriter’s sp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d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group of investment banks working in concert to issue stock; the lead underwriter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ting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1C7E-438B-4477-BA0F-CA05E05565AF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ublic offering (I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first public issue of financial instruments by a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soned off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ale of additional securities by a firm whose securities are already publicly tr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emptive righ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existing stockholders the ability to maintain their proportional 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 herring prospec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reliminary version of the prospectus that describes a new security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lf regis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s firms to offer multiple issues of stock over a two-year period with only one registrat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37F6-FCF5-4D6F-8AB5-9C43153CB4A3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ary stock mar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markets in which stocks, once issued, are traded among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 has three major stock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York Stock Exchange Euronext (NYSE Euro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Association of Securities Dealers Automated Quotation (NASD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Stock Exchange (AM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AB07-ABE1-4C80-B79F-A6516D696893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1:12Z</dcterms:modified>
  <cp:revision>189</cp:revision>
  <dc:subject/>
  <dc:title>FINANCIAL MARKETS AND INSTITIUTIONS: A Modern Perspective</dc:title>
</cp:coreProperties>
</file>