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2883-A12F-4699-819C-FF5E53994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EBE6-44C6-4518-A0E7-33D17491AC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C4BA-64D5-4380-96A6-C77405C29F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84D6-6F0D-48FA-BFEF-DB2F60D82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0AB56-B058-41DF-A616-0EC8F86531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4955-A6B3-4D07-8D21-F411B583D9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A5F76-8E97-4728-88DD-033BEF4626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007B-7E34-48C0-91B5-387FC7CD5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B6BED-0060-4419-8111-2F9DA8B21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A82EA-AD79-4BAC-A59D-7370C0213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3E14-406E-418C-9065-3C21FCEB8E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2EB3-D965-4CC9-B3EE-3130D4B27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98F3630C-7483-4504-8CEB-003343FA435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Eigh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tock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483A0-3C64-4FAF-8B9A-F59C2E70AB78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reated by the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erg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NYSE Group, Inc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uronext N.V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n April 4, 2007 to become the first truly global stock mar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ver 3,200 different stocks trade on NYSE Euronex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rading occurs at a specific place on the floor of the exchange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trading po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ach stock has a special market maker called 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pecialis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that maintains liquidity for the stock at all tim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C2F9-F2C3-4BB4-BBBD-042458B309EB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YSE Euronext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 of transactions occur at trading p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e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the best price available when the order reaches the trading p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mit ord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order to transact at a specified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sts transact for their own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 portfolio of at least 15 different stocks valued at more than $1 million using computer programs to initiate the tr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rcuit break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 investors time to make informed choices during periods of high market volat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B3160-43C9-4433-9B2A-7F42C147A06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ading on NYSE Euronext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6000" y="2413080"/>
            <a:ext cx="8686800" cy="275508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Order                                  Order                                   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o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Broker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Comm.    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Sh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Mark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                         Maker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Cash                                   Cash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r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Cash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ker                  Bro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3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6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3840" y="275580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3840" y="3822840"/>
            <a:ext cx="11430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74652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79840" y="2771640"/>
            <a:ext cx="0" cy="1051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79840" y="27558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679840" y="382284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96584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65840" y="283212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5840" y="4356000"/>
            <a:ext cx="1066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12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2284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84800" y="2984400"/>
            <a:ext cx="887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61244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822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08480" y="3365640"/>
            <a:ext cx="88740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2800" y="3898800"/>
            <a:ext cx="9604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22840" y="3898800"/>
            <a:ext cx="8683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08840" y="3898800"/>
            <a:ext cx="9601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175520" y="2755800"/>
            <a:ext cx="1523880" cy="16002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32520" y="2832120"/>
            <a:ext cx="0" cy="15080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A540-CD78-4E0F-89C0-18CD7074447C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Quot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Hi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 Wk 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i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TD % Ch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CE657-6259-4015-AEF2-3E8F89B292FF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MEX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lists smaller firms than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es as a broker-specialist market-maker system similar to NYSE Euro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oneer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change traded funds (ET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Fs are index funds that are listed on an exchange and can be traded intra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95030-B220-4C8E-8723-34C1484915EB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NASDAQ and OTC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SDAQ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’s first electronic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has no physical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continuous trading for the most active stocks trad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 the counter (O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ily a dealer market in which often more than 20 dealers act as market m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 order execution system (SO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s automatic order execution for orders of less than or equal to 1,000 sh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SD maintains an electronic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C bulletin boa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and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ink she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for small firms that are not part of the NASDA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ECB01-95F2-4A31-81C5-3F9E286F1EC8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 of market lis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has extensive listing requirements (e.g., firm market value and trading volu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X listing requirements are less stringent than NYSE and NASDAQ requirements are even less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communication networks (E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trading occurs between 9:30 a.m. and 4:00 p.m. eastern standard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ed-hours trading occurs through computeriz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ternative trading systems (AT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.k.a. EC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ia the internet is becoming increasingly popular to both individual and profess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F1A28-B39E-4410-B78C-A047BBD52798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market inde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composite value of a group of secondary market-trade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ce-weighted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w Jones Industrial Average (DJIA), composed of 30 companies, is the most widely know stock market ind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lue-weighted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YSE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&amp; Poor’s 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SDAQ Compos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shire 5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43FC-C020-45EE-A834-5871CEDC6257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useholds, mutual funds, and private pension funds are the largest holders of corporate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tock market forecast the econom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efficienc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peed with which financial security prices adjust to unexpected new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form market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1333-94B2-4F8E-A402-FCFE8A387DB7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 Regula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primary regulator of stock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emphasis of SEC regulation is on full and fair disclosure of information on secu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es Act of 1933/Securities Exchange Act of 19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C delegates certain regulatory responsibilities to the exchanges for the day-to-day surveillance of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ly imposed regulations aim to reduce excessive price fluctuations and increase auditing overs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CC365-F194-4DD6-9B96-643FCD3F2C79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verview of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stock markets allow suppliers of funds to raise equity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ary stock markets are the most closely watched and reported of all financial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kholders are the legal owners of a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right to share in the firm’s profits (e.g., through divide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sidual claim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limited l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voting rights (e.g., to elect board of directo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6CD26-E8F8-40E6-81AF-D45262C8A791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Aspects of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stock markets are the world’s lar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markets have increased their share of the global market with the advent of a common currency, the E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th has recently strengthened in the U.K., Canada, Japan, and Pacific Basi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stock markets allow investors to diversify by holding stocks issued by corporations in foreign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tional diversification can increase risk due to incomplete information about foreign stocks as well as foreign exchange and political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2F2E-2931-4F0A-8F8D-4585A534DFE2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tock Retur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eturns on a stock over one period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an be divided into capital gains and dividend retur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stock price at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apital gain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return from dividends paid over tim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252960" y="2933640"/>
                <a:ext cx="2560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2CC33-100B-4E8D-B1C4-284920EF58D1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ndamental ownership cl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a public or private corp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vide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discretionary and are thus not guarant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have the lowest priority claim in the event of bankruptcy (i.e.,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clai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ted li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mplies that common stockholders can lose no more than their original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stockholders control the firm’s activities indirectly by exercising thei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ting righ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election of the board of dir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8E76-7FB0-45AC-88FC-E47FD0B12E0E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on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al-class firm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two classes of common shares outstanding, with different voting rights assigned to each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umulative vo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e number of votes assigned to each stockholder equals the number of shares held multiplied by the number of directors to be el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umber of shares needed to elec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irectors,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i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[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# of shares outstanding)/(# of directors to be elected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)] 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xy vo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stockholders to vote by absentee ballot (e.g., by mai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331B-66AE-4CF4-9DEE-B4CC367E9EC9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eferred Stock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ferred stoc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hybrid security that has characteristics of both bonds and common st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ha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xed divide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paid quart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es not have voting righ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less dividend payments are mi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ticipa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cumul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6814-4F08-4945-83C8-DBF2E3E11A7B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arkets in which corporations raise funds through new issues of stock, most of the time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distribution agent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stment bank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ss procee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procee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derwriter’s sp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yndic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group of investment banks working in concert to issue stock; the lead underwriter i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iginating h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898D8-F515-405F-B72B-C2F8526FD496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 (IP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first public issue of financial instruments by a fi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off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ale of additional securities by a firm whose securities are already publicly tr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emptive right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 existing stockholders the ability to maintain their proportional owner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d herring prospect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reliminary version of the prospectus that describes a new security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s firms to offer multiple issues of stock over a two-year period with only one registrat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82CE7-D4CA-4A99-A792-0FF8DEB9D42B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Stock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stock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markets in which stocks, once issued, are traded among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.S. has three major stock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Euronext (NYSE Euron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Automated Quotation (NASDA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Stock Exchange (AM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21EBB-BDC0-44C5-ADE3-7B093144CB72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1:12Z</dcterms:modified>
  <cp:revision>189</cp:revision>
  <dc:subject/>
  <dc:title>FINANCIAL MARKETS AND INSTITIUTIONS: A Modern Perspective</dc:title>
</cp:coreProperties>
</file>