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DDCC-B94A-4CE2-82C5-5FE97CE3D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FF60-4CE7-402B-9F3A-514F35721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9C8A-4CC2-44C8-AF40-7C0CB43B8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D011-E402-4574-8092-1BB9BA4875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C2C7-D9A6-4DB6-AE97-99506B166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8E25-606F-469B-9C6C-F5142069A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0026-F37D-4D1E-A1C5-BB00EB9D7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F650-C59A-460F-8EE4-DC9D9496A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AD3E-34B3-4796-A408-B2B085BCA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883B-5926-4FC5-8A20-A468024A4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2368-F463-4A7E-A813-AA0EB2AE6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65B7-8D53-42B9-8233-473304CEE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63A1C894-DCB4-4DCA-AAED-0859E64192A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tock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D9C8-85D1-4828-B892-A315DB041866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d by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YSE Group, Inc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next N.V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pril 4, 2007 to become the first truly global stock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 3,200 different stocks trade on NYSE Euron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ding occurs at a specific place on the floor of the exchange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ding 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stock has a special market maker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maintains liquidity for the stock at all ti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915A-262B-4C9D-BDD5-91D3D7986FDC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transactions occur at trading p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the best price available when the order reaches the trading 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a specifie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ts transact for their own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 portfolio of at least 15 different stocks valued at more than $1 million using computer programs to initiate the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 investors time to make informed choices during periods of high market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D1B9-30AA-4DEC-A0BA-922D03E4A60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ading on NYSE Euronext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2413080"/>
            <a:ext cx="8686800" cy="27550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der                                  Order                                   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roke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mm.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                        Maker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ash                                   Cash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r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Cash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                 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36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3840" y="27558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3840" y="382284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652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9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9840" y="27558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79840" y="382284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65840" y="283212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5840" y="43560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2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284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4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1244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22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08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2800" y="3898800"/>
            <a:ext cx="960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2840" y="3898800"/>
            <a:ext cx="8683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8840" y="3898800"/>
            <a:ext cx="960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75520" y="2755800"/>
            <a:ext cx="1523880" cy="1600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3252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983E-59A5-436F-83C3-8135CA4C8C0A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Quot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TD 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C29BB-82B2-425A-B7CB-4FAE2678CCA4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ists smaller firms than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s a broker-specialist market-maker system similar to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ne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hange traded funds (ET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Fs are index funds that are listed on an exchange and can be traded int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BED0-B06F-4CDA-8F95-ECE0A33A1BDA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ASDAQ and OTC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DAQ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’s first electronic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as no physical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tinuous trading for the most active stocks trad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the counter (O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 dealer market in which often more than 20 dealers act as market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order execution system (SO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utomatic order execution for orders of less than or equal to 1,000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SD maintains an electronic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C bulletin 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nk 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or small firms that are not part of the NASD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DC9B-9DD7-478A-BE04-C48C5DDC8C7A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market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has extensive listing requirements (e.g., firm market value and trading volu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X listing requirements are less stringent than NYSE and NASDAQ requirements are even less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ommunication networks (EC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trading occurs between 9:30 a.m. and 4:00 p.m. eastern standa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-hours trading occurs through computeriz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tive trading systems (AT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k.a. EC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the internet is becoming increasingly popular to both individual and profess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AD64-A270-44AA-BB37-EB8E15EACF30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market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omposite value of a group of secondary market-trade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-weight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w Jones Industrial Average (DJIA), composed of 30 companies, is the most widely know stock marke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-weighted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&amp; Poor’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DAQ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shire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0A51-9F07-4557-A071-F9E861151827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s, mutual funds, and private pension funds are the largest holders of corporate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tock market forecast the econom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peed with which financial security prices adjust to unexpected n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5624-5510-4D15-B139-C7F3C34D1F1A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Regula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imary regulator of stock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emphasis of SEC regulation is on full and fair disclosure of information on secu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ct of 1933/Securities Exchange Act of 1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 delegates certain regulatory responsibilities to the exchanges for the day-to-day surveillance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imposed regulations aim to reduce excessive price fluctuations and increase auditing over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C9B7-5BD3-4864-A52C-03D068B7650B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verview of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stock markets allow suppliers of funds to raise equity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tock markets are the most closely watched and reported of all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holders are the legal owners of a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right to share in the firm’s profits (e.g., through divide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sidual claim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limited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voting rights (e.g., to elect board of dire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6462-F7A9-4437-988B-D0B46F5EBCCE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Aspects of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tock markets are the world’s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markets have increased their share of the global market with the advent of a common currency, the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has recently strengthened in the U.K., Canada, Japan, and Pacific Basi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stock markets allow investors to diversify by holding stocks issued by corporations in foreig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diversification can increase risk due to incomplete information about foreign stocks as well as foreign exchange and politic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837D-13B6-42F1-A7BF-9624318265F3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Retur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s on a stock over one perio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an be divided into capital gains and dividend retu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tock price at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apital gain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turn from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52960" y="2933640"/>
                <a:ext cx="2560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D112-88CE-433A-ABE3-A2E3C1E73522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amental ownership cl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ublic or priva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iscretionary and are thus not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have the lowest priority claim in the event of bankruptcy (i.e.,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cla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that common stockholders can lose no more than their origin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control the firm’s activities indirectly by exercising thei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ing r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election of th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F262-81B5-4E8F-B5CD-49EF8302DF6C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-class fi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two classes of common shares outstanding, with different voting rights assigned to each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mulative vo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votes assigned to each stockholder equals the number of shares held multiplied by the number of directors to be 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shares needed to ele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or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# of shares outstanding)/(# of directors to be elected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]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 v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tockholders to vote by absentee ballot (e.g., by 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2534-E8B2-4C36-8632-BE84AA4EB3C0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red sto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brid security that has characteristics of both bonds and common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divid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paid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not have voting r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dividend payments ar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cum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DBE9-D1CF-43D9-983D-4E308C152231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arkets in which corporations raise funds through new issues of stock, most of the time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distribution agent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ss procee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procee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writer’s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group of investment banks working in concert to issue stock; the lead underwriter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ing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415F-C0A7-4CA6-BA3C-FFE250547EE8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 (I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irst public issue of financial instruments by a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o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le of additional securities by a firm whose securities are already publicly t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emptive righ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existing stockholders the ability to maintain their proportional 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herring prospec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eliminary version of the prospectus that describes a new security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firms to offer multiple issues of stock over a two-year period with only one registr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D515-8E5B-4B55-8594-79132A7B785C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stock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arkets in which stocks, once issued, are traded among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has three major stock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Euronext (NYSE Euro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Automated Quotation (NASD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Stock Exchange (AM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4008-5538-4084-AD2A-1A5C9E371764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1:12Z</dcterms:modified>
  <cp:revision>189</cp:revision>
  <dc:subject/>
  <dc:title>FINANCIAL MARKETS AND INSTITIUTIONS: A Modern Perspective</dc:title>
</cp:coreProperties>
</file>