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C6EF-D4B3-47B0-917C-6E1793044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4249-90B5-45CD-AF35-E90AAEA1A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F0B0-A160-4075-B259-6F0B6FA7B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5D9A-7DA8-4987-8715-72FFCCE1A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C792-D05F-42A0-8EDC-A0EE0E1BD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DFB2-3B06-4471-91DD-A7E305529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5668-4E4B-4ABD-BD75-71BDAA6FC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897A-2E2A-4FA5-9E21-4325C6306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57E2-4F4D-4C87-A355-221C2144B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31C6-493A-4518-98DE-BEB622BE4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D93E-9E35-48D6-BC38-6FEC82059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9EF4-F1BE-4131-BFA0-4D408DA91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9D47-34D9-4761-8614-426F684A0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E928-BF0F-49EF-A9BA-E8A9004DE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5302-BC64-46D4-99B2-7C32AFC81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07DA-FAA3-40EB-AA63-93D93EFBE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CA86-7788-4BF4-9AD8-F272067FC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97CD-3255-4766-BA27-9A6C7D3A3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143A-392E-4145-ACBF-1657789EE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C574-DA8F-4D32-9419-A08FF0BEC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C294-5AC1-42D2-A713-0A92B13C9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6346-8E79-41DD-9617-3468B38EE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4C10-1671-4712-8282-46803BE8F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EA63-096A-4B55-B61E-F51C6AD68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12D-DBCC-41A5-BCC9-8FEDC75425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C35-3E23-4049-B7DC-4913AD8158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B22-415E-47AF-9CF7-95914FC4AB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9A8-71DE-4AE5-81AF-69BC8914B6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304-5A40-4D25-A4D9-431C6D03F5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641-6602-4174-9ECD-FBB90E8C8E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1B7-5994-480E-9B9A-E08809376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6345-53DF-4844-BBE1-85CA9D03B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FBA-FA7C-4731-9753-E73A250BA3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ADA-3C04-43BE-9340-20421E0F02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5DE-C62D-40C0-868C-4099DEF866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8E6-75D2-4FAE-A6E8-DBE6BA325E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6FC-61AF-4775-93AD-93953DEE02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D50A4-CC8A-4603-8711-B36414DD9D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1F5B1-947D-48FA-A48E-9D079DA4E7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F519B-2C55-4E4B-A19D-775C70F230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EC3D7-9A17-4BDD-ACF1-7F286F2406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108FA-9AD0-49B5-AB7C-B685F522F8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F89A-2D76-4C42-9FFB-958842D1B4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6C51B-E545-4B36-A6FE-AF9A113AE0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777B3-DB65-43CC-9DF5-FC27CC0E3A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19B1E-9121-470C-9130-DC69F0EF21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5F818-A1DB-4DF7-B42D-3A02911A46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4E673-4EC1-4114-9518-86533DABE6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AA63F-65A8-4825-8D03-E930BD409B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37B26-3A9C-4C02-8282-8F85139BE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10E4-567A-4E92-B551-D5EDC32BE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144D-1B48-4E7D-8F48-BEF841A44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AF55-3020-4B7D-8AC3-B73B4EA66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F56C-72E0-44E0-BA98-E83809CBD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3884-4594-48BD-82FF-39928B393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6171-DA63-442D-9089-570C75B9C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70AD7D0E-5F53-44C2-9668-68213EF26D6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4484FCFB-455B-4931-9DE4-83CD86A8477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45C76F88-1A17-4F76-82C0-6F9D4CACE17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389F04D8-1CCD-4DAD-BCE1-9D74696E22B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Ele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90760" y="350532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mmercial Banks: Industr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ADB8ECD-C02C-4505-B38F-FA7A0BECE23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tail bankin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consumer-ori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idential and consumer loans are funded by accepting small depos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munity ban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ize in retail ban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olesale bankin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commerce-ori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rcial and industrial loans are often funded with purchased fu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gional or superregional ban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gage in a complete array of wholesale banking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ney center ban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y heavily on nondeposit or borrowed sources of funds often borrowed in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ederal funds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395BF8AB-7CC8-4B7C-BDC9-724B9041491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larger banks generally lend to larger corporations, their interest rate spreads and net interest margins are usually narrower than those of smalle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 rate sprea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difference between lending and deposit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interest marg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nterest income minus interest expense divided by earning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anks tend to pay higher salaries and invest more in buildings and premises than smal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anks tend to diversify their operations more and generate more noninterest income than smal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CDDE0ABC-1055-4D25-B64D-E9A405BD32A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dustry Performance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.S. commercial banks flourished during the economic expansion of the 1990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economic downturn of the early 2000s caused performance to deteriorate only slight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2003 ROA and ROE had reached all-time high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fourth quarter of 2006 mortgage delinquencies (particularly subprime mortgages) surg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ses from falling values of subprime mortgages caused fourth quarter 2007 net income to hit a 16-year l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E59F1FB7-702C-4495-9905-00596F77E67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Wholesale Banking Servic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disbursemen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reconc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box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lock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s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funds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deposi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initiation of letters of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sury management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data inter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ing business-to-business 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ing id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ing small business entries in 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2916F841-13D0-4511-9B0C-39FEAF92D83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tail Banking Servic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tomated teller machines (A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int-of-sale (POS) debit c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authorized debits and cred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ying bills via teleph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ine ba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mart cards (stored-value) c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net ba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ments existing business for already existing b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new internet-only banks have no “brick and mortar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CEB25408-083C-4E29-BCC2-CBF4F25BFF8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or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Deposit Insurance Corporation (FDI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ures the deposits of commercia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h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 banking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banks can be either nationally or state char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fice of the Comptroller of the Currency (OC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ters and regulates national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agencies charter and regulate state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Reserve System (FR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egulatory power over nationally chartered banks and their holding companies and state banks that opt in to the Federal Reser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lding compan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parent company that owns a controlling interest in a subsidiary bank or other 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91749C25-FB4E-4CDD-B34B-25E63EC847C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ercial banking has truly become an international and global 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our largest banks in the world, as of 2007, are from four different count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BS Group is a Swiss bank with $1.96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rclays Bank is a U.K. bank with $1.96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NP Paribas is a French bank with $1.90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tigroup is a U.S. bank with $1.88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410970DD-93DE-401C-B902-956290DEAE6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international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diver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es of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new product innovations internat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to find the cheapest and most available source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the needs of domestic 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D9A02392-9A34-486B-AC56-161617D670A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 of international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nd monitoring costs are generally higher in foreign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assets may be subject to nationalization or expropriation by host country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xed costs of establishing foreign organizations may be extremely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AB570CF8-537E-4A78-B289-CC54ACECE1E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lobal Banking Performance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s in most regions of the world posted strong performance in the early and mid-20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tgage lending boosted revenue in France and Sp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personal bankruptcies rose worldwide, U.K. banks’ profitability was maintained because of divers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2001 the Japanese government backed the purchase of $90 billion of shares of Japanese banks in an attempt to avert a banking collap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hinese state-run banking system deteriorated in the early 2000s, which caused China to ease restrictions on foreign bank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C82B3552-C514-4168-A694-77347B4CAFD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ban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largest group of financial institutions in terms of to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assets are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liabilities are deposits—thus, they are conside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ository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services essential to U.S. financi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 a key role in the transmission of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paym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maturity inter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 are regulated to protect against disruptions to the services they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26846091-D42A-4F51-BD80-57044DCE56B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Ass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a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nerate revenue for ban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rcial and industrial loans are declining because of nonbank substitutes such as commercial pa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tgages are increasing in impor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vestment securiti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 revenue and provide banks with liquid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h ass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held to meet reserve requirements and to provide liquid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 ass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lude premises and equipment, other real estate owned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9FA81FB-C75F-4656-B4CE-B4E094E4065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Ass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 face unique risks because of their asse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(default)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loans are not re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quidity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depositors will demand more cash than banks can immediately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rate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interest rate changes erode net 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, liquidity, and interest rate risk all contribute to a commercial bank’s level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olvency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DD3E908F-CAAA-4111-AB5D-1E0E79CD665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Liabil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 accou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sum of noninterest-bearing demand deposits and interest-bearing checking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bearing deposit accounts are calle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egotiable order of withdrawal (NOW)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 (retail) savings and time depos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been declining in recent years because of MMM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book savings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ail time depos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time 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gotiable CDs are fixed-maturity interest-bearing deposits with face values of $100,000 or more that can be resold in the secondary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E39DC77-52DB-45EA-AE8A-522D746B25E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Liabilities &amp; Equity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deposit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 funds purch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 and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level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re required by regulators to act as a buffer agains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d preferred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plus or additional paid-in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B1DDF943-BA40-48B4-B455-7B8E3643095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ff-Balance-Sheet Activ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banks engage in many fee-related activities that are conducted off the balance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s such as letters of 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 commitments to l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ative transactions (e.g., futures, forwards, options, and swa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balance-sheet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event occurs, this item moves onto the asset side of the balance sheet or income is realized on the incom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balance-sheet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event occurs, this item moves onto the liability side of the balance sheet or an expense is realized on the incom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52418A1E-254A-467D-A959-26186875084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igle-Neal A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1994 allowed nationwide branch networks to ev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,483 banks with some 60,000 branches in 1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350 banks with some 83,000 branches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ncial Services Modernization A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ve commercial banks the full authority to enter the investment banking and insuranc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ial loan corporations (ILC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onsidered “non-bank”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9DA0152A-5403-4F97-9404-5961F2B9AA3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egamerger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s a merger of commercial banks with assets of $1 billion or mo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conomies of scal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 to the degree to which a firm’s average unit costs of producing financial services fall as its output of services increa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conomies of sc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 when the costs of joint production of FI services are higher than they would be if they were produced independ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conomies of scop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 to the degree to which a firm can generate cost synergies by producing multiple financial service produc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 efficiencie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 to cost savings due to greater managerial efficienc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selvam.p</cp:lastModifiedBy>
  <dcterms:modified xsi:type="dcterms:W3CDTF">2008-10-14T06:19:05Z</dcterms:modified>
  <cp:revision>230</cp:revision>
  <dc:subject/>
  <dc:title>FINANCIAL MARKETS AND INSTITIUTIONS: A Modern Perspective</dc:title>
</cp:coreProperties>
</file>