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move the slide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6520-F3E8-4133-AC4F-6EAF1711B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32E2-39A5-43DF-875E-22066F72D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78F5-76E0-445E-8A70-A552C95DC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47D9-BDFE-400E-B63B-46B9AE683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EC36-ECDA-443E-ACCE-275DD206B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0033-5C5D-4485-832F-196694B17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9548-7D3C-4937-87BF-CC7733A70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70C6-5161-4F3A-8A51-88D7C3B5C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ED27-9EF4-4412-8CE8-12DE3C532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E3F5-9EE1-4A68-88DF-B83924EAB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60A6-D97C-4E46-853B-4E318B506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3039-87CF-4632-919B-F39047CDE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8B4F-57F6-4225-9FBC-26423B729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E7D1-F72E-44B1-B7D0-0E2DABB12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8D82-2F10-4340-8B03-0FBE7661C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3CC4-C9CA-417B-A5BB-52350CBDF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0113-3C1B-496D-825B-97E463668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2F71-7DDE-41F3-A3F9-CACE5EF6C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F25A-3714-4BA4-A793-02A63546C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0B82-988B-420F-84E8-05D3C633D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F4D82-5366-43C0-A9DE-43B825F144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6603-BBA5-4886-B34A-B70F1153A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D6D0B-0332-4629-9705-A2249CBF8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E85C2-B732-412C-BD23-18FF68290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229D-9046-4A66-869C-08A46BCFB3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7935-661C-4F51-91FB-BD51B8A8DD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4A4A-C2F6-4CCC-8AAC-D0BA15EB84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BD8F-C95D-4C96-ACD3-AB5D68B4F0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5230-CB5D-40F4-98B8-17849BAE1F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3B5C-B37C-4E26-88CD-84A2F24D40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BE6D-9754-40FC-9AFA-A48697482B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22E31-5C6C-44E8-8E23-F41E247D8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A2EE-DEA6-4E7C-913F-9E763AE19B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AB60-EE7F-43F9-983D-A2F0D53E77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3376-772C-4852-9983-6D37F15413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1987-C48A-4A2D-82EF-109BE48F5A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627F-8D95-4A6C-AD54-FEF844CD22E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F5E14-97BF-4C6E-8081-A3962DAC89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BA2AD-9E99-4C46-B46A-758F267CFB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442C9-83E8-4F41-83D8-F387C13E7C0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C41FF-DE78-4BC2-BE5F-796A443093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DE07D-C24F-4BDC-9C34-D4CCB841A0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12AE3-51EC-467A-8CF5-6A76F8EB4A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AC97A-494E-4F12-B109-7721360889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CA545-8752-4E09-A4A1-35AB1DFF99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B2A83-FB5D-4FA3-B90E-EE6FA5BA09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7961D-2119-43EC-8B4E-4B24470562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166FB-4DFB-4CC8-B5FF-0FF2BF9EA9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7E728-933B-4159-8E67-4CD71CB1AA0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D720C-45BA-469F-A6AC-FA2C254DB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3EAFC-3A59-451B-8BD6-A3C655B5F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ECCB-8D9E-426B-9D8E-4B39CB268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66854-1747-4993-9BE7-A018072F20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4F7EB-6729-4042-BA66-5A195C754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C9D1-8F5B-4AC6-BC88-D57F96E71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837B-BD07-4F4C-ACFF-A52DE6E34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0F94F499-3E1E-4BEA-A2CD-349A03673FE9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8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763C9304-85A2-4054-9A6D-79F4E6C7EDFD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8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5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ED8A1B61-F7E9-4D07-8C93-3D2E19598CC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65CCDDA9-47E2-48BA-BF37-3EC81D13FB3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190600" y="228600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Elev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490760" y="3505320"/>
            <a:ext cx="67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ommercial Banks: Industry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068560" cy="2724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05927A83-1E57-4755-BF5E-30755108F29F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tail banking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consumer-orien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idential and consumer loans are funded by accepting small depos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mmunity bank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alize in retail ban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olesale banking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commerce-orien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ercial and industrial loans are often funded with purchased fu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gional or superregional bank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gage in a complete array of wholesale banking activ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ney center bank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ly heavily on nondeposit or borrowed sources of funds often borrowed in 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ederal funds mark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A634E90C-A30A-4502-BEB5-0D95D738397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larger banks generally lend to larger corporations, their interest rate spreads and net interest margins are usually narrower than those of smaller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est rate sprea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difference between lending and deposit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 interest marg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interest income minus interest expense divided by earning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banks tend to pay higher salaries and invest more in buildings and premises than small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banks tend to diversify their operations more and generate more noninterest income than small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A40D6A2C-81A8-41F6-88EE-53849CC28F7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dustry Performance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.S. commercial banks flourished during the economic expansion of the 1990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economic downturn of the early 2000s caused performance to deteriorate only slight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y 2003 ROA and ROE had reached all-time high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e fourth quarter of 2006 mortgage delinquencies (particularly subprime mortgages) surg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sses from falling values of subprime mortgages caused fourth quarter 2007 net income to hit a 16-year lo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065DD342-6FA3-45EC-B44E-BE6723918BB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Wholesale Banking Servic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d disbursemen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 reconc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box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lock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s concen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funds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deposit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initiation of letters of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sury management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data inter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ting business-to-business e-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bi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ying id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sting small business entries in e-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956DEA0B-27A6-4D5F-8CE0-0492F86F91E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etail Banking Servic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utomated teller machines (ATM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int-of-sale (POS) debit car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eauthorized debits and credi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ying bills via teleph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line ba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mart cards (stored-value) car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net ba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ements existing business for already existing ban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me new internet-only banks have no “brick and mortar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654B2770-7949-4FE7-B0C3-F53279A00084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egulator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 Deposit Insurance Corporation (FDI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ures the deposits of commercial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.S. ha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al banking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banks can be either nationally or state char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fice of the Comptroller of the Currency (OCC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ters and regulates national 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 agencies charter and regulate state 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ederal Reserve System (FR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regulatory power over nationally chartered banks and their holding companies and state banks that opt in to the Federal Reserv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lding compan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a parent company that owns a controlling interest in a subsidiary bank or other 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15359288-6AF5-40EE-91FA-75B4171EF00D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ternational Commercial Banking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mercial banking has truly become an international and global mark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four largest banks in the world, as of 2007, are from four different count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BS Group is a Swiss bank with $1.96 trillion in as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rclays Bank is a U.K. bank with $1.96 trillion in as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NP Paribas is a French bank with $1.90 trillion in as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itigroup is a U.S. bank with $1.88 trillion in as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F8B50711-7822-4F5D-B00D-00F852A0B1CA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ternational Commercial Banking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 of international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k diver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es of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 new product innovations internat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rtunity to find the cheapest and most available sources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the needs of domestic multinational corp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avo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F712B94B-61D3-463A-8C8E-26E6ECC38E6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ternational Commercial Banking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s of international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and monitoring costs are generally higher in foreign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 assets may be subject to nationalization or expropriation by host country gover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xed costs of establishing foreign organizations may be extremely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EDD4D37F-D81E-42D3-958E-07ADE4D56F59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Global Banking Performance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s in most regions of the world posted strong performance in the early and mid-200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tgage lending boosted revenue in France and Sp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 personal bankruptcies rose worldwide, U.K. banks’ profitability was maintained because of diversif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2001 the Japanese government backed the purchase of $90 billion of shares of Japanese banks in an attempt to avert a banking collap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Chinese state-run banking system deteriorated in the early 2000s, which caused China to ease restrictions on foreign bank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94A2BD0F-5FA1-4364-9890-3EC3D6485DF2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ial bank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largest group of financial institutions in terms of total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 assets are 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 liabilities are deposits—thus, they are consider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ository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 services essential to U.S. financial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y a key role in the transmission of monetary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payment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maturity interme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s are regulated to protect against disruptions to the services they per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CAA8CFB1-B7BA-4BD7-A867-04AA6110189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Ass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oa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nerate revenue for ban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ercial and industrial loans are declining because of nonbank substitutes such as commercial pap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tgages are increasing in impor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vestment securitie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 revenue and provide banks with liquid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h asset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held to meet reserve requirements and to provide liquid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ther asset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clude premises and equipment, other real estate owned, et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B49B0786-3FBA-402F-B4BC-A59A39F420F4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Ass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banks face unique risks because of their asset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dit (default) ris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risk that loans are not rep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quidity ris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risk that depositors will demand more cash than banks can immediately pro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t rate ris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risk that interest rate changes erode net w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, liquidity, and interest rate risk all contribute to a commercial bank’s level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olvency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8ADF0E85-2594-4F20-8E76-DAD5A645F8C4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Liabiliti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action accou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sum of noninterest-bearing demand deposits and interest-bearing checking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est bearing deposit accounts are called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egotiable order of withdrawal (NOW) accou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ehold (retail) savings and time deposi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been declining in recent years because of MMM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book savings accou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ail time depos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rge time depos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gotiable CDs are fixed-maturity interest-bearing deposits with face values of $100,000 or more that can be resold in the secondary mark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51F6CAFD-3297-447E-8543-D792DD3F2E1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Liabilities &amp; Equity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-deposit li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d funds purch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 and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levels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quit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are required by regulators to act as a buffer against l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and preferred 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plus or additional paid-in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AF84C7AE-8EF5-43ED-BC3B-F7915BD3857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Off-Balance-Sheet Activiti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banks engage in many fee-related activities that are conducted off the balance 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arantees such as letters of 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ture commitments to l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ative transactions (e.g., futures, forwards, options, and swa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-balance-sheet as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n event occurs, this item moves onto the asset side of the balance sheet or income is realized on the income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-balance-sheet 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n event occurs, this item moves onto the liability side of the balance sheet or an expense is realized on the income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FB1AC281-0CC6-42AB-AC2A-6537F0400BB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igle-Neal A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1994 allowed nationwide branch networks to evo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,483 banks with some 60,000 branches in 19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,350 banks with some 83,000 branches in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ancial Services Modernization A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ve commercial banks the full authority to enter the investment banking and insuranc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ustrial loan corporations (ILC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considered “non-bank” b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A25CFA0E-265E-405A-B9E4-E529424E4F8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megamerger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s a merger of commercial banks with assets of $1 billion or mo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Economies of scale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fer to the degree to which a firm’s average unit costs of producing financial services fall as its output of services increas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economies of sca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cur when the costs of joint production of FI services are higher than they would be if they were produced independ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Economies of scope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fer to the degree to which a firm can generate cost synergies by producing multiple financial service produc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X efficiencie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refer to cost savings due to greater managerial efficienc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selvam.p</cp:lastModifiedBy>
  <dcterms:modified xsi:type="dcterms:W3CDTF">2008-10-14T06:19:05Z</dcterms:modified>
  <cp:revision>230</cp:revision>
  <dc:subject/>
  <dc:title>FINANCIAL MARKETS AND INSTITIUTIONS: A Modern Perspective</dc:title>
</cp:coreProperties>
</file>