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AB6F-7A33-4FF8-9AD0-B3674DEF9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4E51-BFEE-4436-9DFF-42AA97712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D66A-1403-4149-A733-003CC49CE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8FEA-ADD1-47D1-95A1-4D29F084D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0A6C-D211-4C1A-92F7-89ACB660A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9A26-C055-49BE-8A19-6D1AFB2E3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67AC-A363-4418-90B3-D49C3784D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DEF7-0E35-464E-BDC6-0D2E6115D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F671-4D7E-4632-84FA-7EA61270E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7227-3CED-41DA-A210-01D1B2AB0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1127-271A-4AE7-8F18-E95C3681B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4EE8-A342-48C9-B4D0-73AFAA447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92B0-D3AA-46AE-B47D-2C3A259A5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73A4-B64C-4284-9D50-2755AEA5E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243B-E306-4B53-B97B-8A635DEF8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2B17-D558-4F23-9FBD-A1138576B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F3D2-A23E-4C21-9F38-93AD9BD47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C8D9-502C-4151-9C96-210FFCD7F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F44C-37C1-453A-9ADD-0B40905A0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AED9-4390-45B4-9377-A18B71316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B599-AC4D-41D0-BBF9-51AAA5F065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FF74B-54DD-4EDA-B7C2-4EA8D43A2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D9979-5199-4279-B857-1DB3F1582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1277-81CC-4DE5-AB17-DD384892CD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299E-9B1B-4ACF-B7B9-796FDFD208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44F-6A0E-4035-A555-55A9F6DBC0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956E-A2EA-4D07-AFCE-31737FFE26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C077-DD17-47C7-8442-E8D853FFF4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D251-E72F-43CE-BABB-1E6CE5A402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CA35-D5F0-42C1-989E-F858B75299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7096-D16C-47AD-8237-047F6A85B2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B6A52-8307-4310-B45F-9A890F8FC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E9ED-C74F-464D-A410-5D86D6B911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877-9EB2-4FA7-B553-8EC6E50316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23D5-FAF8-475A-9CF3-2647DDB996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0BF6-D774-4865-959B-41F0009552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92AC-D0FF-4AE6-9F66-0B1C1057445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E7748-D8C4-424D-99BE-BABA8621D4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B94CF-CD45-4DF8-A034-8F58E26CA7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CAB21-1212-4823-B866-AAC7419399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06618-718B-475E-8DF6-5E7C1220B0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806CD-2377-466A-AC87-EE9A2DFA98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1BE69-7AB3-48CA-9621-31BC78B1F3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6F320-D28D-4BBD-ADCB-5F57AAA26C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25014-6F12-477B-B3E1-15C4879881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498C9-CB43-407C-BB2D-EE3B002CDF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4DFAA-06D4-4E25-9EC6-388AD31763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62456-58AC-449F-B051-4BEB5B5382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A351A-12F7-4F08-B02D-B603447BBF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29B9A-4E50-4D40-B896-4951404C0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1236D-19CA-44A6-BC56-5A68F192A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D708-0119-45B6-810A-492A11F74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B927-8FC0-4A00-B130-D703B3D90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3112F-5F2E-49B2-811A-BA28E1775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2A28D-C080-4AC3-BB9E-8248A5FFE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EA6AC-3FC0-47B5-9139-D15FADEE9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9F379DB4-E696-4772-BE5D-25A24E8564F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D4223B74-B1CA-409D-A3AC-74B30A48BEB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5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A66B2DED-1E3B-4C3F-90FD-BDD13A59618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E0C8A3E3-1B16-4EBF-AD46-2ABB5D2B130A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190600" y="22860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Elev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490760" y="3505320"/>
            <a:ext cx="67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mmercial Banks: Industry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36DFEE82-E4CC-4796-8252-2E3FA694E5D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tail banking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consumer-orien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idential and consumer loans are funded by accepting small depos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mmunity bank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ize in retail ban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olesale banking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commerce-orien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ercial and industrial loans are often funded with purchased fu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gional or superregional bank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gage in a complete array of wholesale banking activ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ney center bank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y heavily on nondeposit or borrowed sources of funds often borrowed in 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ederal funds mark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E0962441-B430-4E31-A93C-57E27E7763F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larger banks generally lend to larger corporations, their interest rate spreads and net interest margins are usually narrower than those of smaller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est rate sprea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difference between lending and deposit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 interest marg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interest income minus interest expense divided by earning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banks tend to pay higher salaries and invest more in buildings and premises than small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banks tend to diversify their operations more and generate more noninterest income than small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D5DD9F72-BD7B-44AE-923E-AC442FA8AA9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dustry Performance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.S. commercial banks flourished during the economic expansion of the 1990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economic downturn of the early 2000s caused performance to deteriorate only slight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 2003 ROA and ROE had reached all-time high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e fourth quarter of 2006 mortgage delinquencies (particularly subprime mortgages) surg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sses from falling values of subprime mortgages caused fourth quarter 2007 net income to hit a 16-year lo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2B7AD3DC-EB46-48B9-A98D-15D9E137097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Wholesale Banking Servic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d disbursemen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 reconc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box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lock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s concen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funds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deposit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initiation of letters of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sury management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data inter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ing business-to-business e-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bi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ying id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sting small business entries in e-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72858065-792B-40FB-96AC-B6E7125278D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tail Banking Servic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utomated teller machines (ATM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int-of-sale (POS) debit ca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eauthorized debits and cred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ying bills via teleph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line ba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mart cards (stored-value) ca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net ba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ments existing business for already existing ba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 new internet-only banks have no “brick and mortar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B3D7FF89-DE81-4BD9-8080-3EBF39423B8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gulator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 Deposit Insurance Corporation (FDI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ures the deposits of commercial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.S. ha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al banking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banks can be either nationally or state char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fice of the Comptroller of the Currency (OCC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ters and regulates national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 agencies charter and regulate state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ederal Reserve System (FR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regulatory power over nationally chartered banks and their holding companies and state banks that opt in to the Federal Reserv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lding compan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a parent company that owns a controlling interest in a subsidiary bank or other 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F83E8987-AFE2-41A7-A3AB-9840A2C37B5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Commercial Banking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mercial banking has truly become an international and global mark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our largest banks in the world, as of 2007, are from four different count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BS Group is a Swiss bank with $1.96 trillion in as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rclays Bank is a U.K. bank with $1.96 trillion in as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NP Paribas is a French bank with $1.90 trillion in as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itigroup is a U.S. bank with $1.88 trillion in as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FA46F0BE-3F61-481E-8F44-6B077CC8A21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Commercial Banking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 of international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 diver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es of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 new product innovations internat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rtunity to find the cheapest and most available source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the needs of domestic multinational corp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avo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5573812C-E852-42B3-A386-2175823928A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Commercial Banking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 of international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and monitoring costs are generally higher in foreign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 assets may be subject to nationalization or expropriation by host country gover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xed costs of establishing foreign organizations may be extremely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5BBCA714-D046-43B9-B30F-24FDAB80C5F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Global Banking Performance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s in most regions of the world posted strong performance in the early and mid-200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tgage lending boosted revenue in France and Sp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 personal bankruptcies rose worldwide, U.K. banks’ profitability was maintained because of diversif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2001 the Japanese government backed the purchase of $90 billion of shares of Japanese banks in an attempt to avert a banking collap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hinese state-run banking system deteriorated in the early 2000s, which caused China to ease restrictions on foreign bank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27383058-5160-4BF6-A470-A2B5292DA6D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bank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largest group of financial institutions in terms of total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assets are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liabilities are deposits—thus, they are consider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ository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 services essential to U.S. financial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y a key role in the transmission of monetary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payment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maturity interme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s are regulated to protect against disruptions to the services they per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E9B921DD-4A75-4620-B2C5-92608CF0A16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Ass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oa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nerate revenue for ban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ercial and industrial loans are declining because of nonbank substitutes such as commercial pap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tgages are increasing in impor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vestment securitie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 revenue and provide banks with liquid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h asset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held to meet reserve requirements and to provide liquid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ther asset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clude premises and equipment, other real estate owned,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652D5027-6373-4B20-BAA5-2DADBA8D90F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Ass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banks face unique risks because of their asse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dit (default) ris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risk that loans are not rep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quidity ris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risk that depositors will demand more cash than banks can immediately pro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t rate ris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risk that interest rate changes erode net w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, liquidity, and interest rate risk all contribute to a commercial bank’s level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olvency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D70CDD57-2EE4-44E7-A19F-425356F3460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Liabiliti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action accou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sum of noninterest-bearing demand deposits and interest-bearing checking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est bearing deposit accounts are called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egotiable order of withdrawal (NOW) accou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hold (retail) savings and time deposi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been declining in recent years because of MMM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book savings accou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ail time depos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 time depos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gotiable CDs are fixed-maturity interest-bearing deposits with face values of $100,000 or more that can be resold in the secondary mark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3CCA70A1-E479-4F72-B5BB-A6E6E5D9183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Liabilities &amp; Equity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-deposit li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 funds purch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 and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levels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quit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are required by regulators to act as a buffer against l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and preferred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plus or additional paid-in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BAB3B4E3-A313-4033-85D3-C583080EBF2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Off-Balance-Sheet Activiti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banks engage in many fee-related activities that are conducted off the balance 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arantees such as letters of 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ture commitments to l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ative transactions (e.g., futures, forwards, options, and swa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-balance-sheet a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n event occurs, this item moves onto the asset side of the balance sheet or income is realized on the income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-balance-sheet 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n event occurs, this item moves onto the liability side of the balance sheet or an expense is realized on the income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0634DE85-530B-4962-A580-E19F2F2AE99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igle-Neal A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1994 allowed nationwide branch networks to ev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,483 banks with some 60,000 branches in 19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,350 banks with some 83,000 branches in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ancial Services Modernization A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ve commercial banks the full authority to enter the investment banking and insuranc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ustrial loan corporations (ILC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considered “non-bank” b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97DC9494-6FD1-4289-B45D-E861345360C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megamerger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s a merger of commercial banks with assets of $1 billion or mo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Economies of scale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fer to the degree to which a firm’s average unit costs of producing financial services fall as its output of services increas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economies of sca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ur when the costs of joint production of FI services are higher than they would be if they were produced independ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Economies of scope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fer to the degree to which a firm can generate cost synergies by producing multiple financial service produc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X efficiencie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refer to cost savings due to greater managerial efficienc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selvam.p</cp:lastModifiedBy>
  <dcterms:modified xsi:type="dcterms:W3CDTF">2008-10-14T06:19:05Z</dcterms:modified>
  <cp:revision>230</cp:revision>
  <dc:subject/>
  <dc:title>FINANCIAL MARKETS AND INSTITIUTIONS: A Modern Perspective</dc:title>
</cp:coreProperties>
</file>