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E7F7-D5A1-4F4E-9E4A-9D3DD61F2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AB47-098D-4012-9873-A445CA4FB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CA50-7FB6-465D-AB05-5316E1791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348C-9081-4304-A3DF-1FA160566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0B29-0B53-4EB8-A222-19C408D83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1EF9-4C7B-4F0D-8399-4E3A713A6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FBEB-EEF4-46FA-9E66-E364C7B5E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58D01-FF21-4F34-8DB4-022146D942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1532-1439-4C76-9B4F-3B1CA5CF9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1046-6393-4C0C-BADC-F45C22237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1FBA-C7F1-4706-B15A-EFE19EC8C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B6CB-8D93-4774-A98C-BBAAA34DF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9512-D166-4E4E-BDDC-F726802BA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84E0-A61D-4394-A295-13EB93C00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EE4E-73EC-4086-BB2C-B7EA0E10D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B408-8516-4421-AEE0-B8573C073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1F23-31C9-44ED-ADF9-07BB45560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29B6-2A72-43B9-9F97-CCD95CF69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F6F0D-8EED-42ED-BAC4-F16B8FCFC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93D9-7115-4D43-8943-AEDF1F2C3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1AA7F-66C8-474D-B91B-A42CDF709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28C1F-3D08-435A-BEF5-859DAD7AC7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1055-59B7-438A-8EAA-9947F8F09A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378E-5C59-4555-8A85-7EBA19F4A8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1F23-FA30-48AC-8008-7AF12F9395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954A-E64C-4204-976C-38535EA93A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2C8-CE99-4690-BFED-39FECE38D8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1CE7-B0A5-474B-BFA0-A9012BF39A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788A-424B-4753-BA41-3DC955F544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0CC-8B44-4BAA-8F77-9B9B83610A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A653-C473-4AB8-95A0-4A7F8D3FE5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2A23C-A532-4501-8E4C-BC4FEF0BC8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B1EE-4E6D-46DF-A6EC-66BCD53AE2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53F8-0717-410C-B43E-2E3AC87E353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C12B-4ACD-4642-AD60-CB9126B43E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E86-813E-4531-A782-DFE8A75524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58F-FD3C-4280-ADEC-86FCAA456D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BE700-5FA0-4FA4-AC9D-CF021DA8CE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A5B71-D9EF-4D3A-8F4B-6EFE052CC0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AA181-AA08-4073-BEBA-A372940224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04E8B-7992-4D31-8D59-094D26EE90C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033FD-6593-4D42-83F8-7724C1FC85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F2033-E6A0-4BD3-8441-F09515E58D8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BCF44-DFD7-4FB8-819E-3AF62E7385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59D90-5FB7-4CD3-B882-138B869344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9A14CC-ADBC-4801-BA61-D5A305F6B1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4934DA-8056-4098-B47F-2E72F4F82B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E968D5-BDDB-439E-AF63-36B530AAC4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6E6E9-8A5A-43C8-8045-08CD242A370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69D46-9836-4B8B-B661-F5783E461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FE03C-7E0B-42AD-9DF4-4D8F428CAB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F95F-3732-49C6-903E-6E7E0855A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8691-5F30-4D71-BC55-ACA6B815F5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96EEC-ADB7-42DA-8384-E78BC1A8F5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00192-4148-4586-9BB2-12B63AF192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1A15-7C4E-4F92-8C3A-29117A1E9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FD71513E-67C8-4EA7-B3B4-DF7B4193D23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58A838D0-1A65-47E6-A372-D526F535033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A23E9E4B-C237-4B03-BC9E-43E01DDB71F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EB4A99EF-59B3-4432-BBDD-1D4B50CABCB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Elev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490760" y="3505320"/>
            <a:ext cx="670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mmercial Banks: Industry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902D4BDE-552F-4829-ADF1-0CA3FB3B550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tail bankin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consumer-ori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sidential and consumer loans are funded by accepting small depos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mmunity bank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ize in retail ban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olesale banking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commerce-orient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ercial and industrial loans are often funded with purchased fu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regional or superregional bank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gage in a complete array of wholesale banking activ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money center bank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y heavily on nondeposit or borrowed sources of funds often borrowed in the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federal funds 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BED64921-4440-4D5E-B540-124FA9EB4EB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larger banks generally lend to larger corporations, their interest rate spreads and net interest margins are usually narrower than those of smaller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est rate sprea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difference between lending and deposit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 interest marg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interest income minus interest expense divided by earning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banks tend to pay higher salaries and invest more in buildings and premises than smal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banks tend to diversify their operations more and generate more noninterest income than smal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BEC18418-432F-4DDD-9DA9-775DEB3CC7C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dustry Performance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.S. commercial banks flourished during the economic expansion of the 1990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economic downturn of the early 2000s caused performance to deteriorate only slight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2003 ROA and ROE had reached all-time high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the fourth quarter of 2006 mortgage delinquencies (particularly subprime mortgages) surge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sses from falling values of subprime mortgages caused fourth quarter 2007 net income to hit a 16-year l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1F63B079-F2F0-4F34-95D4-CE9B7ACB19A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Wholesale Banking Servic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disbursemen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ount reconcil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kbox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lock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ds concen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funds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deposi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initiation of letters of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sury management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data inter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ilitating business-to-business 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ic bi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ing id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ing small business entries in e-comme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414CA502-9E31-45BA-B739-3532CB8C879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tail Banking Servic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utomated teller machines (ATM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oint-of-sale (POS) debit c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eauthorized debits and credi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ying bills via teleph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line ba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mart cards (stored-value) card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ternet bank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ments existing business for already existing ban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new internet-only banks have no “brick and mortar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5AA5FDF7-EEAD-4E8B-9769-B3C8816A578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gulator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Deposit Insurance Corporation (FDI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ures the deposits of commercia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.S. has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al banking syst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banks can be either nationally or state char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fice of the Comptroller of the Currency (OCC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ters and regulates national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agencies charter and regulate state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Federal Reserve System (FR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regulatory power over nationally chartered banks and their holding companies and state banks that opt in to the Federal Reserv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lding compan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a parent company that owns a controlling interest in a subsidiary bank or other 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558FB0AC-1DDA-4486-A4B7-1EB9A2F0B50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Commercial Banking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mercial banking has truly become an international and global 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our largest banks in the world, as of 2007, are from four different countri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BS Group is a Swiss bank with $1.96 trillion in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rclays Bank is a U.K. bank with $1.96 trillion in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NP Paribas is a French bank with $1.90 trillion in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itigroup is a U.S. bank with $1.88 trillion in as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5FCF4B19-2CD5-4B84-98B5-7C6AACE916D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Commercial Banking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of international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k diver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es of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 new product innovations internat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y to find the cheapest and most available source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the needs of domestic multination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avoi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C3A43F98-BEF0-4A4C-988A-7329BF7BC53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Commercial Banking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 of international expa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and monitoring costs are generally higher in foreign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assets may be subject to nationalization or expropriation by host country gove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xed costs of establishing foreign organizations may be extremely hi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259B9ED8-2E5C-4BC8-996F-8F68E6997C6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Global Banking Performance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s in most regions of the world posted strong performance in the early and mid-200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tgage lending boosted revenue in France and Spa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 personal bankruptcies rose worldwide, U.K. banks’ profitability was maintained because of diversif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2001 the Japanese government backed the purchase of $90 billion of shares of Japanese banks in an attempt to avert a banking collap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Chinese state-run banking system deteriorated in the early 2000s, which caused China to ease restrictions on foreign bank oper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3A7721E0-EBF5-49CE-A811-329E335C8F3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bank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largest group of financial institutions in terms of total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assets are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jor liabilities are deposits—thus, they are consider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ository instit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services essential to U.S. financial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 a key role in the transmission of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paymen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maturity intermed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 are regulated to protect against disruptions to the services they per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F185F396-5A24-41DD-8530-0A0FA3B24E8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Ass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oan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generate revenue for ban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ercial and industrial loans are declining because of nonbank substitutes such as commercial pap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tgages are increasing in impor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vestment securitie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enerate revenue and provide banks with liquid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ash asset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e held to meet reserve requirements and to provide liquid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ther assets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lude premises and equipment, other real estate owned, et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AA5F9BC1-4332-4319-A043-DCC1EB6C004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Ass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 face unique risks because of their asse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(default)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loans are not rep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quidity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depositors will demand more cash than banks can immediately pro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t rate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that interest rate changes erode net 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, liquidity, and interest rate risk all contribute to a commercial bank’s level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olvency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314D7B10-730D-4B52-8A2E-4E22417A734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Liabil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action accoun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 sum of noninterest-bearing demand deposits and interest-bearing checking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est bearing deposit accounts are called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egotiable order of withdrawal (NOW)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usehold (retail) savings and time deposi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been declining in recent years because of MMM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book savings accou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ail time depos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rge time depos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gotiable CDs are fixed-maturity interest-bearing deposits with face values of $100,000 or more that can be resold in the secondary mark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07752404-9A76-469E-B531-12AD445C996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Liabilities &amp; Equity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deposit li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d funds purch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s and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levels of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it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are required by regulators to act as a buffer against l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and preferred st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plus or additional paid-in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015A73D8-BCDD-4C8A-BCC6-6660AB5FD7A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ff-Balance-Sheet Activ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banks engage in many fee-related activities that are conducted off the balance 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arantees such as letters of 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ture commitments to l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ative transactions (e.g., futures, forwards, options, and swa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-balance-sheet 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n event occurs, this item moves onto the asset side of the balance sheet or income is realized on the incom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-balance-sheet li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an event occurs, this item moves onto the liability side of the balance sheet or an expense is realized on the income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5B26A116-431A-4A87-8DA5-09C78768399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igle-Neal A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1994 allowed nationwide branch networks to evol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,483 banks with some 60,000 branches in 19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350 banks with some 83,000 branches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nancial Services Modernization Ac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ve commercial banks the full authority to enter the investment banking and insuranc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ustrial loan corporations (ILC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considered “non-bank”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-</a:t>
            </a:r>
            <a:fld id="{2C6863DE-BC16-463B-9EEC-494486ED3BE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megamerger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is a merger of commercial banks with assets of $1 billion or mo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conomies of scal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fer to the degree to which a firm’s average unit costs of producing financial services fall as its output of services increas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economies of sca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ccur when the costs of joint production of FI services are higher than they would be if they were produced independ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Economies of scope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refer to the degree to which a firm can generate cost synergies by producing multiple financial service produc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X efficiencie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refer to cost savings due to greater managerial efficienc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selvam.p</cp:lastModifiedBy>
  <dcterms:modified xsi:type="dcterms:W3CDTF">2008-10-14T06:19:05Z</dcterms:modified>
  <cp:revision>230</cp:revision>
  <dc:subject/>
  <dc:title>FINANCIAL MARKETS AND INSTITIUTIONS: A Modern Perspective</dc:title>
</cp:coreProperties>
</file>