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B117-87C2-42B4-B39C-8BA96C885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E600-1B20-499B-9D47-6FDA6FB58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F3C9-D5F6-40A4-93C7-F9D052574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6FD4-26D8-4325-9519-D7CBF41B5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7A0F7-C285-4FEE-9C7B-B04969E9F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8827-6DD0-4224-925B-773CB4AFC1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E131-5158-435F-A54A-527E8F604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3505-EF68-4EE7-8FF0-AEBB42B788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5BFB-8E81-48CB-8099-FB4315DCF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131E-7EDC-414B-8E44-D5F166F9D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74F1-FB5B-41D3-828C-60D099C36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A714-9DF0-4076-BAE9-D3A501204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3293-CB82-4F99-87C3-0429987B8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09EA-978B-4F1A-B516-DC76CB0E9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5879-F2F3-4294-A18D-E3C003D9C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DEDB-8B40-458C-AB00-864052124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3E90-4BDD-4FB6-A437-E56E1231A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885D-CA1E-466A-B36D-B9A412319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2977-AEAD-4EEA-B5CF-BB2EA5D3F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547B-E1CB-42E5-87FB-13434D897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477A7-6F9C-4CE6-9BC6-1FD8245A2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96592-AE63-4A2C-B077-3D4F4F066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01462-4F39-4B3D-A67B-0E11ACD04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D82C-4097-4E02-93BD-35A3781861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14FC-160D-4C5E-B93A-926A38D5B7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69EE-63F5-4471-AD9F-3B569962BE3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38C-9F7C-4045-A729-64C367324F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C1ED-18DC-409A-9F17-2BADBD0CA4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CAF-D294-45FB-A4CD-D1276F103C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568-B122-416E-866A-6B3D08F3EB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CC9-A7EA-492A-986B-051737C10A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990-C89C-454C-830E-82A6A38D24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DCF4-F874-4E33-8EF8-8888721EC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DBD3-A21A-438D-BDE0-CB555B8DF0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368-92FE-42C8-9E10-B7A7887CBE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53AB-FB54-4BFF-950C-68F5536602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9E7-27A2-406C-9744-635180ACF4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1AB-E433-494B-B8FF-62178F9B7D9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E45A2-9FC4-4570-AACB-8EEE3A6998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0EE646-FEFA-4DB0-B868-0E9E2E2041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90740-6D83-4C24-824D-ABB2EC330C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E36FA-B4B2-4E4F-B6DD-F7BEA83180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C23FA-76CA-42F5-81F8-1DE8DA4D6E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0B322-9B82-43D6-8B1C-C88E8598A9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79FB8-E58A-4EF2-9795-59898FB7608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7BA74-7FF0-49A2-B639-FB9B401AD6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F08CF-7444-4730-8DD0-5ABE3E6842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72A35-44E1-4283-8D44-EBF6A896A8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AF673-20A7-4F2B-B8B1-36D381D6C3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4B6A7-6DB4-4248-9E39-DFB92CCF93C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2A316C-251B-4DE9-9E30-B1792CE7D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3C19F-4040-4FB5-8009-B9317DC1B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47339-FB9E-4BF4-A12F-6DD464219F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FD51-E8B6-4B69-8E4A-E343D85EDD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CD32-4059-4B98-A4C7-3DE831F5FB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6048-4FB1-4245-865E-287A82578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78A89-3481-45E8-80ED-44DD886A8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1E852174-50D3-4E15-B0FB-30A5AD6949A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05369C1F-9028-41A4-9E73-4C04024BE50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8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C2A9920E-CEAF-490E-A208-8D377AF2CDF1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-</a:t>
            </a:r>
            <a:fld id="{18C55E9A-6ADE-42D7-A0FE-FF823FD7E81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190600" y="2286000"/>
            <a:ext cx="626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Thirte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371600" y="3292560"/>
            <a:ext cx="67057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Regulation of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mmercial Ban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230940D5-8F4A-40E3-BF8F-59EA2BBAE23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Geographic Expansion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s 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ast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banks used to b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t bank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i.e., banks with single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97 only six states restricted intrastate bran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rictions 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rstat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cFadden Act of 192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amended in 193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tricted national banks from branching across state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 result, the largest banks were set up a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ltibank holding compan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MBH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MBHC is a parent banking organization that owns a number of individual bank subsidi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8DA3D051-03AB-4085-8436-7C903AE28DD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Geographic Expansion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uglas Amendme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BHCA of 19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states regulate MBHC expa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idiaries established prior to the passage of the amendment were consider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andfather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not subject to the l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70 Amendment to the BHC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1956 restricted the nonbank activities tha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e bank holding companies (OBHC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engage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OBHC is a parent banking organization that owns one bank subsidiary and nonbank subsidi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egle-Neal Interstate Banking and Branching Efficiency Act of 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consolidation of out-of-state bank subsidiaries into a branch network and allows interstate mergers and acqui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6D72B099-DC48-4389-8728-9797DABCC2D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posit Guarantee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 Deposit Insurance Corporation (FDIC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created in 1933 to maintain the stability of the U.S. bank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ed well until 197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October 1979 to October 1982 the Fed targeted bank reserves and let interest rates rise dra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d t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intermedi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i.e., the withdrawal of deposits from depository institutions and their reinvestment else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s were exacerbated by a policy of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gulatory forbear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—i.e., a policy of not closing economically insolvent depository institutions, but allowing their continued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6AC665F1-4143-4D4C-AC7C-A858AB9DF2D2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posit Guarantee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DIC Improvement Act (FDICIA) of 199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tructur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k Insurance Fund (B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mise of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 Savings and Loan Insurance Corporation (FSL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SLIC insured savings institutions from 1934 to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vings institutions failures in the 1980s led to an insolvent FSLIC by 19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ial Institutions Reform, Recovery, and Enforcement Act (FIRREA) of 198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solved the FSLIC and transferred its management to the F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vings Association Insurance Fund (SA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F7A06FA0-672E-470D-A5BE-401F8F0D6A7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Deposit Guarantee Fund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DIC introduc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k-based deposit insurance premium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January of 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1996 the safest institutions insured by the BIF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d no deposit insurance premi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1997 the safest institutions insured by the SAIF paid no deposit insurance premiu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the early 2000s over 90% of depository institutions were in the “safe” category that paid no deposit insurance prem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arch 2005 the BIF and the SAIF were merged into on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posit Insurance Fund (DI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January 2007 the FDIC began a more aggressive insurance system where all institutions pay into the f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F119FDCA-0135-45EC-8CB0-F2008ADF0D9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alance Sheet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quidity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s must hold minimum levels of reserves against net transaction acc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s that banks can meet required payments on liability claims such as deposit withdraw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Appendix 13c for more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adequacy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1987 U.S. commercial banks have faced two different capit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ier I capital risk-based rat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capital (Tier I + Tier II) risk-based rat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95A52238-85A6-4707-93D7-9363DEDA660D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alance Sheet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adequacy regula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er I capi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composed of the book value of common equity plus an amount of perpetual preferred stock plus minority equity interests held by the bank in subsidiaries minus goodw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er II capit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cludes secondary capital resources such as loan loss reserves and convertible and subordinated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-adjusted ass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clude both on- and off-balance-sheet assets whose values are adjusted for approximate credi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tal risk-based capital rati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al to the sum of Tier I and Tier II capital divided by risk-adjusted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er I (core) capital rati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al to Tier I capital divided by risk-adjusted ass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71E3546A-79FC-412E-9164-24968EABCF7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Balance Sheet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 adequacy regulation (continu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1991 banks have also been assessed based on thei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pital-to-assets (i.e., leverage) 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ital-to-assets ratio = core capita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 tota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not account for market values, riskiness of assets, or off-balance-sheet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December 1992 regulators must tak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mpt Corrective Action (PCA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and when a bank falls outside of the “well capitalized”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-based capital ratios were phased in b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nk for International Settlement (BI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untries (the U.S. included) by 1993 under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el Ac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E0E44079-F81C-42CA-96E2-3E2CA1118EF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ff-Balance-Sheet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 earn fee income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-balance-sheet (OB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engaging in OBS activities, banks can avoid regulatory costs such as reserve requirements, deposit insurance premiums, and capital adequacy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ks must report notional values of OBS activity on Schedule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 activity is incorporated into the total risk-based capital ratio and the Tier I capital ratio, but not the leverage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A94A0FA1-A4EA-48F8-A307-23238E0FCA4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oreign vs. Domestic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ion of U.S. banks in foreign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seas Direct Investment Control Act of 196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tricted U.S. banks’ ability to lend to U.S. corporations to make foreign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rth American Free Trade Agreement (NAFTA) of 199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nabled U.S. banks to expand to Mexico and Can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1997 agreement between 100 countries (under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ld Trade Organization (WTO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egan dismantling barriers inhibiting foreign direct investment into emerging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25FFCC7C-987D-493B-A083-4F88902EE85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 provide many uniqu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, liquidity, price-risk reduction, transaction cost, maturity intermediation, and payment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ey supply transmission, credit allocation, intergenerational wealth transfers, and denomination interme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ure to provide these services can be costly to both users and suppliers of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ly, commercial banks are regulated at the federal (and sometimes state)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CEA3B112-3DA1-4001-941C-5646181BED7E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Foreign vs. Domestic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ion of foreign banks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tional Banking Act (IBA) of 197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lared foreign banks are to be regulated the same as national domestic ba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eign banks are subject to Federal Reserve exam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Foreign Bank Supervision Enhancement Act (FBSEA) of 199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ave additional powers to the Federal Rese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d must approve new subsidiary, branch, agency, or representative offices of foreign banks in the U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d has the authority to close foreign banks operating in the U.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foreign banks with access to the FDIC can accept consumer depos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licensed foreign branches are regulated as national bran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7A6CEE77-9B99-4661-B5D1-252F19C8F5B9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ty and soundness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ets must be diversified: cannot make loans greater than 10% of their equity capital to any one 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maintain adequate equity capital levels to protect against insolvency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sion of guarantee funds such as the Deposit Insurance Fund (DIF) protects depositors in the event of default and prevents bank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ing and surveillance: banks must submit (publicly accessible) quarterly reports and are subject to on-site exam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7114201C-D620-431A-B62D-96A61BAA7B06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etary policy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entral Bank (the Federal Reserve) directly controls the quantity of notes and coin (i.e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side mone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n the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the bulk of the money supply is held as bank deposits, calle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side mo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s require cash reserves to be held at commercia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1018B7AB-E95F-473F-9E86-54103B28DB24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 allocation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s encourage (and often require) lending to socially important sectors of the economy (e.g., housing and farm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ry laws cap interest rates that can be charged on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estor protection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s investors against insider trading, lack of disclosure, malfeasance, and breach of fiduciary respon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AA3AD56A-8B4E-42AF-AEAE-32976DE8674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y and chartering reg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try of commercial banks is regu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missible activities of commercial banks are defined by reg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rriers to entry and the scope of permissible activities allowed affects the charter values of banks and the size of the net regulatory bu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t regulatory burd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difference between the costs of regulations and the benefits for the producers of financial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D50344B8-6FD8-4F6F-AB05-8FD3E34A4ECA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Commercial Bank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ederal Deposit Insurance Corporation (FD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ffice of the Comptroller of the Currency (OC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ederal Reserve System (F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ur facets of regulatory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ion of product and geographic expa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sion and regulation of deposit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sheet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-balance-sheet re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2745FE5D-819F-4A0E-B960-54EF1EB55110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egmentation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ing vs. investment ban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ercial ban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deposit taking and l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ment ban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underwriting, issuing, and distributing secu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lass-Steagall Act of 193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sed a rigid separation between commercial and investment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1987 commercial banks were allowed to engage in limited investment banking activity throug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tion 20 affili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ncial Services Modernization Act (FSMA) of 199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ealed Glass-Steag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4"/>
          <p:cNvSpPr/>
          <p:nvPr/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3-</a:t>
            </a:r>
            <a:fld id="{DAEA51B6-5BD4-4316-BF18-BEEF405B111C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5"/>
          <p:cNvSpPr/>
          <p:nvPr/>
        </p:nvSpPr>
        <p:spPr>
          <a:xfrm>
            <a:off x="228600" y="65340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fbe"/>
              </a:gs>
            </a:gsLst>
            <a:lin ang="27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egmentation Regul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ing vs. insurance under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Bank Holding Company Act (BHCA) of 195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stricted insurance companies from owning or being affiliated with commercial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SMA of 1999 now allows bank holding companies to open insurance underwriting affiliates and also allows insurance companies to open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 banks and comme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HCA of 1956 restricts commercial firms from acquiring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70 Amendment to the BHC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banks to divest nonbank related subsidi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33:33Z</dcterms:modified>
  <cp:revision>254</cp:revision>
  <dc:subject/>
  <dc:title>FINANCIAL MARKETS AND INSTITIUTIONS: A Modern Perspective</dc:title>
</cp:coreProperties>
</file>