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C98-5298-44B7-AAA4-11B9D695D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5F1F-E24D-42C0-ACF5-C8224BDB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DEB-4DEE-44F3-8DB4-6415BCE6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4A0-57D0-48D0-B0DB-CE2DDB3F8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90C-B1CD-4219-B4A7-CC98B560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451-CEE2-4AD0-AE00-2D50F3BB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CB68-8385-4507-AF96-A90B7B63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DC38-1146-4504-AC7A-50F7104B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59A-8872-41FA-B7AC-B251C7A4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45F-7E31-48DE-97F0-40969A7D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151-FB64-4693-8DFE-BC06A006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18FC-E0DE-4E8B-9F2F-48782A46A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95C-5AA9-4E35-8CD6-655E7089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B21-300A-477B-8F91-D281F2D2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5350-600F-435B-AA95-EB5E45A2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123-F7BF-4BA8-B55A-1554239F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1BB-EA4F-4440-B78D-BD869239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8EB-C301-4D3D-9149-D7A48386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1ED-25CB-4B6D-8F1E-F5DE10948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22E9-5AEE-414A-949B-06D202560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220-D997-401A-932A-6B97A2141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5633-9D96-49DE-8E31-599729D32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C1A4-8C7B-47E8-81A4-FA174A62B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1E90-EB3E-41EE-B7C8-9A46F1A33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E166-60C8-400F-962D-49F03F871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A07-154A-4B99-973A-FCE631FC0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326-11BF-4BD7-8295-F50A32339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3AE-1270-4BAE-95D8-A8787E83D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527-6345-4242-A4BC-1E9C95F2B8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4FA-D9C1-4B38-986F-D53DEBB6C8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8C8-B8A5-427F-B6F4-5EE9812AA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18D-1B7E-42B0-A2EF-5165DABA8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A460-327E-40C6-9592-AAE401FB0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722-775F-4CB7-A5B1-6B9BE2D2CF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3BB-EFF2-4E20-90F9-3745DDAD9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58F-DEB8-4DBD-8AEA-11072C0E9A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CE-1900-406A-997D-0E3FAC0696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ECC-C84D-413A-A09C-CF11D67BF6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9BA12-37D7-4124-9344-71806842DC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42354-3EDF-4BA5-AB53-DB3538662D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73F6C-2B68-496A-A0B2-4E9314021D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700F6-6A4D-4371-AB87-5B97856F09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DA4D-0293-4052-BF97-69A64E24A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7EB-31F9-42CD-BFEE-A11F8022FB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6AC80-F725-4D48-9664-7F0B840E94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C112-4FB6-4AD3-8C77-BCA10015AF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3944D-0E05-4CD9-9BBB-C8E29B9521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DD349-92FA-4C32-845C-06FA877991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DB06-0DAC-44AA-A05F-9063E50108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6B0D-3608-45FA-AA0E-3CF1C44736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6960-8322-4522-87EC-9566A0649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DC61-A945-47C0-9CA6-C03FFEA16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96A5-93CE-4E82-BA24-E789D5762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178D-7E97-4268-9281-14B8D0199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4503-8E16-4FD8-8DF3-C1039AE9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6562-731A-4DDB-87A4-DC6E9E73F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6185-606E-40F6-95A8-374AFE82F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AC0E5394-076D-428A-B47A-1EFD8DAF886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2B76EBF1-5BB4-4919-B408-6D8CE497F1C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4ADC8BC0-EDDC-41C6-88F3-62335A2C4EE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6CECFAAE-A2E8-4EF6-9C02-1DE3EDCCC7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Thir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71600" y="3292560"/>
            <a:ext cx="6705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gulation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7DDFCAC6-129B-4DE8-B4A2-21802C239E0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eographic Expans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ast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anks use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ba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i.e., banks with single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7 only six states restricted intrastate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st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Fadden Act of 19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mended in 193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national banks from branching across stat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result, the largest banks were set up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bank holding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BH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MBHC is a parent banking organization that owns a number of individual bank subsidi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526585C4-F7FD-4A99-A4AC-A48E96DCA63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eographic Expans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las Amend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BHCA of 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states regulate MBH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idiaries established prior to the passage of the amendment were consider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dfath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ot subject to th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 Amendment to the BH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1956 restricted the nonbank activities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bank holding companies (OBHC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enga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OBHC is a parent banking organization that owns one bank subsidiary and nonbank subsidi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egle-Neal Interstate Banking and Branching Efficiency Act of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consolidation of out-of-state bank subsidiaries into a branch network and allows interstate mergers and 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478DA33B-582A-4A4B-BADE-1E801C6B79A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created in 1933 to maintain the stability of the U.S. ban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d well until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ctober 1979 to October 1982 the Fed targeted bank reserves and let interest rates rise dra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the withdrawal of deposits from depository institutions and their reinvestment else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were exacerbated by a polic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ulatory forbea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a policy of not closing economically insolvent depository institutions, but allowing their continued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3A0BDEFE-7904-4146-8E58-C8329D8DC71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DIC Improvement Act (FDICIA) of 19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uctur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 Insurance Fund (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mis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Savings and Loan Insurance Corporation (FSL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SLIC insured savings institutions from 1934 to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s institutions failures in the 1980s led to an insolvent FSLIC by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Institutions Reform, Recovery, and Enforcement Act (FIRREA) of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lved the FSLIC and transferred its management to the F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vings Association Insurance Fund (SA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4E8F70E2-CD8E-4B5A-A956-F6D94D55748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DIC introduc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-based deposit insurance premiu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of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96 the safest institutions insured by the BI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d no deposit insurance prem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97 the safest institutions insured by the SAIF paid no deposit insurance prem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early 2000s over 90% of depository institutions were in the “safe” category that paid no deposit insurance 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rch 2005 the BIF and the SAIF were merged into o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 Insurance Fund (D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2007 the FDIC began a more aggressive insurance system where all institutions pay into th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B6BAC12E-E141-41B2-AB36-96AA678E6CC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ity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s must hold minimum levels of reserves against net transactio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that banks can meet required payments on liability claims such as deposit withdra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ppendix 13c for mor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1987 U.S. commercial banks have faced two different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r I capital risk-base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apital (Tier I + Tier II) risk-base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E93C863E-72F8-4294-BCA1-9BA3CB57DF1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 cap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omposed of the book value of common equity plus an amount of perpetual preferred stock plus minority equity interests held by the bank in subsidiaries minus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I cap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s secondary capital resources such as loan loss reserves and convertible and subordinate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-adjusted as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 both on- and off-balance-sheet assets whose values are adjusted for approximate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risk-based capital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sum of Tier I and Tier II capital divided by risk-adjust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 (core) capital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ier I capital divided by risk-adjust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B67C8303-D5CE-432D-9ADF-18D151A1F30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1991 banks have also been assessed based on the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ital-to-assets (i.e., leverage)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-to-assets ratio = core capit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tot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ccount for market values, riskiness of assets, or off-balance-shee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December 1992 regulators must tak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pt Corrective Action (PC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and when a bank falls outside of the “well capitalized”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-based capital ratios were phased in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for International Settlement (BI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ries (the U.S. included) by 1993 und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l Ac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B7F9E764-3790-4A39-AC30-02226AAF0D1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earn fee income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(OB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ngaging in OBS activities, banks can avoid regulatory costs such as reserve requirements, deposit insurance premiums, and capital adequac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must report notional values of OBS activity on Schedul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 activity is incorporated into the total risk-based capital ratio and the Tier I capital ratio, but not the leverag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3883B432-8D83-4745-8970-2F5D6B79B24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vs. Domestic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of U.S. banks in foreig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seas Direct Investment Control Act of 196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U.S. banks’ ability to lend to U.S. corporations to make foreign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American Free Trade Agreement (NAFTA) of 199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abled U.S. banks to expand to Mexico and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997 agreement between 100 countries (unde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Trade Organization (WT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an dismantling barriers inhibiting foreign direct investment into emerg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A8562C0-DE5C-4416-AAA0-E7D258890FD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provide many uniqu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liquidity, price-risk reduction, transaction cost, maturity intermediation, and paymen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upply transmission, credit allocation, intergenerational wealth transfers, and denomination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provide these services can be costly to both users and suppli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ly, commercial banks are regulated at the federal (and sometimes state)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7C9F0EC-439C-4274-B863-FFDCB262B7E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vs. Domestic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foreign banks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anking Act (IBA) of 197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lared foreign banks are to be regulated the same as national domestic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banks are subject to Federal Reserve exam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eign Bank Supervision Enhancement Act (FBSEA) of 19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ve additional powers to the Federal 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 must approve new subsidiary, branch, agency, or representative offices of foreign banks in the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 has the authority to close foreign banks operating in the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foreign banks with access to the FDIC can accept consumer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licensed foreign branches are regulated as national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627F6F7-9EB2-41AE-8A97-A8EE5139C6B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 and soundness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s must be diversified: cannot make loans greater than 10% of their equity capital to any one 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aintain adequate equity capital levels to protect against 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of guarantee funds such as the Deposit Insurance Fund (DIF) protects depositors in the event of default and prevents bank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and surveillance: banks must submit (publicly accessible) quarterly reports and are subject to on-site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AA619B0E-AA06-4EEC-BD29-6D669C6E77F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polic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ral Bank (the Federal Reserve) directly controls the quantity of notes and coin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mon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bulk of the money supply is held as bank deposits,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id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require cash reserves to be held at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4630C44C-3F38-4F5F-87A2-1D11F1E1A60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allocation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encourage (and often require) lending to socially important sectors of the economy (e.g., housing and fa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ry laws cap interest rates that can be charged on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or protection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s investors against insider trading, lack of disclosure, malfeasance, and breach of fiduciary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A4CDB7E-52B9-4B4D-B4A7-4A8915D5716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y and chartering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of commercial banks is reg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missible activities of commercial banks are defined by reg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rriers to entry and the scope of permissible activities allowed affects the charter values of banks and the size of the net regulator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 regulatory bur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fference between the costs of regulations and the benefits for the producers of financi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B8E06C60-025E-496D-8BA5-379EFD22FE2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Deposit Insurance Corporation (FD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fice of the Comptroller of the Currency (O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ur facets of regulatory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product and geographic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and regulation of deposit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shee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balance-shee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F034AD77-28B5-4B06-9F1F-9D3B806CBF3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egmentat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ing vs. 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deposit taking and l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underwriting, issuing, and distribu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ass-Steagall Act of 193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ed a rigid separation between commercial and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87 commercial banks were allowed to engage in limited investment banking activity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20 affil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Services Modernization Act (FSMA) of 19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ealed Glass-Steag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4624B30B-7472-4B01-AC53-5D91B33658E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egmentat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ing vs. insurance under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nk Holding Company Act (BHCA) of 19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insurance companies from owning or being affiliated with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SMA of 1999 now allows bank holding companies to open insurance underwriting affiliates and also allows insurance companies to open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HCA of 1956 restricts commercial firms from acquir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 Amendment to the BHC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banks to divest nonbank related subsi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3:33Z</dcterms:modified>
  <cp:revision>254</cp:revision>
  <dc:subject/>
  <dc:title>FINANCIAL MARKETS AND INSTITIUTIONS: A Modern Perspective</dc:title>
</cp:coreProperties>
</file>