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AF4D-CD28-4F95-ABD3-42160AA65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2F6B-8B6E-4AB4-B84D-E6E67F602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8DF1-5747-41ED-AEB8-4E68A23EA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93F5-11BC-43D4-BC5B-37D18BA25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F67B-8D3F-4DF6-AFF6-E97A3B4AC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D547-9398-470E-8E16-DE0FEE90E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ECDE-5C97-4088-A04F-244C65FE5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471D-5F60-42FE-B3A2-5EDA82EFE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ED05-9D6C-49FF-8790-69A8245BD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31BF-3F03-4A09-8F8A-3C0FA8AFD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ED0F-EDD2-41C1-91D7-0CE286F08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162D-EA76-4957-853D-91A67589B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B235-DA72-4BA1-AFF8-50AB658B6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83BE-A227-4724-B25F-874463D61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2E1C-5E3D-49DC-96D7-1DC7961E6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986B-FAA1-4A2D-8E59-86B1A4E7D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AF78-FC27-44EC-91DB-AF4FF4E85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0216-5785-44B4-891B-41D922387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61CF-5E5E-425E-8ECF-CE33E2D05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D147-CFD5-4C57-A315-31811C542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225A-1B9A-44FD-A869-1A30FC843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BE0E-1691-4FAE-BC3B-E81F2DBB6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F584-7647-4D3E-8E28-60E1F7220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53C-1B0E-4C06-B431-C638E0CD94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9CB-78BE-4F7C-8F19-2A0D91D21F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B7C-AE43-4BEB-975E-BD440716AF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B2D-D71C-4B68-9AE7-BDCE4EBAAB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D713-732F-4C45-9491-64F8B7D762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D82-B86F-4471-B20E-0A5B5083ED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11F-D98B-4DB4-80C7-1006575F10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903D-8443-487F-9F07-80941B740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12D-F7B0-4ADC-A800-FBE4FE78A9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343-7739-497D-9227-8BCF6B72F9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96C9-B3A2-40F4-810F-EFCAC87858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3D1-4E3A-4716-A3F3-98135E9164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79D-1A1A-46F5-BF0A-B18998916D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ACE7C-71BD-4087-AB9F-1850E85E4B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F2EA9-6ED4-43E6-B886-3F9BF48396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45FFE-32BE-4D48-9E81-202FD58FE7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F45C1-EDB3-469F-97DB-3F76B2DBC0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C9C01-D05A-4F7E-87B1-915FD4C067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FC44-4D28-4C4F-BA06-7E806CCB46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367D8-CCF8-4783-B2F2-931A1C1F27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C9605-4CC5-42D1-8EEE-C82A198DEB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99F53-5DBD-49F2-A4DA-FA125C3EA4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B6456-A10C-47EC-A097-63ECD8A7D3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ABC0A-EE73-44E8-B917-9BC61F6283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3E919-CC5A-40BB-8F4A-64293EDA50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8CE8A-2660-4D1F-BE2E-1D859A9C9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162A-826F-42D3-A931-886091BF7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0F79-E2B3-4050-AB95-B3C68839A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8F4A-E5F4-4EAB-B469-A08D3002F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6EE8-C439-410B-9050-A8FA996AA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695E-D0C5-4B96-81E2-D3E5D66D7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6B2F-B085-472D-ABF8-AB1163C6B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7CCC8A75-1889-4560-88C4-83E0EE86A8E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A2B148A8-CDD5-494F-8E73-2845093EB7E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1F00C7FC-C581-4A8C-89CB-3C8CBA29DCF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F86CC186-A408-4DAF-9D44-FC96020C9F0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190600" y="2286000"/>
            <a:ext cx="626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Sixte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0" y="34290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Securities Firms and Investment B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6FFDA16C-48C0-43A5-BD6D-05AB003C5D3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nture capi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VC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professionally managed pool of money used to finance new (i.e., start-up) and often high-risk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 usually purchases an equity stake in the start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become active in management of the start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 venture capital firms find and fund the most promising new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nture capital limited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venture capital fi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porate venture capital fi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9EFFA7B6-E6BC-4F50-8BFA-E66136256D9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y trends depend heavily on the state of the stock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income declined markedly after the 1987 stock market crash and the 2001-2 stock market dec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in the U.S. economy in the mid-2000s led to increases in commission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 fell with the stock market in 2006-8 because of rising oil prices and the subprime mortgage colla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B9354B97-12EC-4485-B740-EADC5C1120B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alance Sheets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 (2007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 pos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od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 24.1% of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purchased under agreement to res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 21.6% of total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sold under agreement to repurc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 41.5% of total liabilities and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quity capi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ounted to 3.0% of total liabilities and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s to 10.1% for commercia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 requires minimum net worth to assets of 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4D37D955-0C87-4B30-9B25-B1F5952E79B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and Exchange Commission (SE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rimary regulator of the securities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Securities Markets Improvement Act (NSMIA) of 199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ffirmed federal (over state)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so, state attorneys general intervene through securities-related investigations that have led to many highly publicized crimina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4E49D293-0969-4621-8F05-485D7125780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rbanes-Oxley Act (SOX) of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an independent auditing oversight board under the 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penalties for corporate wrongdo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d faster and more extensive financial dis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avenues of recourse for aggrieved shar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0C40C558-7C3F-4081-8E95-5465F38DDB5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C sets rules governing underwriting and tradin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 Rule 144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boundaries between public offerings and private pla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 Rule 4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ow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lf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firms that plan to offer multiple issues of stock over a two-year period to submit one registration statement summarizing the firm’s financing plans for th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4983A223-7297-421F-AE05-DC1DC9656A4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f-regulatory organiz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see the day-to-day regulation of trading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York Stock Exchange (N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Association of Securities Dealers (NAS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.S.A. Patriot 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came effective in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s must verify identities of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s must maintain records of identities of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s must verify customers are not on suspected terrorist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81221179-71BD-44D8-BC72-6844F1EFFB6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is protected by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urities Investor Protection Corporation (SI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s investors against losses of up to $500,000 due to securities firm failures (but not against poor investment decis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following passage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Investor Protection Act in 19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FB201196-9668-4BB2-ACC4-D9C84F2410C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Global Issu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ies firms and investment banks are by far the most global of any group of financial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 firms are increasingly looking to expand their business abroad—particularly into China an I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682AF489-1161-4293-8129-679A2FC23F3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stment banks (IB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corporations and governments raise capital through debt and equity security issues i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mary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wri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ssisting in the issue of new secu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 also advise on mergers and acquisitions (M&amp;As) and corporate restru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fi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 in the trading of securitie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-deal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ist in the trading of existing secu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511F4BFB-20BC-4368-AB81-578257336BE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industry is usually measured by the equity capital of firms rather than total asse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argest firm in 1987 had $3.2 billion in total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argest firm in 2007 had $114.2 billion in total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firms in the industry usually follows the overall condition of the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248 firms in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,515 firms in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808 firms in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ith commercial banks, consolidation has occurred through mergers and acqui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E8555959-950F-46B9-A9AE-88B41FA9212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rgest firms in the industry are diversified financial service firms or national full-service I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both retail and wholesale customers by acting as broker-dea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corporate customers by underwriting securit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largest group of firms are full-service firms that specialize in corporate finance or primary market activity (i.e., focus less on secondary market activi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003FD38F-877E-45C4-AF51-B984D38A659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hird group of firms includes the rest of the industry and is further divided into five sub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 subsidiaries of commercial banks (i.e., Section 20 subsidia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 bro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al securities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electronic trading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ure capital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8910DA7B-F007-4255-8B14-3B3F01553A2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stment ba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ime debt and equity issues occur throug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public offerings (IP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issues from a firm whose debt or equity is already traded a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soned equity offerings (S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plac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curities issue that is placed with one or a few large institutional inv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offering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offered to the public at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 act only as an agent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t efforts under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 act as principal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m commi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DDA573AC-7A03-447B-98FE-127BEC9F1F4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 mak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the creation of secondary markets for an issue of secu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cy trans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wo-way transactions on behalf of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cipal trans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ket makers seek to profit for their ow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lves taking an active net position in an as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on tr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relatively long-term positions in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E88DAF41-F7C6-4B76-B8B0-48FB3A61A0C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e arbit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attempts to profit from price discrepa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arbit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attempts to profit by forecasting information rel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tr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imultaneous buying and selling of at least 15 different stocks valued at $1 million or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 brok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trading on behalf of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ic brok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fers customers direct access, via the internet, to the trading 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ECD7F83F-4782-4E30-AAC9-A2C35C89A52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lves managing pools of assets such as closed- and open-end mutual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cip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h manag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lves deposit-like accounts such as money market mutual funds (MMMFs) that offer check writing privile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rger and acquisition (M&amp;A)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34:33Z</dcterms:modified>
  <cp:revision>256</cp:revision>
  <dc:subject/>
  <dc:title>FINANCIAL MARKETS AND INSTITIUTIONS: A Modern Perspective</dc:title>
</cp:coreProperties>
</file>