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F24F-6F60-4C2A-9A71-4AFFF7F67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2E8-5509-4D26-BFE5-B87B16ECF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CFE-FD3D-4555-9F4E-EF73230A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8A6-92DA-498E-8F85-CCABA11EE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A0A9-DD39-45E8-BC24-1E8C9D02F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1BC-C013-4F20-A1F2-38CBAED4F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A1C8-C2D4-4FE1-80E9-946499B3E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B63F-0D10-4ED9-A8AF-0A8E8E42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5E8-3363-46A5-96B3-D7C36D82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FE8A-CBD6-4922-B97A-5931C7656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C3CA-AE3A-4ADC-A31D-CCC33984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8A85-3DBE-4B5B-A095-5DE1B371A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6E77-351B-4A04-99B8-707EC351A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49B-6DB5-4A33-AAE5-1D47F6F86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079B-CFDE-428E-8F03-0A7D20F10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EF6-37A6-44B2-A675-CC081AD2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BDDE-EF6D-471B-90F1-6FA5F53FC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892A-4AE2-42A5-98CA-E3D7CAC3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46E2-C14A-4AA5-A384-F5B5BF468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FD53-85B8-4501-8A10-230CB70E2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5F83-D636-4308-84AF-60C843244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41BA-2398-480C-8EC8-3D73B69D8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0CDE-AFF8-4380-9F38-B04618700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6BE-F615-4EA1-A0D0-7D512B466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FD3E-DD15-4EB9-83E8-0266A191A7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4FB-97BB-4D38-8E3C-81F8FD7BCF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F21-C0F0-4503-A59A-0E063F1F8A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157-A639-424F-B758-B3C048184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B80-8CE3-4884-9722-4F96E175C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F8D-E66F-437A-951D-C7E5FD5CBB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98B7-1E29-4EA8-A3C2-1EB0504B7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FE4-9861-4345-A2A7-847BE5E50D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7BC-2603-4E03-949C-942A957C1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4F9-C54B-4EEC-BB60-609E7B58C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EE9-22A4-41C3-AE34-4A6AF44B6F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A78-4A81-452D-B64B-1EE3A6F005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C0342-3A55-4311-AA0C-E82B5686B7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4D713-4C27-4470-9741-FD61303B3F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A447-DB3A-477D-A39C-0D9B1E318F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EB20E-B3C2-421E-B34C-E7408BBE1D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D973F-C595-4FD3-9200-6EB16CADA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61A5-BE4A-4496-9474-B0A7B2E3E7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B3FFA-F661-45FB-ABAB-BA68E2B778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B934E-8CF0-47B1-98F7-DA02EE9C74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8733A-AF76-4E06-8F30-F2E78043EA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448BC-09B2-466A-842E-C880DAA7F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9C61-15CB-441C-9475-89593D538D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EE85-D23E-40C7-B73D-2778C5DCE1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9BE54-7F93-4087-87CD-0E09DF158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A7B6D-ECB3-46C0-A70C-63461EA4F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960E-0CF6-41D2-94B7-BD553E396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6892-1320-4D54-9B23-7DABA2456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61BB-AAF4-4B42-A472-E80E5C4A6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889A-57D6-43E1-AC2E-EDCB75269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F2C70-C34A-4C55-8B96-F765EE6054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2D81277-FE83-4229-9310-9557C10BB23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1FE9C8F6-7E49-4B7B-8FC1-B6ADF461D9C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D1623719-8C5B-42E5-A734-A58311BB234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1C2B3EE0-CF46-4C4F-9F80-003E7E90A79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te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ecurities Firms and Investment B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AB3DA88-9E42-42E9-BDD1-069B7BB302F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nture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rofessionally managed pool of money used to finance new (i.e., start-up) and often high-risk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 usually purchases an equity stake in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become active in management of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venture capital firms find and fund the most promising new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ure capital limited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F2546E1-633B-4959-9401-E42496CD1B3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trends depend heavily on the state of the stock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income declined markedly after the 1987 stock market crash and the 2001-2 stock market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in the U.S. economy in the mid-2000s led to increases in commission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fell with the stock market in 2006-8 because of rising oil prices and the subprime mortga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02A45D0-ABDA-4F56-8804-A65F80A2254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lance Sheets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 (2007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4.1% of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purchased under agreement to res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1.6% of 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sold under agreement to re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41.5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unted to 3.0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to 10.1% for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requires minimum net worth to assets of 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FAB0F07-E367-42EE-B81B-A860A2BE5DF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imary regulator of the securities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ies Markets Improvement Act (NSMIA) of 19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ffirmed federal (over state)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o, state attorneys general intervene through securities-related investigations that have led to many highly publicized crimi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2900759-DB95-49EF-B5EB-6EB09B843CC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rbanes-Oxley Act (SOX) of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n independent auditing oversight board under the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penalties for corporate wrongdo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faster and more extensive financial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venues of recourse for aggrieved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331516D-B5B6-48D2-A8FC-7B86212EDA7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 sets rules governing underwriting and trad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144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oundaries between public offerings and private 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4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irms that plan to offer multiple issues of stock over a two-year period to submit one registration statement summarizing the firm’s financing plans for th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4762972E-E651-438C-BFAE-17D3A92B8FD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regulatory organ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see the day-to-day regulation of trad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(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(NA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A. Patriot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me effective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maintain records of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customers are not on suspected terrorist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92A37A7-0EE3-4DBE-952B-747E8A4345E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is protected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ies Investor Protection Corporation (SI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investors against losses of up to $500,000 due to securities firm failures (but not against poor investment dec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following passage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Investor Protection Act in 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647056D-CD48-4E4D-9580-2037A935BA1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Issu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ies firms and investment banks are by far the most global of any group of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firms are increasingly looking to expand their business abroad—particularly into China an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1BB3A982-2103-4986-AAD0-91FE5AD0C27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s (IB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corporations and governments raise capital through debt and equity security issues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wri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ssisting in the issue of new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lso advise on mergers and acquisitions (M&amp;As) and corporate rest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fi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 in the trading of securitie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-dea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st in the trading of existing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3527883-2456-4ADD-84A0-84DA1052D51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industry is usually measured by the equity capital of firms rather than total ass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1987 had $3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2007 had $114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firms in the industry usually follows the overall condition of 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248 firms i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,515 firms in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808 firms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commercial banks, consolidation has occurred through mergers and acqui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0B18CB3-121A-4A95-8D36-385C37B9CDD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firms in the industry are diversified financial service firms or national full-service 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both retail and wholesale customers by acting as broker-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corporate customers by underwriting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largest group of firms are full-service firms that specialize in corporate finance or primary market activity (i.e., focus less on secondary market activ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A10BD1A-3FA8-4969-A6D5-0460189AD9A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ird group of firms includes the rest of the industry and is further divided into five sub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subsidiaries of commercial banks (i.e., Section 20 subsidi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 br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securities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electronic trad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ure capit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0942B03F-B127-49C9-8E14-4A5F7F0B0AF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me debt and equity issues occur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s (I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ssues from a firm whose debt or equity is already traded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equity offerings (S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curities issue that is placed with one or a few large institut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ffer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ered to the public at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only as an agen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B89739FC-CE5F-450E-ACAD-E91E9377064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ma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the creation of secondary markets for an issue of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cy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wo-way transactions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 makers seek to profit for their ow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taking an active net position in an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relatively long-term positions i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5D32896F-7214-4C24-B7E5-50BCC3B4087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from pric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by forecasting information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t least 15 different stocks valued at $1 million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trading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fers customers direct access, via the internet, to the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F0C5F2F-000A-424F-856A-3C7D3FBB0BA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managing pools of assets such as closed- and open-end mu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h manag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deposit-like accounts such as money market mutual funds (MMMFs) that offer check writing privil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ger and acquisition (M&amp;A)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4:33Z</dcterms:modified>
  <cp:revision>256</cp:revision>
  <dc:subject/>
  <dc:title>FINANCIAL MARKETS AND INSTITIUTIONS: A Modern Perspective</dc:title>
</cp:coreProperties>
</file>