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FDCB-5886-425B-8ED4-97D2A9DE5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F7AD-1F6C-4415-9A7B-0A941BCF7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7C8F-E93E-4D56-8EAD-A2E588C59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1239-AD0F-4FFA-99DB-995CA8BE6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85E5-5AA5-44D6-AF7F-7E0462527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4904-2673-45C5-9E7B-47BCC77B9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9C64-515A-44DF-A88C-4786044A2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0C68-6A5D-406B-9D34-38F2D83AB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CFA5-9A88-43FE-B84F-1D31AA690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5949-A735-4BC6-BAEC-385155DCE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7E18-5F56-4826-ACA6-CCDBDB6E5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3218-C121-4F75-95A7-B13D759A9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FFB0-5562-494F-8BAB-1E48ACFC4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FF8F-7F9E-406F-B854-BC1048682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417A-DC92-4494-A72F-BDD364CB3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BB18-0B74-4F75-81AF-EE594DECE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3490-F7AD-4A7B-A11A-E5C841735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1DEA-76C3-4EB0-83A3-9FA91077E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5A67-03EF-4044-81C0-878FE5596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180D-3E8F-4119-B70A-F4E15922C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1180-91E0-4C02-B26A-168932B24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79B5-B27E-4A4D-819E-FB6D5163A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249E-81B7-4320-A79F-966A7A67F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593-7587-4685-BA31-A42DBA6C7F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569-F08A-4CF0-8AE7-4EAA50AEAC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088-3440-4A3B-90DA-F6C32B824D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4DB-0FA4-4F81-9DF8-9DE92A1FF6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EB30-4906-4F8E-B367-613BC63F13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2933-1868-444A-B045-5920183BE7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43B-4618-4339-B54B-857737B950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9EBE-B944-41F7-8DFB-97199DE56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346D-11C9-4BE7-AAD5-EF618AFCE2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8A9B-715D-4C18-AC7D-DB0B1A02BF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CE1-1CFB-4AD8-A575-4EF96217F2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40B1-E585-4BB1-BB17-2F3B9D1CAA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5F52-90D7-45CA-B7CD-5E307AE126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098BA-63EB-4C9F-A661-B7790069BB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67588-13AB-4FDE-85B5-5D6E1861DC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AB340-0A89-4E0F-99B6-C6DE1784C0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CA143-9A89-4E45-B2AF-2CE5B19661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E33B4-7D6D-4352-BD57-DEA4B8DC7E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DE2B-F0FF-4F5C-AC06-C185690E01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07E7B-79AF-4FED-AA63-FCC5AAF642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DFBFA-696D-4455-A4F8-B15F41D940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025FA-EB60-43E4-A94D-50DB9A8B17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66FEE-8588-4BBC-B17E-9766AB6106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AC54E-C262-49E7-814C-B9C03ABF8D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ED0CE-33D8-4F5A-B0B4-C82C3C8E01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CC909-3ECB-44D9-8212-0109D812ED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7446-B0A5-419F-810E-EE00676C4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412C2-E958-4335-9B40-3F18082E1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B63A-A2D3-45A7-B74D-908231E55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D88E-7A45-425B-865E-8DAA84B60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76F27-70C2-4FD5-B148-686947BD9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56FD-4A4B-47B0-A75A-6F851CAFD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684868CB-49CE-4EB6-BC5D-AFE7FA2AF6D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977E67FF-2410-4863-AFDF-EC7CFC92042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5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5CF3B4BB-D687-4B65-8780-29A00892229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8D492611-1F32-493E-8433-8DF93861416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190600" y="2286000"/>
            <a:ext cx="626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Sixte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0" y="34290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Securities Firms and Investment B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5DB65C6F-5375-493E-961F-8CF849D67E7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nture capi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VC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professionally managed pool of money used to finance new (i.e., start-up) and often high-risk fi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 usually purchases an equity stake in the start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become active in management of the start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 venture capital firms find and fund the most promising new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nture capital limited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venture capital fi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porate venture capital fi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DB1FFB40-1B4C-4018-BE1A-33C85CA48AF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y trends depend heavily on the state of the stock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 income declined markedly after the 1987 stock market crash and the 2001-2 stock market dec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in the U.S. economy in the mid-2000s led to increases in commission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e fell with the stock market in 2006-8 because of rising oil prices and the subprime mortgage colla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0BE60BC2-B5BF-4327-8309-80B4FB29062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alance Sheets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 (2007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ng pos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od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 24.1% of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 purchased under agreement to res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 21.6% of total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 sold under agreement to repurch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 41.5% of total liabilities and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quity capi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mounted to 3.0% of total liabilities and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s to 10.1% for commercial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 requires minimum net worth to assets of 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0678E35B-14BB-42B9-9025-F5143FC8EEA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gulation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 and Exchange Commission (SE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primary regulator of the securities 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Securities Markets Improvement Act (NSMIA) of 199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ffirmed federal (over state)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so, state attorneys general intervene through securities-related investigations that have led to many highly publicized crimina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FA2F3A22-2C24-4258-9DDA-572DC9EBC62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gulation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rbanes-Oxley Act (SOX) of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an independent auditing oversight board under the 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penalties for corporate wrongdo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ed faster and more extensive financial dis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avenues of recourse for aggrieved shar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EB91386D-04FB-457E-8718-69E7777D808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gulation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C sets rules governing underwriting and tradin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 Rule 144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boundaries between public offerings and private pla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 Rule 4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ow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lf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firms that plan to offer multiple issues of stock over a two-year period to submit one registration statement summarizing the firm’s financing plans for the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A21A814E-FE65-4360-80F9-6A1A55428C5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gulation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f-regulatory organiz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see the day-to-day regulation of trading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York Stock Exchange (NY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ional Association of Securities Dealers (NAS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.S.A. Patriot 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came effective in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s must verify identities of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s must maintain records of identities of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s must verify customers are not on suspected terrorist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88E9735D-D00F-4C8C-925B-A43D7CBDE0A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gulation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is protected by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urities Investor Protection Corporation (SI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s investors against losses of up to $500,000 due to securities firm failures (but not against poor investment decis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following passage of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 Investor Protection Act in 19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3EEDDC1B-3912-469C-9D9A-D2A1DBA466B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Global Issu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ies firms and investment banks are by far the most global of any group of financial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S. firms are increasingly looking to expand their business abroad—particularly into China an In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675E8C8D-45F3-4D0D-B5D1-296D3E1A1E9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stment banks (IB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corporations and governments raise capital through debt and equity security issues i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mary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writ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ssisting in the issue of new secu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 also advise on mergers and acquisitions (M&amp;As) and corporate restru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 fi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st in the trading of securities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-deal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sist in the trading of existing secu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19CAA062-ECCC-4F1D-853A-E0453D2551A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industry is usually measured by the equity capital of firms rather than total asse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argest firm in 1987 had $3.2 billion in total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argest firm in 2007 had $114.2 billion in total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firms in the industry usually follows the overall condition of the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248 firms in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,515 firms in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808 firms in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ith commercial banks, consolidation has occurred through mergers and acqui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EE734E00-83F3-4F42-A99E-EE94574429D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rgest firms in the industry are diversified financial service firms or national full-service I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both retail and wholesale customers by acting as broker-dea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corporate customers by underwriting securit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largest group of firms are full-service firms that specialize in corporate finance or primary market activity (i.e., focus less on secondary market activit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7A98D2F0-D62D-4677-A3C6-4A3F9C3029B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hird group of firms includes the rest of the industry and is further divided into five sub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 subsidiaries of commercial banks (i.e., Section 20 subsidia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 bro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al securities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electronic trading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ure capital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0AD048C5-C960-4494-835A-4D010DCC306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stment ba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ime debt and equity issues occur throug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public offerings (IP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issues from a firm whose debt or equity is already traded a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soned equity offerings (S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plac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curities issue that is placed with one or a few large institutional inv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offering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offered to the public at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 act only as an agent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t efforts under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 act as principal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m commi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3EC16E3A-B145-41CD-B792-DAEC3D19EF4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 mak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the creation of secondary markets for an issue of secu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cy transa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wo-way transactions on behalf of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cipal transa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ket makers seek to profit for their own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volves taking an active net position in an as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on tr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relatively long-term positions in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B5A39E44-C2F4-4902-AEA9-9BFFFD55238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e arbit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attempts to profit from price discrepa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 arbit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attempts to profit by forecasting information rel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tr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imultaneous buying and selling of at least 15 different stocks valued at $1 million or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k brok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trading on behalf of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ic brok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fers customers direct access, via the internet, to the trading 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CA44294A-262F-4C3D-9265-BEC30ECD6F8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volves managing pools of assets such as closed- and open-end mutual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cip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h manag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volves deposit-like accounts such as money market mutual funds (MMMFs) that offer check writing privile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rger and acquisition (M&amp;A) as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9-10T09:34:33Z</dcterms:modified>
  <cp:revision>256</cp:revision>
  <dc:subject/>
  <dc:title>FINANCIAL MARKETS AND INSTITIUTIONS: A Modern Perspective</dc:title>
</cp:coreProperties>
</file>