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431F-8CBA-40DD-916B-4E0C3B4DC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9349-96C2-41E5-AC4C-604B8A2F0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7EB75-C18A-48D1-9878-F14ECC58F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89CF-9FD1-4B7B-9F7C-0C3794FCE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E837-3FEC-41B0-9181-F776E3ACD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3D9D-A82A-4C47-8BA2-EB9DD6172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981A4-30F1-4A9A-B509-7BE49B2DD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ABEA-2BA9-401E-ABEA-46A3854C7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5408-58AC-47FD-984D-BA09DA0EE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14A0-4CB3-462C-8E7A-7FF6AA751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327A-DE9B-4A37-8147-E6859534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A4C0A-7403-4C36-9717-287797D1E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AF6C-FA0C-4A64-87D9-A2477261D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A26C-0244-4F87-B023-A32C2D5E0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B406-7D67-4C4D-A182-7BDEC2CC6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47E-59F5-44AA-A6E1-766E55F8F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634E-FFB6-4408-B4B1-164E5535E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8BE6-439F-4C8A-9ED9-D9481C99D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EB4-1B11-4AC2-8F2F-CBDA50FA5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C055-31BC-4AA7-86CF-9533E70FF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433EE-AD19-4DDD-8CE1-0EDB04C00A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DEC2-2FE3-4AA9-8206-27A7A2A7C1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6BBD0-FB14-4EBF-956C-37F5EFE3E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0E27-D3A9-464C-9E3A-F39CCE7E32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9EA6-0BAC-4644-813C-E0EBE96FB8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11AC-1B1C-4D50-B410-1C2463E31C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97E4-F000-4322-B773-08564C58C9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F33E-17B4-410F-9F0E-EAE918D1A82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3E9-D5C6-47B2-A91E-DC27D4CA43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1C7-C39D-455E-9323-42F28698D8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219C-A9EB-46FD-82AD-4266C853E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5EC-E543-4127-9379-3BCFB45F93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04A7-2E4A-43B6-8F76-7ED120F354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4CA4-CBBC-4B57-936D-EBC01A4324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2790-6802-4976-B83E-F8539AEE5F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1D6F-2ECA-413B-854D-EFC80BD64F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09FF0-9EAC-494F-A044-C245443E58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88C8B-9D74-4B9B-9A4B-F4FE46549E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F0A22-E21C-4AF9-9CE3-CEA0BC4D5A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EE81D-3B86-4AB4-89E9-1FD9FF4C07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23755-D892-44DA-8B34-479715CFF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B4A41-7413-4858-B8BD-95D7709635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5CD18-60E9-40E2-8846-F3D6DB312A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07FF5-42F7-4938-8A56-54C8E5F0EC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76A4D-42ED-4147-84E0-D75CC7D2CE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6B03C-A039-4F65-97DD-9F6E80B34F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56929-95B5-49E5-9477-360D538BE0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0F3D3-A1C7-446A-93DE-D3B686F2AD6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D2A39-06EA-4C4C-96BE-6537DD1AD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504AE-17B8-4E6D-95AD-A08C3B45A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ECE0-64EF-44CE-9FC7-D15738BB77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CA5FC-CBD7-48BC-AC50-F5EA4A8C1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BB03-48BE-40B2-A799-EF4F556AA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F8165-F9B0-4E88-A3FB-4AFD76289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D287-2865-4B6F-A197-5C747FE18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6DFD6DEE-B213-4DAE-B80B-A0EA278B93C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15C10F71-AA3B-46D2-89F2-FE36A2E4F31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EF4E4624-B7F7-48B4-B5EF-CF2724A31B4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CC144CEA-413E-4A56-ACA5-AEA47B9B090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ixte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34290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Securities Firms and Investment B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208F826-C5B9-4277-871C-7F453A4EFDC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nture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VC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professionally managed pool of money used to finance new (i.e., start-up) and often high-risk fi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 usually purchases an equity stake in the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become active in management of the start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 venture capital firms find and fund the most promising new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nture capital limited partner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venture capital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porate venture capital fi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370FD028-2A00-4BBE-A975-6C7C1C39C8F5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y trends depend heavily on the state of the stock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ssion income declined markedly after the 1987 stock market crash and the 2001-2 stock market dec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in the U.S. economy in the mid-2000s led to increases in commission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ome fell with the stock market in 2006-8 because of rising oil prices and the subprime mortgage collap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270C7826-4284-4810-A4A8-E86EB8EB54C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alance Sheets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 (2007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ng posi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od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24.1% of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purchased under agreement to rese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21.6% of total as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sold under agreement to repurcha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present 41.5% of total liabilities and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quity capit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mounted to 3.0% of total liabilities and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s to 10.1% for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 requires minimum net worth to assets of 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9BA51348-94EA-435F-9EFB-249046C69B7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and Exchange Commission (SE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rimary regulator of the securities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Securities Markets Improvement Act (NSMIA) of 199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ffirmed federal (over state)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so, state attorneys general intervene through securities-related investigations that have led to many highly publicized criminal c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293E7CB9-F6CC-44CD-959D-8AE446C4A25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rbanes-Oxley Act (SOX) of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n independent auditing oversight board under the 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penalties for corporate wrongdo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ced faster and more extensive financial discl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avenues of recourse for aggrieved sharehol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4BF292F-B774-4028-9041-3A7E9844480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C sets rules governing underwriting and trading a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 Rule 144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boundaries between public offerings and private pla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 Rule 4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ow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lf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irms that plan to offer multiple issues of stock over a two-year period to submit one registration statement summarizing the firm’s financing plans for the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887BDA3-D36C-47DE-9FF7-B5E6DD31AB3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lf-regulatory organiz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versee the day-to-day regulation of trading prac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York Stock Exchange (NY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ional Association of Securities Dealers (NAS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.S.A. Patriot A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came effective in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verify identities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maintain records of identities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s must verify customers are not on suspected terrorist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C74F9693-BC6A-4237-9D38-4B21CC9F4B2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gulation of Securities Firms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and 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ustry is protected by th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urities Investor Protection Corporation (SI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cts investors against losses of up to $500,000 due to securities firm failures (but not against poor investment dec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d following passage of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Investor Protection Act in 19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7EC5DB30-A078-44A9-B4D3-802FF4326B2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lobal Issu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ies firms and investment banks are by far the most global of any group of financial instit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S. firms are increasingly looking to expand their business abroad—particularly into China an In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D0278694-D067-4D27-8663-4CCED490B557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ment banks (IB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corporations and governments raise capital through debt and equity security issues in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mary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derwritin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ssisting in the issue of new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lso advise on mergers and acquisitions (M&amp;As) and corporate restru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urities fi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 in the trading of securitie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ar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roker-dea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sist in the trading of existing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8D589169-F821-4F97-BDA4-E858DABE2BEB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ze of the industry is usually measured by the equity capital of firms rather than total asset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rgest firm in 1987 had $3.2 billion in tot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argest firm in 2007 had $114.2 billion in tota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firms in the industry usually follows the overall condition of th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248 firms in 19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,515 firms in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,808 firms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commercial banks, consolidation has occurred through mergers and acqui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FFD29D0A-C60C-4509-8857-5DADF75068C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rgest firms in the industry are diversified financial service firms or national full-service I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both retail and wholesale customers by acting as broker-dea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corporate customers by underwriting security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cond largest group of firms are full-service firms that specialize in corporate finance or primary market activity (i.e., focus less on secondary market activ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70802F38-F831-4320-B2C8-A1FF6738A6E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hird group of firms includes the rest of the industry and is further divided into five sub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 subsidiaries of commercial banks (i.e., Section 20 subsidiar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unt bro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onal securities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electronic trading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nture capital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E4A4462-009F-43B3-B8C2-79F5EB33CEEF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ment 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time debt and equity issues occur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itial public offerings (IP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issues from a firm whose debt or equity is already traded are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asoned equity offerings (S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place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securities issue that is placed with one or a few large institutional inv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 offering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ered to the public at 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ct only as an agent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st efforts underwr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Bs act as principals i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m commi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6308A432-B2CE-4167-8299-B697BF18325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rket mak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the creation of secondary markets for an issue of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cy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two-way transactions on behalf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 transac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rket makers seek to profit for their own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taking an active net position in an as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ition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relatively long-term positions in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21971175-2D7C-4D9C-A25C-11FAABE519E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re arbit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attempts to profit from price discrepa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 arbit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attempts to profit by forecasting information rel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am tra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imultaneous buying and selling of at least 15 different stocks valued at $1 million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ck brok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trading on behalf of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broker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fers customers direct access, via the internet, to the trading fl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-</a:t>
            </a:r>
            <a:fld id="{A114FF5A-E90F-45B6-B33A-4DF659BA4D78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ecurities Firms and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Investment Banks (IBs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ves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managing pools of assets such as closed- and open-end mutual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ncip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h manag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lves deposit-like accounts such as money market mutual funds (MMMFs) that offer check writing privile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rger and acquisition (M&amp;A) ass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4:33Z</dcterms:modified>
  <cp:revision>256</cp:revision>
  <dc:subject/>
  <dc:title>FINANCIAL MARKETS AND INSTITIUTIONS: A Modern Perspective</dc:title>
</cp:coreProperties>
</file>