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move the slide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CEEFA-8F32-4AEF-85AD-99CD772DE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ED6D7-67D4-46A6-956E-A1C657719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25F70-B031-4817-BD45-8B1752E44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D43B8-17E5-4663-B212-B4133B35B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88638-0D29-42E7-843B-F527245AAA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D6532-7033-4939-BDA9-6EAFF36834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220F3-0864-4488-AB21-91F0EF0835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DC281-2E3F-4F12-B22B-C291FBD844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4B3D6-9E04-48D0-99EC-410BC7E9A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31EE4-0B09-4A6F-B821-4C74E41AD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D1D8D-61BB-40D9-9842-EFE458705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4EBAC-63AF-45C3-8F6A-CCEF7F3889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F14E-6E53-434D-B31A-D9D45B8B38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52129-F4FC-4E22-A291-734DF0FD58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CB491-3852-451A-AFF5-3F4661C5B0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2C7DB-837B-4980-B2A1-43F5BD022E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D24D8-5D25-449A-837A-83DE6B1109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09DAA-C2C5-4E6C-A0CA-0CA330341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9B4DC-1549-4B98-AD50-A5DE025D1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AA7C1-B5DF-4F0B-8560-E791B90FA7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BE302-D087-498E-8730-996E61B11D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03FC7-6B67-476F-8D0D-2E50923248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5A93C-CAD4-4A0A-9F71-CD83B0F24C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8583-29B9-46D8-B25B-535204C1E13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A2CE-DD20-4FDE-AB2D-54407637797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A39C-AD96-44E6-9F33-11C90F43BD3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D983-5189-4378-8F81-DE57224D652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688C-1E04-4F9B-BA15-6B9431E0BB0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B18C-9015-460D-99A5-6A49AC67FE6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8AE9-BE99-40CC-9F5D-3E5B31C2A9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8E3FB-78CC-4CD1-9268-B7890FFCE3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8D22-8395-45BF-86B7-F33E15FE72D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5941-2143-454E-B301-56E075EE738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2A91-9E68-4554-89B5-418C3F7012D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F316-35F4-42D0-B4F2-63B8F740C51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8A9F-94CF-46BF-BA63-809B90663CF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32A1B2-CDA0-46B7-9B13-1BAFB061DC8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F0989C-D74E-4441-A02D-81257FE5A7D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CE53A0-73BF-442A-80BA-9C17AF8A1ED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53EFD1-F60B-440B-BB40-3E2B36CF887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B72508-54CE-45B7-A353-70E739AB03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81D6D-F4F1-482A-99E9-D9F182922B0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7E0DE7-5557-4509-944F-60881907C29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C2730D-0AAC-4372-87BE-85F253A6E8F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B46654-3792-487B-A38B-E06DD2D6F30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3CAAA9-57C3-47EE-9AE6-5793A4A7866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4FBC2D-A67C-4FAE-935D-67F56C4579E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B7750E-845E-4172-9B93-669048A00F1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118843-0CB3-4AC1-8C7B-4190531C10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90E02-C568-4719-883E-56801C4C3B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9929C-1E27-48E1-921D-A9BB60283F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5437A-7050-4E3A-BD15-36EE5A0156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B2FCA-D994-4CE5-AF5F-9C0525D2F7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5A6FB-53C6-4E77-8CCA-0A592CA4B4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34339-7F33-45AD-B120-7D07AC6E0A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-</a:t>
            </a:r>
            <a:fld id="{57853E50-8BA0-417D-8590-C54470C57527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240" y="65336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449568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2009, The McGraw-Hill Companies,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449568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2008, The McGraw-Hill Companies,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-</a:t>
            </a:r>
            <a:fld id="{DD2CE77F-238D-413C-85F7-83C13A0BAE3E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228240" y="65336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8"/>
          <p:cNvSpPr/>
          <p:nvPr/>
        </p:nvSpPr>
        <p:spPr>
          <a:xfrm>
            <a:off x="449568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2008, The McGraw-Hill Companies, All Rights Reserve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5"/>
          </p:nvPr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-</a:t>
            </a:r>
            <a:fld id="{2480663A-AB4A-4009-9BAC-E47E413D7F01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6"/>
          </p:nvPr>
        </p:nvSpPr>
        <p:spPr>
          <a:xfrm>
            <a:off x="228240" y="65336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3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-</a:t>
            </a:r>
            <a:fld id="{CC5BDF3C-8838-4056-AB09-EFAEF483D8D4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0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2190600" y="2286000"/>
            <a:ext cx="6496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Arial"/>
              </a:rPr>
              <a:t>Chapter Nineteen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0" y="3429000"/>
            <a:ext cx="6705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Types </a:t>
            </a:r>
            <a:r>
              <a:rPr b="0" i="1" lang="en-US" sz="4400" spc="-1" strike="noStrike">
                <a:solidFill>
                  <a:srgbClr val="cc0000"/>
                </a:solidFill>
                <a:latin typeface="Arial"/>
              </a:rPr>
              <a:t>of</a:t>
            </a: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 Risks Incurred </a:t>
            </a:r>
            <a:r>
              <a:rPr b="0" i="1" lang="en-US" sz="4400" spc="-1" strike="noStrike">
                <a:solidFill>
                  <a:srgbClr val="cc0000"/>
                </a:solidFill>
                <a:latin typeface="Arial"/>
              </a:rPr>
              <a:t>by</a:t>
            </a: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 Financial Institution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7"/>
          <p:cNvSpPr/>
          <p:nvPr/>
        </p:nvSpPr>
        <p:spPr>
          <a:xfrm>
            <a:off x="2286000" y="3276720"/>
            <a:ext cx="6400800" cy="0"/>
          </a:xfrm>
          <a:prstGeom prst="line">
            <a:avLst/>
          </a:prstGeom>
          <a:ln w="12600">
            <a:solidFill>
              <a:srgbClr val="feed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0" descr=""/>
          <p:cNvPicPr/>
          <p:nvPr/>
        </p:nvPicPr>
        <p:blipFill>
          <a:blip r:embed="rId2"/>
          <a:stretch/>
        </p:blipFill>
        <p:spPr>
          <a:xfrm>
            <a:off x="6477120" y="3657600"/>
            <a:ext cx="2068560" cy="27241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9-</a:t>
            </a:r>
            <a:fld id="{0FB7899B-4D4A-4C14-8CB4-2F6BBB1AAD6F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Risks at Financial Institution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f-balance-sheet (OBS) ris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risk incurred by an FI as the result of activities related to contingent assets and li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S activity can increase FIs’ interest rate risk, credit risk, and foreign exchange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S activity can also be used to hedge (i.e., reduce) FIs’ interest rate risk, credit risk, and foreign exchange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commercial banks (CBs) in particular engage in OBS 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-balance-sheet assets of all U.S. CBs totaled $10.8 trillion in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notional value of OBS items totaled $180.6 trillion in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9-</a:t>
            </a:r>
            <a:fld id="{8EA8D731-5746-4584-A115-CB7CB7EE50A7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Risks at Financial Institution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 risk 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S activities can affect the future shape of FIs’ balance she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S items become on-balance-sheet items only if some future event occ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etter of credi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LOC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a credit guarantee issued by an FI for a fee on which payment is contingent on some future event occurring, most notably default of the agent that purchases the L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examples inclu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an commitments by ban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rtgage servicing contracts by savings instit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itions in forwards, futures, swaps, and other derivatives held by almost all large F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9-</a:t>
            </a:r>
            <a:fld id="{A9EFBB41-A083-4AAD-AB95-81F32A0F127C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Risks at Financial Institution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eign exchange (FX) ris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risk that exchange rate changes can affect the value of an FI’s assets and liabilities denominated in foreign curr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s can reduce risk through domestic-foreign activity/investment divers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s expand globally throu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quiring foreign firms or opening new branches in foreign coun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vesting in foreign financial ass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on domestic and foreign direct and portfolio investment are not perfectly corre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derlying technologies of various economies dif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hange rate changes are not perfectly correlated across coun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9-</a:t>
            </a:r>
            <a:fld id="{FF149726-AAE4-4ABF-8BFC-D195C4EEF61D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Risks at Financial Institution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X risk 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t long pos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a foreign currenc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volves holding more foreign assets than foreign li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 loses when foreign currency falls relative to the U.S. dol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 gains when foreign currency appreciates relative to the U.S. dol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t short pos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a foreign currenc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volves holding fewer foreign assets than foreign li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 gains when foreign currency falls relative to the U.S. dol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 loses when foreign currency appreciates relative to the U.S. dol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FI i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ully hedg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it holds an equal amount of foreign currency denominated assets and liabilities (that have the same maturiti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9-</a:t>
            </a:r>
            <a:fld id="{E35E6D9C-35B9-48BA-B70B-7ED6E926AC49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Risks at Financial Institution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untry or sovereign ris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risk that repayments from foreign borrowers may be interrupted because of interference from foreign gover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ers from credit risk of FIs’ domestic ass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th domestic assets, FIs usually have some recourse through bankruptcy courts—i.e., FIs can recoup some of their losses when defaulted firms are liquidated or restruct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eign corporations may be unable to pay principal and interest even if they would desire to do 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eign governments may limit or prohibit debt repayment due to foreign currency shortages or adverse political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9-</a:t>
            </a:r>
            <a:fld id="{5EC0CF60-7D3A-4FF9-A332-0431FFBE370F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Risks at Financial Institution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ry or sovereign risk 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us, an FI claimholder may have little or no recourse to local bankruptcy courts or to an international claims cou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suring sovereign risk includes analyz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trade policy of the foreign gover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fiscal stance of the foreign gover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tential government intervention in the econom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foreign government’s monetary poli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pital flows and foreign invest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foreign country’s current and expected inflation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structure of the foreign country’s financial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9-</a:t>
            </a:r>
            <a:fld id="{C68A8F21-E7A8-4467-A8DB-FA3949E4CDBD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Risks at Financial Institution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chnology ris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rational ris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closely 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chnology ris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risk incurred by an FI when its technological investments do not produce anticipated cost sav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major objectives of technological expansion are to allow the FI to exploit potential economies of scale and scope b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wering operating 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reasing prof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pturing new mar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perational ris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risk that existing technology or support systems may malfunction or break d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BIS defines operational risk as “the risk of loss resulting from inadequate or failed internal processes, people, and systems or from external event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9-</a:t>
            </a:r>
            <a:fld id="{6DA7F289-7C3B-4C50-98AD-AC140924045D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Risks at Financial Institution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solvency ris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risk that an FI may not have enough capital to offset a sudden decline in the value of its assets relative to its li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olvency risk is a consequence or an outcome of one or more of the risks previously describ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, market, credit, OBS, technological, foreign exchange, sovereign, and/or liquidity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lly, the more equity capital to borrowed funds an FI has the less insolvency risk it is exposed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regulators and managers focus on capital adequacy as a measure of a FI’s ability to remain solv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9-</a:t>
            </a:r>
            <a:fld id="{4D49EB5A-857E-46C2-8C65-B8B7D14A0F6D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Risks at Financial Institution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her risk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actions among ri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reality, all of the previously defined risks are inter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.g., liquidity risk can be a function of interest rate and credit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managers take actions to mitigate one type of risk, they must consider such actions on other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es in regulatory policy constitute another type o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cret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vent-specific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 discrete or event specific risks inclu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r, revolutions, sudden market collapses, theft, malfeasance, and breach of fiduciary tru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croeconomic risk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de increased inflation, inflation volatility and unemploy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9-</a:t>
            </a:r>
            <a:fld id="{FEA06469-95E8-498B-85EE-347FEC6C51B3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Risks at Financial Institution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ne of the major objectives of a financial institution’s (FI’s) managers is to increase the FI’s returns for its own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creased returns often come at the cost of increased risk, which comes in many form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–  foreign exchange risk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quidity ris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–  country or sovereign ris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rest rate risk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–  technology ris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rket risk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–  operational ris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ff-balance-sheet risk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–  insolvency ris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9-</a:t>
            </a:r>
            <a:fld id="{5447CD0F-E0F9-418D-9FAD-E73E11838855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Risks at Financial Institution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risk that the promised cash flows from loans and securities held by FIs may not be paid in f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s that make loans or buy bonds with long maturities are relatively more exposed to credit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us, banks, thrifts, and insurance companies are more exposed than MMMFs and property-casualty insurance compan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y financial claims issued by individuals or corporations hav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mited upside return with a high prob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downside risk with a low prob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key role of FIs involves screening and monitoring loan applicants to ensure only the creditworthy receive lo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s also charge interest rates commensurate with the riskiness of the borr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9-</a:t>
            </a:r>
            <a:fld id="{C0A96C08-751B-4231-9E6B-8D6AE8B1084D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Risks at Financial Institution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dit risk 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effects of credit risk are evidenced b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arge-of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nkruptcy Reform Act of 200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makes it more difficult for consumers to declare bankrupt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s can diversify away some individual firm-specific credit risk, but not systematic credit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rm-specific credit ris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the risk of default for the borrowing firm associated with the specific types of project risk taken by that fi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atic credit ris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the risk of default associated with general economy-wide or macroeconomic conditions affecting all borrow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9-</a:t>
            </a:r>
            <a:fld id="{1B89EE06-9B90-436E-BC41-0DD7F22EB195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Risks at Financial Institution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quidity ris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risk that a sudden and unexpected increase in liability withdrawals may require an FI to liquidate assets in a very short period of time and at low p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y-to-day withdrawals by liability holders are generally predic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usually large withdrawals by liability holders can create liquidity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cost of purchased and/or borrowed funds rises for F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supply of purchased or borrowed funds dec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s may be forced to sell less liquid assets at “fire-sale” pr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9-</a:t>
            </a:r>
            <a:fld id="{7AF853AC-FAE2-4876-83DA-48B760422F76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Risks at Financial Institution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risk incurred by an FI when the maturities of its assets and liabilities are mismatched and interest rates are volat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t transformat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olves an FI issuing secondary securities or liabilities to fund the purchase of primary securities or ass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n FI’s assets are longer-term than its liabilities, it face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financing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risk that the cost of rolling over or re-borrowing funds will rise above the returns being earned on asset invest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n FI’s assets are shorter-term than its liabilities, it face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investment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risk that the returns on funds to be reinvested will fall below the cost of fu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9-</a:t>
            </a:r>
            <a:fld id="{27887C85-4721-4029-957F-A1FB91C7A76D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Risks at Financial Institution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est rate risk 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FIs fac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or market value ris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risk that the price of the security changes when interest rates 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s can hedge or protect themselves against interest rate risk by matching the maturity of their assets and li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approach is inconsistent with their asset transformation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rket ris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risk incurred in trading assets and liabilities due to changes in interest rates, exchange rates, and other asset p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osely related to interest rate and foreign exchange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9-</a:t>
            </a:r>
            <a:fld id="{9756EDED-440F-411F-A4B3-316BB8F4249B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Risks at Financial Institution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risk 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ding activ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—i.e., market risk is the incremental risk incurred by an FI (in addition to interest rate or foreign exchange risk) caused by an active trading 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s’ trading portfolios are differentiated from their investment portfolios on the basis of time horizon and liquid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ding assets, liabilities, and derivatives are highly liqu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vestment portfolios are relatively illiquid and are usually held for longer periods of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ines in traditional banking activity and income at large commercial banks have been offset by increases in trading activities and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9-</a:t>
            </a:r>
            <a:fld id="{EB7C7483-12CB-419B-9592-53C8C4813040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Risks at Financial Institution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risk 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ines in underwriting and brokerage income at large investment banks have been offset by increases in trading activity and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ly managed MFs are also exposed to market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s are concerned with fluctuations in trading account assets and li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alue at risk (VAR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aily earnings at risk (DEAR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re measures used to assess market risk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risk exposure has caused some highly publicized lo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failure of the 200-year old British merchant bank Barings in 19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7.2 billion in market risk related loss at Societe Generale in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1T19:33:32Z</dcterms:created>
  <dc:creator>Joseph Ogden</dc:creator>
  <dc:description/>
  <dc:language>en-US</dc:language>
  <cp:lastModifiedBy>balaji.s</cp:lastModifiedBy>
  <dcterms:modified xsi:type="dcterms:W3CDTF">2008-09-10T09:35:36Z</dcterms:modified>
  <cp:revision>250</cp:revision>
  <dc:subject/>
  <dc:title>FINANCIAL MARKETS AND INSTITIUTIONS: A Modern Perspective</dc:title>
</cp:coreProperties>
</file>