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AB5-1EC4-4181-B68D-F1DDF65A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2CC6-89D9-40A8-B835-0EEE4E1B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05B9-8788-4A6D-96E4-AE1E2A772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08D3-2B34-428D-A969-332DA2AC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5441-31A9-4E57-ADDC-7A933890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0AC9-737A-4E9F-A68D-C3DC2809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FEFD-6BFD-422A-B3A1-D78670DD5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2BB6-031B-4E66-90FA-BFC995FE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5E1B-3FE4-41F0-922B-7B227F74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499C-87BD-4601-86D9-2AC3CF8D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208-B104-4FC8-80A2-11B71826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0AE-9954-4EB4-B00A-8AA20602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2E1-64D2-47BA-88ED-2C5B38937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8466-4BBD-455E-800A-5933968A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6589-6FF0-4908-B8A6-C26AAD370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8D3D-396C-42EC-920A-BF15B795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279-4B8C-4926-8A39-49ADC8A78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65C-08C3-4736-9163-89950275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9CDD-BC6C-496A-A5D8-A73721123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6484-82C5-4D92-AE0D-6117CBACC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E35-6AAC-4FAC-B2B4-C8D5B50D3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65CD-B6C8-4C3E-A863-48919991A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27DD-CD0A-4171-B905-7F6F2212C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BF6-4FB8-4AE5-963D-6413A1AD4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302-F2FE-4AF2-98A0-DA275E43B7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386-AD11-45AC-9C7C-013C2222D8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DCE-A626-4D1A-BC4C-5D350B7CE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396-D031-4DCB-9CEE-1B33FBA67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2FC-F309-4F4A-9AC1-D89C613795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D79-BBBD-4682-9EDE-C2C97E509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764F-D8EA-41E3-BAD0-BC93ED767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FB4-4BA5-45FD-928F-E81ED9DB7B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592-E334-433D-AFC6-6B47DE9C01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AF9-432E-4426-8DA7-37EBD2E1C3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875-A58E-4287-9317-FE61D5AC3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BAF-4497-48E1-A541-277122C880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22A8E-492E-4B3F-A95D-2596F573B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85C7-8EE0-4185-9D79-3C8A03479A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2CA9B-8B60-4C06-A6AA-9D79C1B903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DF9CA-0B52-4E77-A2B2-6F7DA3888D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429B-DB2D-4C8E-958C-4F662EF9C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5FE-E3CE-42BD-A9CF-9577A5FB28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C0CDE-089A-4633-AF56-636C7945D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9D4BA-7ED9-4388-BFAA-5DB6A49686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E43B-26E7-4878-8343-9C0E80C129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890B6-42F8-4773-B754-13843A0BA7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06A5-C456-44E1-ACD5-40EFC6EAA7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705E4-25CF-4081-B78E-C6B15BD645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C4140-1BBD-47F8-BF29-F43CEADFB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6F02-882D-4994-9291-92C0FA3F8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D3DE-10C2-4218-A843-7AAC05323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B8F3-9618-40C1-9625-486D96447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9097-1831-427B-8635-3C4D544F1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42C4-F093-41B2-9147-9B2521DC5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D185-4B14-4358-8969-BCC275D1F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9B3575A-CB34-4740-A5D5-14EB956B557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63DFDA45-36AE-4633-AF1B-D65A9C17D17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59CAB17-E01E-4CA5-BDE4-0C35E2FDE87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1500A6D5-C052-4E46-A4B3-280E21D8B1F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49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Ninetee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ypes </a:t>
            </a: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of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Risks Incurred </a:t>
            </a: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Financial Instit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14E998E-FCB8-4E35-AB23-55169CB77A7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(OBS)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incurred by an FI as the result of activities related to contingent assets and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y can increase FIs’ interest rate risk, credit risk,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y can also be used to hedge (i.e., reduce) FIs’ interest rate risk, credit risk,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mmercial banks (CBs) in particular engage in OBS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balance-sheet assets of all U.S. CBs totaled $10.8 trillion in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tional value of OBS items totaled $180.6 trillion in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485FD08F-A1A6-4B9B-BED5-F3C68F13014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ies can affect the future shape of FIs’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 items become on-balance-sheet items only if some future event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ter of cred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OC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redit guarantee issued by an FI for a fee on which payment is contingent on some future event occurring, most notably default of the agent that purchases the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example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commitments by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tgage servicing contracts by savings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s in forwards, futures, swaps, and other derivatives held by almost all large F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43D4BFE7-C011-4053-9EFF-B22C00DBEF4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exchange (FX)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exchange rate changes can affect the value of an FI’s assets and liabilities denominated in foreign 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reduce risk through domestic-foreign activity/investment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expand globally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quiring foreign firms or opening new branches in foreig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ng in foreign financial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on domestic and foreign direct and portfolio investment are not perfectly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lying technologies of various economies di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 rate changes are not perfectly correlated across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BD37896-7E2A-4317-80AE-FEBA50901D7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long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foreign 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holding more foreign assets than foreign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loses when foreign currency fall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gains when foreign currency appreciate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short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foreign 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holding fewer foreign assets than foreign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gains when foreign currency fall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loses when foreign currency appreciate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FI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lly hed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it holds an equal amount of foreign currency denominated assets and liabilities (that have the same mat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15FD9F7-1E58-4264-A0D3-0B615E6D814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ry or sovereign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repayments from foreign borrowers may be interrupted because of interference from foreign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s from credit risk of FIs’ domestic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domestic assets, FIs usually have some recourse through bankruptcy courts—i.e., FIs can recoup some of their losses when defaulted firms are liquidated or re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corporations may be unable to pay principal and interest even if they would desire to do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governments may limit or prohibit debt repayment due to foreign currency shortages or adverse politica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71A96FC-9641-43D8-BA8D-E5C419319C9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 or sovereign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an FI claimholder may have little or no recourse to local bankruptcy courts or to an international claims co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sovereign risk includes analyz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de policy of the foreign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scal stance of the foreign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government intervention in th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eign government’s moneta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 flows and foreign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eign country’s current and expected inflation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ructure of the foreign country’s financi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8F3DD153-574B-4CBD-98CB-619CAEBF01C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losel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risk incurred by an FI when its technological investments do not produce anticipated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jor objectives of technological expansion are to allow the FI to exploit potential economies of scale and scope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ing operating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uring new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al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risk that existing technology or support systems may malfunction or break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S defines operational risk as “the risk of loss resulting from inadequate or failed internal processes, people, and systems or from external ev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52E6E83-D90B-45C5-B308-60090264136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an FI may not have enough capital to offset a sudden decline in the value of its assets relative to its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olvency risk is a consequence or an outcome of one or more of the risks previously describ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, market, credit, OBS, technological, foreign exchange, sovereign, and/or liquidity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the more equity capital to borrowed funds an FI has the less insolvency risk it is expos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regulators and managers focus on capital adequacy as a measure of a FI’s ability to remain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042FBEE1-8EFB-449F-A1F3-044BB56FE67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ri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 among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eality, all of the previously defined risks are inter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liquidity risk can be a function of interest rate and credit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anagers take actions to mitigate one type of risk, they must consider such actions on other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regulatory policy constitute another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re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-specific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iscrete or event specific risk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, revolutions, sudden market collapses, theft, malfeasance, and breach of fiduciary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roeconomic ris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increased inflation, inflation volatility and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49C36EC-360B-4625-B081-CF39C909003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of the major objectives of a financial institution’s (FI’s) managers is to increase the FI’s returns for its ow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returns often come at the cost of increased risk, which comes in many for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foreign exchange ris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country or sovereign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technology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operational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-balance-sheet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insolvency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909A015-653F-4BDE-9ED8-CC7A84EC450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the promised cash flows from loans and securities held by FIs may not be paid in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that make loans or buy bonds with long maturities are relatively more exposed to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, banks, thrifts, and insurance companies are more exposed than MMMFs and property-casualty insurance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nancial claims issued by individuals or corporations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upside return with a high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downside risk with a low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ey role of FIs involves screening and monitoring loan applicants to ensure only the creditworthy receive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 also charge interest rates commensurate with the riskiness of the 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18E8262-4E4F-4BE4-8ACC-D3A9514F8CA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s of credit risk are evidenc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ge-o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ruptcy Reform Act of 20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it more difficult for consumers to declare bankrupt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diversify away some individual firm-specific credit risk, but not systematic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-specific credi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risk of default for the borrowing firm associated with the specific types of project risk taken by that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atic credi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risk of default associated with general economy-wide or macroeconomic conditions affecting all borr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76EF456-3B86-43FA-B902-E49E704849D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a sudden and unexpected increase in liability withdrawals may require an FI to liquidate assets in a very short period of time and at low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-to-day withdrawals by liability holders are generally 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usually large withdrawals by liability holders can create liquidity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purchased and/or borrowed funds rises for F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pply of purchased or borrowed funds dec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 may be forced to sell less liquid assets at “fire-sale”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CF36155-E76C-47CF-AD46-76D0FCEBCAB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incurred by an FI when the maturities of its assets and liabilities are mismatched and interest rates are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t trans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s an FI issuing secondary securities or liabilities to fund the purchase of primary securities or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FI’s assets are longer-term than its liabilities, it fa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inancing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cost of rolling over or re-borrowing funds will rise above the returns being earned on asset inves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FI’s assets are shorter-term than its liabilities, it fa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investmen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returns on funds to be reinvested will fall below the cost of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8E121A54-1AD4-4F4F-B800-49FF117464F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rate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s 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r market value r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price of the security changes when interest rate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hedge or protect themselves against interest rate risk by matching the maturity of their assets and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approach is inconsistent with their asset transforma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incurred in trading assets and liabilities due to changes in interest rates, exchange rates, and other asse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ly related to interest rate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1735E38-C044-4A65-A7D7-6F4B77485EF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ding acti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market risk is the incremental risk incurred by an FI (in addition to interest rate or foreign exchange risk) caused by an active trad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’ trading portfolios are differentiated from their investment portfolios on the basis of time horizon and liqu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ng assets, liabilities, and derivatives are highly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 portfolios are relatively illiquid and are usually held for longer periods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ines in traditional banking activity and income at large commercial banks have been offset by increases in trading activities and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D2766E21-2ABC-476A-A2FF-6EC7A5E803C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ines in underwriting and brokerage income at large investment banks have been offset by increases in trading activity and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ly managed MFs are also exposed to marke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are concerned with fluctuations in trading account assets and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 at risk (VA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ily earnings at risk (DEA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measures used to assess market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risk exposure has caused some highly publicized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ailure of the 200-year old British merchant bank Barings in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7.2 billion in market risk related loss at Societe Generale in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5:36Z</dcterms:modified>
  <cp:revision>250</cp:revision>
  <dc:subject/>
  <dc:title>FINANCIAL MARKETS AND INSTITIUTIONS: A Modern Perspective</dc:title>
</cp:coreProperties>
</file>