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AB97A-BC66-41D8-8849-5814E8E4A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7DE0C-0F7E-48F7-B80C-33485D2C6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9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D666A-BB0B-4BE4-BC6D-88C265990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1185840" y="698400"/>
            <a:ext cx="46544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48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F5CD4-1570-4E38-91A2-F23462600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27886-7466-460E-8EB5-C01A1EF6E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47AE8-8699-49A8-9320-4F172CE3D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94C81-2BCD-4C91-BDA5-C0926696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2A1E7-AE6D-4393-9050-05022CA7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EA58A-5EBC-4CD8-BDAA-79CB8ABA5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238B1-7E42-40A5-9681-90D05D8C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B75AE-6182-42CE-AC2D-3A73EFF60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E2C54-F1E3-454D-9F0A-7AC6F97F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A3F7-9702-4968-A36A-0F12A0143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99F7-22EA-40EA-A2F3-ADD9FE7B3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BDBD-FD8C-4BD5-A03B-53E83F0B9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E6F9-7492-470A-8C2C-550DCC621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2EF2C-B933-4AF9-8A06-FB0520F9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6A38B-746D-4DB2-8F7B-71F07B3D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32505-ABF3-494D-8CFB-D7FAB9E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AB9A1-84FE-4854-AA25-6B45A464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4C6DD-4406-4FAE-A308-D33CDD6D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CE37E-0DB3-4F15-A7D0-2C6ABC6C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78C0F-01B2-4366-94E0-E6CFA2B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0705-9671-4D27-87F9-22D79D702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C1F41-7D72-4F58-8B88-4EB3C6BD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F6DDB-A2FE-44D9-BBD3-5ACB657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8831F-D4EF-4747-BF8B-1185634E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309BD-DD6D-4010-B3BE-50D1648C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92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92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9E973-E7AF-426F-9839-41E70BCB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7030-3DF1-497D-B39A-2500389AE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2BAC-DC90-40A8-86E2-4948907D3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BD3D-BCCC-4661-99F3-06D2C3F89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681D-2664-462A-8F3F-B8A203B9E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9A26-D705-4DFA-B004-AF5D51D8F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A69F-4633-4288-BDE5-07D1FC04A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4007-BD38-40C5-801E-6B0E5D794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D955-39B0-42C6-9DFC-43308A5A346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5AFF-E656-4B25-906F-C795A3932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56"/>
          <p:cNvSpPr/>
          <p:nvPr/>
        </p:nvSpPr>
        <p:spPr>
          <a:xfrm>
            <a:off x="609480" y="15228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if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2057"/>
          <p:cNvGraphicFramePr/>
          <p:nvPr/>
        </p:nvGraphicFramePr>
        <p:xfrm>
          <a:off x="304920" y="1305000"/>
          <a:ext cx="8686800" cy="54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0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05000"/>
                    <a:ext cx="86868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ystems Analyst Related Car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305920" cy="52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ployment picture is complex with traditional programming jobs not as prevalent as previous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y new opportunities exist in areas such as consulting, compliance, security, Web development, ERP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ypical job titles includ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– Business, Systems, 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t – Business systems, System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er – Web,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 – Web, System,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010280" y="6477120"/>
            <a:ext cx="2129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B04D-921D-4ED3-B1E3-28D5DC4A5F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6E92-22E5-4B59-8DB6-C9095B10D6D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s analyst solves business problems using information system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 solving means looking into business problem in great detail, completely understanding problem, and choosing best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system development is much more than writing progr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systems, subsystems, and components interact with and include hardware, software, inputs, outputs, data, people, and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analyst has broad knowledge and variety of skills, including technical, business,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ity and ethical behavior are crucial to success for the anal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analyst encounters a variety of rapidly changing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3FB2-358E-4B52-85E5-5734FBD3C0C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lyst as a Business Problem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computer technology knowledge and programming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s busines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logical methods for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undamental curi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 to make thing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ore of a business problem solver than a technical progr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5AA1-30FA-4546-B4F8-BF773F13C27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t’s Approach to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17524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benefits of solving problem outweigh th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85800" y="114300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nd understand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85800" y="24382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requirements for solv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685800" y="31240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et of possible solutions (alternat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85800" y="434340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details of the chose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685800" y="56386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to ensure desir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85800" y="373392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which solution is best and recom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685800" y="49528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7B9F-9B2C-4BD8-8657-8A247CD5345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That Solve Busines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terrelated components functioning together to achieve an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Information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llection of interrelated components that collect, process, store, and provide as output information needed to comple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685800" y="3205080"/>
            <a:ext cx="80773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80FB-48B9-4032-A5AF-040463A51CA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Skills of the Systems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39" descr=""/>
          <p:cNvPicPr/>
          <p:nvPr/>
        </p:nvPicPr>
        <p:blipFill>
          <a:blip r:embed="rId1"/>
          <a:stretch/>
        </p:blipFill>
        <p:spPr>
          <a:xfrm>
            <a:off x="152280" y="1387440"/>
            <a:ext cx="88394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3176-9AE8-4021-B3E1-F41E48A4B71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Knowledge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nalyst should have fundamental technology knowledge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s / peripheral devices (hardw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networks and conne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and database management systems (DB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languages (for example, VB.NET or Jav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ng systems and ut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t uses </a:t>
            </a:r>
            <a:r>
              <a:rPr b="0" lang="en-US" sz="2200" spc="-1" strike="noStrike">
                <a:solidFill>
                  <a:srgbClr val="0099cc"/>
                </a:solidFill>
                <a:latin typeface="Arial"/>
              </a:rPr>
              <a:t>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productivity pack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ed development environments (IDEs) for programming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tools, testing, documentation support, reverse engineering, configuration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t understands SDLC </a:t>
            </a:r>
            <a:r>
              <a:rPr b="0" lang="en-US" sz="2200" spc="-1" strike="noStrike">
                <a:solidFill>
                  <a:srgbClr val="0099cc"/>
                </a:solidFill>
                <a:latin typeface="Arial"/>
              </a:rPr>
              <a:t>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planning, systems analy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design, database design, network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ion, implementation, systems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0F46-E3E8-4DBA-A10F-C61AF2E2EC5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Knowledge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t must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functions performed b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, plans, traditions, and values of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managemen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work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alysts typically study business administration/management in college with a major in CIS or 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00F-82F6-4468-BF98-1F3818A4776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Knowledge and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alysts need to understand how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(in a variety of jobs and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ersonal and communication skills are cruci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complexity and workings of an organization in order to provide necess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B944-A0A9-4C04-959C-806658F83E6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ity and Eth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t has access to confidential information, such as salary, an organization’s planned projects, security system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keep information priv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impropriety can ruin an analyst’s car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t plans security in systems to protect confidential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A</dc:creator>
  <dc:description/>
  <dc:language>en-US</dc:language>
  <cp:lastModifiedBy>A</cp:lastModifiedBy>
  <cp:lastPrinted>2002-03-03T02:56:24Z</cp:lastPrinted>
  <dcterms:modified xsi:type="dcterms:W3CDTF">2012-09-18T03:22:17Z</dcterms:modified>
  <cp:revision>326</cp:revision>
  <dc:subject>Systems Analysis and Design</dc:subject>
  <dc:title>Chapter 1</dc:title>
</cp:coreProperties>
</file>