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272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981240" y="0"/>
            <a:ext cx="304452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884700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98124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D65800-6E87-4F87-9CA8-040CEBAA5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B01096-D942-4AA6-9F7D-C3AFDAB53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9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D78350-048B-410E-AC39-5A4CDB5361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"/>
          <p:cNvSpPr/>
          <p:nvPr/>
        </p:nvSpPr>
        <p:spPr>
          <a:xfrm>
            <a:off x="1185840" y="698400"/>
            <a:ext cx="4654440" cy="34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936720" y="4422240"/>
            <a:ext cx="51480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0170F4-DA9C-4108-B298-BB7397F97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85AE6F-8F45-4112-B549-5CB7D9A84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DA633E-CB64-479C-8EF1-B656B7361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F67ED5-BB28-46B8-B07C-5513C4C94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352B8E-03AE-4A6C-A932-585D3DF9A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C9A31F-8346-4510-B7A7-F4530BBDD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10A92E-5DE9-4F96-AC54-F443A155A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6C74F9-DCC1-494F-96D6-43219FB85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73B487-22DC-45D6-8DCC-39F18C5A3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C2134-1EEB-4AE8-883F-08E55DEF8E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CBF12-D522-4C32-948D-C4F17752C7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3480" y="13716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3480" y="39585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C094A-A137-493B-83A2-B005F4CE77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5920" y="13716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4280" y="13716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5920" y="39585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4280" y="39585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4FDBB-0DC0-45F9-8B9D-AE9438D17C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4CEA78-80B7-4B65-B4F1-F91F21534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31BDC4-C594-42F0-9D16-6040648B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0D3B7-AD0E-4CE2-A50E-53ACFF1B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13480" y="13716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2B5C62-F5C3-49EB-8A7E-24E89AD5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66FA8E-5627-4ED0-8A00-DF83DEDB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EF8AB-096F-4208-A482-0060B2AE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3480" y="13716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2D32F7-DD90-4576-A33C-788A8965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9AD31-DB4C-45E7-88B5-474D4A0621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3480" y="13716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13480" y="39585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3EF41-561E-4BA1-BD2A-8818D336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3480" y="13716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49CC8-618B-4542-99FF-16FB212D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9DD8F-66A6-40A0-803B-9986211A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3716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13480" y="39585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DE8176-09E4-42FA-BAFB-0963DA012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5920" y="13716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4280" y="137160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5920" y="39585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4280" y="3958560"/>
            <a:ext cx="26744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841248-3C4E-484B-8CAD-46F935F64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B5246-1CE8-4E09-989B-81131B999F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3480" y="13716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6A628-5440-4C04-B3C6-73B822B753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7E0E7-1FF6-4135-8E8F-4CB59C0375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D2986-61F3-460B-87ED-2B5C33D0A3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3716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B65E7-8714-4EEE-BCCF-CB7AB5C1C0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532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3480" y="13716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3480" y="395856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57F4D-F928-43E1-971C-D797CF5A40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3480" y="1371600"/>
            <a:ext cx="405324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E5607-5DBC-410C-B5A7-7C97975F9B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Object 5"/>
          <p:cNvGraphicFramePr/>
          <p:nvPr/>
        </p:nvGraphicFramePr>
        <p:xfrm>
          <a:off x="8458200" y="0"/>
          <a:ext cx="68580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0"/>
                    <a:ext cx="6858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Text Box 6"/>
          <p:cNvSpPr/>
          <p:nvPr/>
        </p:nvSpPr>
        <p:spPr>
          <a:xfrm>
            <a:off x="8610480" y="0"/>
            <a:ext cx="3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700992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3DAD-48E5-4A40-90CE-B86A04448B2E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1749"/>
              </a:spcBef>
              <a:buClr>
                <a:srgbClr val="0066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1749"/>
              </a:spcBef>
              <a:buClr>
                <a:srgbClr val="006699"/>
              </a:buClr>
              <a:buSzPct val="6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1749"/>
              </a:spcBef>
              <a:buClr>
                <a:srgbClr val="0066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174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174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206C-6B58-453A-AD80-4DAC7BC9D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056"/>
          <p:cNvSpPr/>
          <p:nvPr/>
        </p:nvSpPr>
        <p:spPr>
          <a:xfrm>
            <a:off x="609480" y="152280"/>
            <a:ext cx="792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Systems Analysis and Design in a Changing World, Fifth E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2057"/>
          <p:cNvGraphicFramePr/>
          <p:nvPr/>
        </p:nvGraphicFramePr>
        <p:xfrm>
          <a:off x="304920" y="1305000"/>
          <a:ext cx="8686800" cy="541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205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305000"/>
                    <a:ext cx="86868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ystems Analyst Related Care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9120"/>
            <a:ext cx="8305920" cy="52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mployment picture is complex with traditional programming jobs not as prevalent as previous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ny new opportunities exist in areas such as consulting, compliance, security, Web development, ERP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ypical job titles include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ltant – Business, Systems, Techn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t – Business systems, Systems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er – Web,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 – Web, System,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7010280" y="6477120"/>
            <a:ext cx="2129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44B2-096C-47E0-8790-C019772AF11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92B0-7E93-49DA-839D-79D57CE57410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ystems analyst solves business problems using information systems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lem solving means looking into business problem in great detail, completely understanding problem, and choosing best 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tion system development is much more than writing program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tion systems, subsystems, and components interact with and include hardware, software, inputs, outputs, data, people, and proced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ems analyst has broad knowledge and variety of skills, including technical, business, and peo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grity and ethical behavior are crucial to success for the analy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ems analyst encounters a variety of rapidly changing technolog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B7C8-6322-4842-8652-8ACB4BC73186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alyst as a Business Problem Sol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computer technology knowledge and programming expert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s business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logical methods for solving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fundamental curio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s to make things b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more of a business problem solver than a technical progra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B2C1-4FF7-40FE-BAC8-81F7C032DC29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t’s Approach to Problem Sol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85800" y="1752480"/>
            <a:ext cx="7620120" cy="4546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benefits of solving problem outweigh th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85800" y="1143000"/>
            <a:ext cx="7620120" cy="4546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and understand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685800" y="2438280"/>
            <a:ext cx="7620120" cy="4546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requirements for solving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685800" y="3124080"/>
            <a:ext cx="7620120" cy="4546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 set of possible solutions (alternativ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685800" y="4343400"/>
            <a:ext cx="7620120" cy="4546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details of the chosen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685800" y="5638680"/>
            <a:ext cx="7620120" cy="4546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 to ensure desir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685800" y="3733920"/>
            <a:ext cx="7620120" cy="4546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de which solution is best and recomm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685800" y="4952880"/>
            <a:ext cx="7620120" cy="4546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the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E549-223F-4BF6-AED2-458A769D020C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s That Solve Business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yste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interrelated components functioning together to achieve an out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Information syst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collection of interrelated components that collect, process, store, and provide as output information needed to complete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685800" y="3205080"/>
            <a:ext cx="807732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3D07-BF45-4949-BEB0-CC28F5C3B8B2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d Skills of the Systems Analy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039" descr=""/>
          <p:cNvPicPr/>
          <p:nvPr/>
        </p:nvPicPr>
        <p:blipFill>
          <a:blip r:embed="rId1"/>
          <a:stretch/>
        </p:blipFill>
        <p:spPr>
          <a:xfrm>
            <a:off x="152280" y="1387440"/>
            <a:ext cx="883944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E7F6-C568-4F22-9632-CB5A99A1C4DE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cal Knowledge and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nalyst should have fundamental technology knowledge 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uters / peripheral devices (hardwa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ion networks and conne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base and database management systems (DBM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languages (for example, VB.NET or Jav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rating systems and util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alyst uses </a:t>
            </a:r>
            <a:r>
              <a:rPr b="0" lang="en-US" sz="2200" spc="-1" strike="noStrike">
                <a:solidFill>
                  <a:srgbClr val="0099cc"/>
                </a:solidFill>
                <a:latin typeface="Arial"/>
              </a:rPr>
              <a:t>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ftware productivity pack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grated development environments (IDEs) for programming langu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SE tools, testing, documentation support, reverse engineering, configuration manage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alyst understands SDLC </a:t>
            </a:r>
            <a:r>
              <a:rPr b="0" lang="en-US" sz="2200" spc="-1" strike="noStrike">
                <a:solidFill>
                  <a:srgbClr val="0099cc"/>
                </a:solidFill>
                <a:latin typeface="Arial"/>
              </a:rPr>
              <a:t>techniq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ject planning, systems analysi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ems design, database design, network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truction, implementation, systems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569A-E977-4335-A801-5AD00C3B1B16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Knowledge and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9917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t must under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functions performed by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, plans, traditions, and values of the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al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 management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work proce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analysts typically study business administration/management in college with a major in CIS or 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ADC1-BE2A-4903-AF02-9936EE62A7A4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Knowledge and Skil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analysts need to understand how peo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 to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(in a variety of jobs and lev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ersonal and communication skills are crucial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ing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co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ing the complexity and workings of an organization in order to provide necessary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F53E-0000-433C-AFB5-469FB19C1130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ity and Eth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5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t has access to confidential information, such as salary, an organization’s planned projects, security systems, and so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25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st keep information priv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25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y impropriety can ruin an analyst’s care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25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alyst plans security in systems to protect confidential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9T15:36:56Z</dcterms:created>
  <dc:creator>A</dc:creator>
  <dc:description/>
  <dc:language>en-US</dc:language>
  <cp:lastModifiedBy>A</cp:lastModifiedBy>
  <cp:lastPrinted>2002-03-03T02:56:24Z</cp:lastPrinted>
  <dcterms:modified xsi:type="dcterms:W3CDTF">2012-09-18T03:22:17Z</dcterms:modified>
  <cp:revision>326</cp:revision>
  <dc:subject>Systems Analysis and Design</dc:subject>
  <dc:title>Chapter 1</dc:title>
</cp:coreProperties>
</file>