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media/image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CB54-1EB4-4A80-9879-A82266EC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BA34-35DB-4A46-9F09-DC0D0ED8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7F53-83C1-47EE-8715-556EBED9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FA6-4EC8-4DB1-BFDC-9176B407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218F-97D9-4464-8BFA-5DD83196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733C-4479-4BFB-8EDB-6CBB38CC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AC3E-D1DC-4718-AC02-505C53F2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126B-3053-4EC7-8DC5-5A686CA9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1B3F-4755-494E-B2B4-873407C1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9338-39B2-48E2-9423-530A68CB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BA44-0A87-47F3-A4CE-C2AADD0F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55E-B5C4-4817-9843-FB5F5AB0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0207-1EF8-4A1C-8A32-10294E19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A531-1C08-4D81-91B5-F43DF09D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510F-CDBE-44F7-B460-B3EF4F62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09E8-0094-480E-9910-71E15A14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CB48-8EA7-47A2-923C-E62D1BC2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E1DF-F587-4AE6-BEED-B37C5ABA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2E9-3A1F-445B-824B-A9F7482A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FAE9-1F30-49F6-99B9-F3910BA4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3F5-CE69-4AA3-A793-ED959C7F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B56-F56F-40CB-88CD-4AF89BF0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749F-55EE-4C12-8E23-47360862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07AD-99C9-4E61-A941-AD7F2C3D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9F6E-58A2-48E0-B8D4-39CBB62487B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E57C-B846-4EB3-8016-58C27C2BD27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nvironmental Science: Toward a Sustainable Future </a:t>
            </a:r>
            <a:br>
              <a:rPr sz="3600"/>
            </a:b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Richard T. Wright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: Foundation for Land Ec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T by Clark E. Ad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33526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oil Texture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2971800"/>
            <a:ext cx="291960" cy="2919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2209680"/>
            <a:ext cx="672840" cy="444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3733920"/>
            <a:ext cx="63360" cy="1396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220968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720" y="287352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6040" y="3483000"/>
            <a:ext cx="14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oil Texture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16160" y="933480"/>
            <a:ext cx="540396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Soil Texture and Properties (see Table 8-2)</a:t>
            </a:r>
            <a:endParaRPr b="0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76520"/>
          <a:ext cx="8381880" cy="3725640"/>
        </p:xfrm>
        <a:graphic>
          <a:graphicData uri="http://schemas.openxmlformats.org/drawingml/2006/table">
            <a:tbl>
              <a:tblPr/>
              <a:tblGrid>
                <a:gridCol w="1483200"/>
                <a:gridCol w="1928880"/>
                <a:gridCol w="1631520"/>
                <a:gridCol w="1632240"/>
                <a:gridCol w="1706040"/>
              </a:tblGrid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Infilt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-holding Capa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ent-holding Capa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oil Classes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lisols: fertile soils with deep A horizon; best agriculture so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sols: iron and aluminum oxides in B horizon; little O horizon; poor agriculture so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oil Classes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isols: well-developed O, A, E, and B horizons; suitable for agriculture if supple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disols: little vertical structure; thin and unsuitable for sustainable 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Water Transport by Transpiration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50880" y="1006560"/>
            <a:ext cx="683100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Plant–Soil–Water Relationships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50880" y="1120680"/>
            <a:ext cx="6678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Productive Soil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supply of nutrients and nutrient-holding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ltration, good water-holding capacity, resists evaporative water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ous structure for a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-neutral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salt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The Soil Community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98600" y="1090440"/>
            <a:ext cx="7059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Humus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ly decomposed organic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capacity for holding water and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found in O ho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4913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Formation of Humus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31520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Humus and Development of Soil Structure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oil Degradation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o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lands and deser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gation and sali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The Results of Removal of Topsoil: Sand and Gravel</a:t>
            </a:r>
            <a:endParaRPr b="0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6103800" cy="48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The Importance of Humus to Topsoil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906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rosion: Wind or Water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ash erosion: impact of falling raindrops breaks up the clumpy structure of top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et erosion: running water carries off the fine particles on the soil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lly erosion: water volume and velocity carries away large quantities of soil, causing gullies (see Fig. 8-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Desertification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ion and expansion of degraded areas of soil and vegetation cover in arid, semiarid, and seasonally dry areas, caused by climatic variations and human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Dryland Areas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 one-third of Earth’s land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by precipitation, not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d Nations Convention to Combat Desertification (UNCC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projects to reverse land degra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, $500 million available in grants to fun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Dry lands and Desertification: Formation of Desert Pavement</a:t>
            </a:r>
            <a:endParaRPr b="0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65707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auses of Soil Degradation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98560" y="1189080"/>
            <a:ext cx="60501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Global Trend: Where Did All the Farms Go?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farming practices = loss of soils and farm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o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in United States = loss of 1.4 million acres of farmland pe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ontour Farming and Shelterbelts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60384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A Global View of Soil Degradation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1181160"/>
            <a:ext cx="739152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Irrigation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 irrigation (see Fig. 8-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-pivot irrigation (see Fig. 7-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extract as much as 10,000 gallons/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gated 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7 million acres or one-fifth of all cultivated cropland in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7 million acres worldwide, a 35% increase over the past 30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alinization: What It Looks Like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37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alinization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cess of distilling out dissolved salts in irrigated water and leaving it on 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m of desertification, since land is rendered 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wide an estimated 3.7 million acres of agricultural land is lost annually to salinization and water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onserving the Soil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or zero til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ch for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ze biomass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ze bio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End of Chapter 8</a:t>
            </a: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Why a Study of Soil Is Important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of the world’s food comes from land-based agri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 of soil is the cornerstone of sustainable civiliz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stated, it is the “foundation” of terrestri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oil: Foundation for Land Ecosystems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degra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ing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oil and Plants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and plant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i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Topsoil Formation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20960" y="1130400"/>
            <a:ext cx="58514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oil Profile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94932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oil Texture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texture refers to the percentage of each type of particle found in the s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m soil is approximately 40% sand, 40% silt, and 20% c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21:22Z</dcterms:created>
  <dc:creator>Clark E. Adams</dc:creator>
  <dc:description/>
  <dc:language>en-US</dc:language>
  <cp:lastModifiedBy>Lake Travis ISD</cp:lastModifiedBy>
  <cp:lastPrinted>1999-10-04T15:03:57Z</cp:lastPrinted>
  <dcterms:modified xsi:type="dcterms:W3CDTF">2005-10-12T22:29:34Z</dcterms:modified>
  <cp:revision>45</cp:revision>
  <dc:subject/>
  <dc:title>WFSC 420 Lesson 9</dc:title>
</cp:coreProperties>
</file>