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B0E-2507-4E68-9495-D25DC0F6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9E7-3AE7-4EBA-AA3D-12DD54AC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D270-E842-4A68-8D09-AC592E6F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F16-897C-44D5-B41E-43917FAF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3A22-F367-454E-8890-4FFF5DD7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AB0C-1DEF-46FC-A3BF-38361F27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B156-8E37-441D-AAFA-E934E077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A393-02D5-4A28-9B5A-31A3A3D4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F40C-3A7E-491E-8E08-5ABD2173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D26E-2CDF-4F22-A8DF-002C0DCE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664C-6DFA-4BDA-A341-51FA1655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F6E-9404-4C01-B252-2EFE9714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96D3-E69F-479C-85E1-EE3A0C55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A610-A527-4DA0-913B-B360F9CB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6884-1B50-4643-A683-C8755366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A606-02F3-4AC0-9F14-D917C677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6A74-FDDC-4A8E-9E83-C003C50A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1BC-9F97-4B17-A426-CAD07D3E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D03-10CD-4A4A-B3A0-195F4544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4AC-CEBD-4978-999C-27C7D8EF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B00-DD2F-4F06-8342-561CED1A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0E1-13B3-460A-930F-87519573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8B3-8093-49B3-A3DD-4ADEB41C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D77-679A-4988-B8AB-0537D437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2F03-07C4-4D9E-BCE3-F2E51AB88C6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240F-4AB4-44AB-91AF-349B15C3292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nvironmental Science: Toward a Sustainable Future </a:t>
            </a:r>
            <a:br>
              <a:rPr sz="3600"/>
            </a:b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Richard T. Wright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: Foundation for Land Ec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T by Clark E. Ad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33526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oil Texture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2971800"/>
            <a:ext cx="291960" cy="2919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209680"/>
            <a:ext cx="672840" cy="444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3733920"/>
            <a:ext cx="63360" cy="139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20968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720" y="287352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6040" y="348300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oil Texture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16160" y="933480"/>
            <a:ext cx="540396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Soil Texture and Properties (see Table 8-2)</a:t>
            </a:r>
            <a:endParaRPr b="0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76520"/>
          <a:ext cx="8381880" cy="3725640"/>
        </p:xfrm>
        <a:graphic>
          <a:graphicData uri="http://schemas.openxmlformats.org/drawingml/2006/table">
            <a:tbl>
              <a:tblPr/>
              <a:tblGrid>
                <a:gridCol w="1483200"/>
                <a:gridCol w="1928880"/>
                <a:gridCol w="1631520"/>
                <a:gridCol w="1632240"/>
                <a:gridCol w="1706040"/>
              </a:tblGrid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Infilt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-holding Capa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ent-holding Capa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oil Classes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lisols: fertile soils with deep A horizon; best agriculture so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sols: iron and aluminum oxides in B horizon; little O horizon; poor agriculture so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oil Classes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isols: well-developed O, A, E, and B horizons; suitable for agriculture if sup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disols: little vertical structure; thin and unsuitable for sustainable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Water Transport by Transpiration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50880" y="1006560"/>
            <a:ext cx="68310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Plant–Soil–Water Relationships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50880" y="1120680"/>
            <a:ext cx="6678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Productive Soil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supply of nutrients and nutrient-holding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ltration, good water-holding capacity, resists evaporative water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ous structure for a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-neutral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salt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The Soil Community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98600" y="1090440"/>
            <a:ext cx="7059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Humus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ly decomposed organic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capacity for holding water and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found in O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4913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Formation of Humus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3152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Humus and Development of Soil Structure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oil Degradation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o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lands and deser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gation and sali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The Results of Removal of Topsoil: Sand and Gravel</a:t>
            </a:r>
            <a:endParaRPr b="0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103800" cy="48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The Importance of Humus to Topsoil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906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rosion: Wind or Water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ash erosion: impact of falling raindrops breaks up the clumpy structure of top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et erosion: running water carries off the fine particles on the soil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lly erosion: water volume and velocity carries away large quantities of soil, causing gullies (see Fig. 8-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Desertification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on and expansion of degraded areas of soil and vegetation cover in arid, semiarid, and seasonally dry areas, caused by climatic variations and human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Dryland Areas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one-third of Earth’s land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by precipitation, not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Nations Convention to Combat Desertification (UNCC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projects to reverse land degra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, $500 million available in grants to fun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Dry lands and Desertification: Formation of Desert Pavement</a:t>
            </a:r>
            <a:endParaRPr b="0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6570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auses of Soil Degradation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98560" y="1189080"/>
            <a:ext cx="60501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Global Trend: Where Did All the Farms Go?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farming practices = loss of soils and farm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in United States = loss of 1.4 million acres of farmland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ntour Farming and Shelterbelts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60384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A Global View of Soil Degradation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181160"/>
            <a:ext cx="739152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Irrigation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 irrigation (see Fig. 8-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-pivot irrigation (see Fig. 7-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xtract as much as 10,000 gallons/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gated 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 million acres or one-fifth of all cultivated cropland 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7 million acres worldwide, a 35% increase over the past 3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alinization: What It Looks Like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3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alinization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cess of distilling out dissolved salts in irrigated water and leaving it on 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m of desertification, since land is rendered 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wide an estimated 3.7 million acres of agricultural land is lost annually to salinization and water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nserving the Soil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or zero til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ch for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e biomass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e bio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End of Chapter 8</a:t>
            </a:r>
            <a:endParaRPr b="0" lang="en-US" sz="3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Why a Study of Soil Is Important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the world’s food comes from land-based agri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 of soil is the cornerstone of sustainable civiliz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stated, it is the “foundation” of terrestri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oil: Foundation for Land Ecosystems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degra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ing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oil and Plants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and plant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i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Topsoil Formation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20960" y="1130400"/>
            <a:ext cx="58514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oil Profile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94932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oil Texture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texture refers to the percentage of each type of particle found in the s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m soil is approximately 40% sand, 40% silt, and 20% c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01:21:22Z</dcterms:created>
  <dc:creator>Clark E. Adams</dc:creator>
  <dc:description/>
  <dc:language>en-US</dc:language>
  <cp:lastModifiedBy>Lake Travis ISD</cp:lastModifiedBy>
  <cp:lastPrinted>1999-10-04T15:03:57Z</cp:lastPrinted>
  <dcterms:modified xsi:type="dcterms:W3CDTF">2005-10-12T22:29:34Z</dcterms:modified>
  <cp:revision>45</cp:revision>
  <dc:subject/>
  <dc:title>WFSC 420 Lesson 9</dc:title>
</cp:coreProperties>
</file>