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3F7AA-0F3C-45DE-AB1B-E74A33621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6607-75E0-4552-B911-0D945E8B5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5F139-A186-472D-9776-7B29FA4F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83D87-E14D-409C-861B-C147799EC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C9483-011E-4066-9AFF-F27DF6AE7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EA3C-1EAA-4F56-A4FB-3501DA8C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F97B9-ED73-45CF-B49D-217F02DD3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9337-5E3F-4D48-860C-9AE6871C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3997-0822-45A0-8057-E7B62E9E0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3AFE-D505-400F-810A-F328A9B5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2CC0-9D04-44E4-9D87-F4DAFAAE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95B6D-2D41-485F-95F9-687BAA5E8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B407-F8CC-4E70-B21F-94CCD2B4FD94}"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69608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r>
              <a:rPr b="0" lang="ar-SA" sz="6600" spc="-1" strike="noStrike">
                <a:solidFill>
                  <a:srgbClr val="c0504d"/>
                </a:solidFill>
                <a:latin typeface="Andalus"/>
                <a:cs typeface="Andalus"/>
              </a:rPr>
              <a:t>مبادئ تحليل وتصميم النظم</a:t>
            </a:r>
            <a:br>
              <a:rPr sz="4300"/>
            </a:b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فصل الحادي ع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cs typeface="Arial"/>
              </a:rPr>
              <a:t>الاستبيانات:</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تم جمع المعلومات من خلال الطلب إلى المستخدمين أن يقوموا بالإجابة على أسئلة مكتوبة في استمارات أو نماذج تصمم خصيصا لهذا الغرض.</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تم التركيز على استخدام الأسئلة المغلقة لسهولة معالجتها آل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4000"/>
          </a:bodyPr>
          <a:p>
            <a:pPr marL="572760" indent="-57276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ليل محتويات الوثائق:</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يستخدم للحصول على المعلومات المتعلقة بالنظام من المصادر التالية (النماذج – التقارير – الوثائق- ادلة الإجراءات)</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من خلال هذا الأسلوب يتم تحديد ما يلي:</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دفقات البيانات ومخازنها ضمن النظام.</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يات التي تخضع لها البيانات أثناء حركتها ضمن النظام.</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خرجات التي يقوم النظام بتوليدها.</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cs typeface="Arial"/>
              </a:rPr>
              <a:t>النماذج التجريبية:</a:t>
            </a:r>
            <a:r>
              <a:rPr b="1" lang="ar-SA" sz="3200" spc="-1" strike="noStrike">
                <a:solidFill>
                  <a:srgbClr val="000000"/>
                </a:solidFill>
                <a:latin typeface="Calibri"/>
                <a:ea typeface="Arial"/>
              </a:rPr>
              <a:t> هذه الطريقة تساعد في تحديد متطلبات المستخدمين يمتاز هذا الأسلوب بكونه يشجع المستخدم على المشاركة الفعالة في تحديد المتطلبات المتعلقة بالنظام الذي يجري تطوي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86000"/>
          </a:bodyPr>
          <a:p>
            <a:pPr marL="523800" indent="-52380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الملاحظة المباشرة:</a:t>
            </a:r>
            <a:r>
              <a:rPr b="1" lang="ar-SA" sz="2800" spc="-1" strike="noStrike">
                <a:solidFill>
                  <a:srgbClr val="000000"/>
                </a:solidFill>
                <a:latin typeface="Calibri"/>
                <a:ea typeface="Arial"/>
              </a:rPr>
              <a:t> هي طريقة مباشرة لتجميع المعلومات عن النظام الحال من خلال المراقبة الفعلية لكيفية سير العمليات فيه والتعرف على مدخلات ومخرجات ومتطلبات تنفيذ هذه العمليات.</a:t>
            </a:r>
            <a:endParaRPr b="0" lang="en-US" sz="2800" spc="-1" strike="noStrike">
              <a:solidFill>
                <a:srgbClr val="000000"/>
              </a:solidFill>
              <a:latin typeface="Calibri"/>
            </a:endParaRPr>
          </a:p>
          <a:p>
            <a:pPr marL="523800" indent="-523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ولكي تكون هذه الطريقة ناجحة يجب التركيز على ملاحظة ما يلي:</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فاعل بين مستخدمي النظام.</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أدوار التي يقوم بها المستخدمين المختلفين.</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أماكن التي يتم فيها تنفيذ هذه الأدوار.</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هام التي يؤديها كل مستخد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609480" indent="-60948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أنواع الملاحظة المباشرة:</a:t>
            </a:r>
            <a:endParaRPr b="0" lang="en-US" sz="28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سلبي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تفاعلي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تفسيري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52280" y="152280"/>
            <a:ext cx="8839440" cy="6553440"/>
          </a:xfrm>
          <a:prstGeom prst="rect">
            <a:avLst/>
          </a:prstGeom>
          <a:noFill/>
          <a:ln w="0">
            <a:noFill/>
          </a:ln>
        </p:spPr>
        <p:txBody>
          <a:bodyPr anchor="t">
            <a:normAutofit fontScale="90000"/>
          </a:bodyPr>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نيا: تحديد المشكلة :</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تشمل على ما يلي:</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ظهور مشاكل في النظام الحالي:</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يكون النظام الحالي لا يقوم بوظائفه المطلوبة كما ينبغي ولهذا يطلب معاونة محلل النظام لتصحيح هذه الوظائف الخاطئة أو قد تكون بعض الأدوات في التنظيم تعاني من مشكلة متعلقة بالجدول والتنبؤ والرقابة على المخزون والتي يجب تصحيحها أو تحسينها.</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احتياجات جديدة:</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يكون السبب في القيام بتحليل النظم هو وجود احتياجات جديدة أو إجراءات قانونية معينة تفرض على التنظيم.</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تطبيق أفكار أو تكنولوجيا جديدة:</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تنشأ من الرغبة في تطبيق أفكار جديدة أو نظم تكنولوجية أو أسلوب جديد.</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تحسين عام للنظام:</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عن طريق إيجاد طرق أحسن لأداء العمل.</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152280"/>
            <a:ext cx="8839440" cy="6553440"/>
          </a:xfrm>
          <a:prstGeom prst="rect">
            <a:avLst/>
          </a:prstGeom>
          <a:noFill/>
          <a:ln w="0">
            <a:noFill/>
          </a:ln>
        </p:spPr>
        <p:txBody>
          <a:bodyPr anchor="t">
            <a:normAutofit fontScale="95000"/>
          </a:bodyPr>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00"/>
                </a:solidFill>
                <a:latin typeface="Calibri"/>
                <a:cs typeface="Arial"/>
              </a:rPr>
              <a:t>مرحلة تحديد المشكلة:</a:t>
            </a:r>
            <a:endParaRPr b="0" lang="en-US" sz="2800" spc="-1" strike="noStrike">
              <a:solidFill>
                <a:srgbClr val="000000"/>
              </a:solidFill>
              <a:latin typeface="Calibri"/>
            </a:endParaRPr>
          </a:p>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بدأ هذه المرحلة من الناحية الرسمية بتحديد نوع المشكلة التي سوف يتم حلها وفقا لما تعرضنا له سابقا وعادة ما يتم كتابة مستند يصف المشكلة بصورة بسيطة يوضح:</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سم الإدارة أو القسم الذي توجد فيه المشكلة.</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وضوع المشكلة.</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احظات المستخدم حول أهمية المشكلة.</a:t>
            </a:r>
            <a:endParaRPr b="0" lang="en-US" sz="2800" spc="-1" strike="noStrike">
              <a:solidFill>
                <a:srgbClr val="000000"/>
              </a:solidFill>
              <a:latin typeface="Calibri"/>
            </a:endParaRPr>
          </a:p>
          <a:p>
            <a:pPr lvl="2" marL="1302840" indent="-43416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في العادة تتضمن هذه المرحلة نشاطين رئيسيين هما:</a:t>
            </a:r>
            <a:endParaRPr b="0" lang="en-US" sz="2800" spc="-1" strike="noStrike">
              <a:solidFill>
                <a:srgbClr val="000000"/>
              </a:solidFill>
              <a:latin typeface="Calibri"/>
            </a:endParaRPr>
          </a:p>
          <a:p>
            <a:pPr marL="578880" indent="-578880" algn="r" rtl="1">
              <a:spcBef>
                <a:spcPts val="700"/>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ديد أوجه الضعف أو المشاكل التي يعاني منها النظام الحالي.</a:t>
            </a:r>
            <a:endParaRPr b="0" lang="en-US" sz="2800" spc="-1" strike="noStrike">
              <a:solidFill>
                <a:srgbClr val="000000"/>
              </a:solidFill>
              <a:latin typeface="Calibri"/>
            </a:endParaRPr>
          </a:p>
          <a:p>
            <a:pPr marL="578880" indent="-578880" algn="r" rtl="1">
              <a:spcBef>
                <a:spcPts val="700"/>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ديد أهداف المشرو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52280" y="228600"/>
            <a:ext cx="8763120" cy="6400800"/>
          </a:xfrm>
          <a:prstGeom prst="rect">
            <a:avLst/>
          </a:prstGeom>
          <a:noFill/>
          <a:ln w="0">
            <a:noFill/>
          </a:ln>
        </p:spPr>
        <p:txBody>
          <a:bodyPr anchor="t">
            <a:normAutofit fontScale="98000"/>
          </a:bodyPr>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00"/>
                </a:solidFill>
                <a:latin typeface="Calibri"/>
                <a:cs typeface="Arial"/>
              </a:rPr>
              <a:t>ثالثا: مرحلة دراسة الجدوى:</a:t>
            </a: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هذه المرحلة في دورة حياة النظام تركز على إيجاد الطريقة المثلى التي يجب من خلالها تحقيق الأهداف التي يتم تحديدها في المرحلة السابقة ولكي تتم هذه المرحلة بطريقة منهجية فإنها تتضمن ثلاث أنشطة هي:</a:t>
            </a: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وليد الحلول البديلة :</a:t>
            </a:r>
            <a:r>
              <a:rPr b="1" lang="ar-SA" sz="2800" spc="-1" strike="noStrike">
                <a:solidFill>
                  <a:srgbClr val="000000"/>
                </a:solidFill>
                <a:latin typeface="Calibri"/>
                <a:ea typeface="Arial"/>
              </a:rPr>
              <a:t>                                                                                                                 قد تتضمن الحلول البديلة المقترحة للنظام الجديد العديد من الخيارات مثل:</a:t>
            </a:r>
            <a:endParaRPr b="0" lang="en-US" sz="2800" spc="-1" strike="noStrike">
              <a:solidFill>
                <a:srgbClr val="000000"/>
              </a:solidFill>
              <a:latin typeface="Calibri"/>
            </a:endParaRPr>
          </a:p>
          <a:p>
            <a:pPr lvl="2" marL="1343880" indent="-44784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إبقاء على النظام الحالي وعدم الحاجة على وجود نظم جديدة.</a:t>
            </a:r>
            <a:endParaRPr b="0" lang="en-US" sz="2800" spc="-1" strike="noStrike">
              <a:solidFill>
                <a:srgbClr val="000000"/>
              </a:solidFill>
              <a:latin typeface="Calibri"/>
            </a:endParaRPr>
          </a:p>
          <a:p>
            <a:pPr lvl="2" marL="1343880" indent="-44784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شراء برامج جديدة جاهز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228600"/>
            <a:ext cx="8763120" cy="6400800"/>
          </a:xfrm>
          <a:prstGeom prst="rect">
            <a:avLst/>
          </a:prstGeom>
          <a:noFill/>
          <a:ln w="0">
            <a:noFill/>
          </a:ln>
        </p:spPr>
        <p:txBody>
          <a:bodyPr anchor="t">
            <a:normAutofit/>
          </a:bodyPr>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لثا: مرحلة دراسة الجدوى:</a:t>
            </a: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دراسة الجدوى:</a:t>
            </a:r>
            <a:r>
              <a:rPr b="1" lang="ar-SA" sz="2400" spc="-1" strike="noStrike">
                <a:solidFill>
                  <a:srgbClr val="000000"/>
                </a:solidFill>
                <a:latin typeface="Calibri"/>
                <a:ea typeface="Arial"/>
              </a:rPr>
              <a:t>                                                                                                                        تمر بثلاث مراحل:</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فنية : تهدف الى تحديد فيما اذا كانت التقنية اللازمة لتنفيذ الحل المقترح متاحة ومتوفرة ويمكن دمجها مع التقنيات الموجودة في المنظمة والتأكد من توفر الخبرات الفنية اللازمة لذلك.</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تشغيلية: يقصد بها التأكد من قدرة النظام على توفير المعلومات الصحيحة في المكان الصحيح وفي التوقيت الصحيح كما تضمن التأكد من أن النظام الجديد سيكون مقبولا ضمن المنظمة.</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اقتصادية: يهدف اختيار الحلول التي تحقق أكبر فوائد ممكنة بأقل التكالي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52280" y="228600"/>
            <a:ext cx="8763120" cy="6400800"/>
          </a:xfrm>
          <a:prstGeom prst="rect">
            <a:avLst/>
          </a:prstGeom>
          <a:noFill/>
          <a:ln w="0">
            <a:noFill/>
          </a:ln>
        </p:spPr>
        <p:txBody>
          <a:bodyPr anchor="t">
            <a:normAutofit fontScale="94000"/>
          </a:bodyPr>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لثا: مرحلة دراسة الجدوى:</a:t>
            </a: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إعداد خطة تنفيذ المشروع:</a:t>
            </a: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نظرا لأهمية هذا المقترح فإنه يجب أن يحتوي الفقرات التالية:</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حديد المشكلة الموجودة في النظام الحالي.</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شرح الحل المقترح ومبررات اختياره.</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جدوى الفنية والتشغيلية والاقتصادية للحل المقترح.</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طريقة المقترحة لتنفيذ المشروع.</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دوار الأفراد والإدارات المختلفة التي ستشارك في تنفيذ المشروع.</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غييرات التي سيحدثها النظام المقترح في طريقة العمل الحالية.</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جب التأكيد مره ثانية على أهمية كتابته بعبارات واضحة وتسلسل منطق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أهداف</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دورة حياة النظ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مراحل دورة حياة النظ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طرق جمع البيانات للتعرف على المشكل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دور محلل النظ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تفاصيل مرحلة التخطيط و التحليل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دورة تطوير النظام</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إن إنشاء نظام معين للمعلومات الإدارية قد لا يعني أن هذا النظام لا يتغير مع مرور الزمن. فلا بد أن يتم تطوير نظام المعلومات للمنظمة ويدخل عليه عمليات التجديد والتحسين من وقت إلى أخر وذلك إما لتغير احتياجات العاملين في المنظمة لنوعية المعلومات المطلوبة أو لظهور مشاكل تعيق كفاءة نظام المعلو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Calibri"/>
                <a:cs typeface="Times New Roman"/>
              </a:rPr>
              <a:t>أهم المراحل التي يجب على المحلل للنظم أن يتمكن من أداءهما :</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أولا :     مرحلة تجميع المعلومات عن النظام الحالي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ثانيا:      مرحلة تحديد المشكلة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ثالثا:      مرحلة دراسة الجدوى</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00"/>
                </a:solidFill>
                <a:latin typeface="Calibri"/>
                <a:cs typeface="Times New Roman"/>
              </a:rPr>
              <a:t>أولا: مرحلة تجميع المعلومات عن النظام الحالي</a:t>
            </a:r>
            <a:r>
              <a:rPr b="1" lang="ar-SA" sz="4000" spc="-1" strike="noStrike">
                <a:solidFill>
                  <a:srgbClr val="00cc00"/>
                </a:solidFill>
                <a:latin typeface="Calibri"/>
                <a:ea typeface="Times New Roman"/>
              </a:rPr>
              <a:t>:</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فهم الجيد للنظام يساعد محلل الأنظمة في:</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حديد لمشاكل النظام الحالي.</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قتراح حلول عملية فعالة للتغلب على هذه المشاكل.</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لبية احتياجات جميع الأشخاص والجهات ذات العلاقة بعمل النظام.</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1)- </a:t>
            </a:r>
            <a:r>
              <a:rPr b="1" lang="ar-SA" sz="4400" spc="-1" strike="noStrike">
                <a:solidFill>
                  <a:srgbClr val="990000"/>
                </a:solidFill>
                <a:latin typeface="Calibri"/>
                <a:cs typeface="Times New Roman"/>
              </a:rPr>
              <a:t>الإطار العام لتجميع المعلومات</a:t>
            </a:r>
            <a:r>
              <a:rPr b="1" lang="ar-SA" sz="4400" spc="-1" strike="noStrike">
                <a:solidFill>
                  <a:srgbClr val="990000"/>
                </a:solidFill>
                <a:latin typeface="Calibri"/>
                <a:ea typeface="Times New Roman"/>
              </a:rPr>
              <a: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cs typeface="Arial"/>
              </a:rPr>
              <a:t>يجب أن تتم بطريقة منظمة ووفق خطة مدروسة ويطلق على هذه الخطة استراتيجيه البحث والتي تتضمن:</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مصادر المعلومات:</a:t>
            </a:r>
            <a:r>
              <a:rPr b="1" lang="ar-SA" sz="3000" spc="-1" strike="noStrike">
                <a:solidFill>
                  <a:srgbClr val="000000"/>
                </a:solidFill>
                <a:latin typeface="Calibri"/>
                <a:ea typeface="Arial"/>
              </a:rPr>
              <a:t> التي سيتم الحصول منها على المعلومات المتعلقة بالنظام الذي تجري دراسته.</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طرق البحث:</a:t>
            </a:r>
            <a:r>
              <a:rPr b="1" lang="ar-SA" sz="3000" spc="-1" strike="noStrike">
                <a:solidFill>
                  <a:srgbClr val="000000"/>
                </a:solidFill>
                <a:latin typeface="Calibri"/>
                <a:ea typeface="Arial"/>
              </a:rPr>
              <a:t> التي سيتم استخدامها لتجميع المعلومات من هذه المصادر.  </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خطة البحث:</a:t>
            </a:r>
            <a:r>
              <a:rPr b="1" lang="ar-SA" sz="3000" spc="-1" strike="noStrike">
                <a:solidFill>
                  <a:srgbClr val="000000"/>
                </a:solidFill>
                <a:latin typeface="Calibri"/>
                <a:ea typeface="Arial"/>
              </a:rPr>
              <a:t> تتضمن المواقع أو العناصر أو الأحداث والعمليات التي يجب أن يتم تجميع المعلومات الخاصة بها.</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الأساليب:</a:t>
            </a:r>
            <a:r>
              <a:rPr b="1" lang="ar-SA" sz="3000" spc="-1" strike="noStrike">
                <a:solidFill>
                  <a:srgbClr val="000000"/>
                </a:solidFill>
                <a:latin typeface="Calibri"/>
                <a:ea typeface="Arial"/>
              </a:rPr>
              <a:t> التي سيتم استخدامها للاحتفاظ بالمعلومات التي سيتم تجميعها وكذلك لتحليل هذه المعلوم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a:t>
            </a:r>
            <a:r>
              <a:rPr b="1" lang="ar-SA" sz="4400" spc="-1" strike="noStrike">
                <a:solidFill>
                  <a:srgbClr val="990000"/>
                </a:solidFill>
                <a:latin typeface="Calibri"/>
                <a:ea typeface="Times New Roman"/>
              </a:rPr>
              <a:t>2</a:t>
            </a:r>
            <a:r>
              <a:rPr b="1" lang="ar-SA" sz="4400" spc="-1" strike="noStrike">
                <a:solidFill>
                  <a:srgbClr val="990000"/>
                </a:solidFill>
                <a:latin typeface="Calibri"/>
                <a:ea typeface="Times New Roman"/>
              </a:rPr>
              <a:t>)-مصادر المعلومات:</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أهم هذه المصادر:</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مستخدمي النظام:</a:t>
            </a:r>
            <a:r>
              <a:rPr b="1" lang="ar-SA" sz="2700" spc="-1" strike="noStrike">
                <a:solidFill>
                  <a:srgbClr val="000000"/>
                </a:solidFill>
                <a:latin typeface="Calibri"/>
                <a:ea typeface="Arial"/>
              </a:rPr>
              <a:t> يعتبر المستخدمين الحاليين أو المحتملين من أهم مصادر المعلومات.</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الوثائق:</a:t>
            </a:r>
            <a:r>
              <a:rPr b="1" lang="ar-SA" sz="2700" spc="-1" strike="noStrike">
                <a:solidFill>
                  <a:srgbClr val="000000"/>
                </a:solidFill>
                <a:latin typeface="Calibri"/>
                <a:ea typeface="Arial"/>
              </a:rPr>
              <a:t> تعتبر الوثائق المستخدمة في النظام مصدرا هاما للحصول على المعلومات المتعلقة بحركة البيانات والمعلومات. </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برامج الحاسب المستخدمة:</a:t>
            </a:r>
            <a:r>
              <a:rPr b="1" lang="ar-SA" sz="2700" spc="-1" strike="noStrike">
                <a:solidFill>
                  <a:srgbClr val="000000"/>
                </a:solidFill>
                <a:latin typeface="Calibri"/>
                <a:ea typeface="Arial"/>
              </a:rPr>
              <a:t> تستخدم كمصدر لمعلومات في أنظمة المعلومات.</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أدلة الإجراءات:</a:t>
            </a:r>
            <a:r>
              <a:rPr b="1" lang="ar-SA" sz="2700" spc="-1" strike="noStrike">
                <a:solidFill>
                  <a:srgbClr val="000000"/>
                </a:solidFill>
                <a:latin typeface="Calibri"/>
                <a:ea typeface="Arial"/>
              </a:rPr>
              <a:t> تحدد عادة هذه الأدلة طبيعة الأنشطة والمهام والمسؤوليات التي يقوم بها المستخدم لانجاز العمليات المختلفة.</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التقارير:</a:t>
            </a:r>
            <a:r>
              <a:rPr b="1" lang="ar-SA" sz="2700" spc="-1" strike="noStrike">
                <a:solidFill>
                  <a:srgbClr val="000000"/>
                </a:solidFill>
                <a:latin typeface="Calibri"/>
                <a:ea typeface="Arial"/>
              </a:rPr>
              <a:t> تساعد في تعريف محلل الأنظمة على المخرجات المطلوبة لتلبية احتياجات المعلومات لمستخدمي النظ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2000"/>
          </a:bodyPr>
          <a:p>
            <a:pPr marL="560520" indent="-56052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المقابلات الشخصية:</a:t>
            </a:r>
            <a:endParaRPr b="0" lang="en-US" sz="2800" spc="-1" strike="noStrike">
              <a:solidFill>
                <a:srgbClr val="000000"/>
              </a:solidFill>
              <a:latin typeface="Calibri"/>
            </a:endParaRPr>
          </a:p>
          <a:p>
            <a:pPr marL="560520" indent="-560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بعض العوامل الهامة التي يجب مراعاتها عند استخدام هذه الطريقة لتجميع المعلومات:</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ختيار الصحيح للأشخاص الذين ستتم مقابلتهم.</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حديد التسلسل الصحيح لإجراء المقابلات.</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خطيط للمقابلات .</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لخيص نتائج المقابلة بعد الانتهاء منها مباشره لتوثيق المعلومات الهامة التي تم الحصول عليها.</a:t>
            </a:r>
            <a:endParaRPr b="0" lang="en-US" sz="2800" spc="-1" strike="noStrike">
              <a:solidFill>
                <a:srgbClr val="000000"/>
              </a:solidFill>
              <a:latin typeface="Calibri"/>
            </a:endParaRPr>
          </a:p>
          <a:p>
            <a:pPr marL="560520" indent="-560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609480" indent="-60948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أنواع الأسئلة في المقابلات الشخصية:</a:t>
            </a:r>
            <a:endParaRPr b="0" lang="en-US" sz="28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مفتوح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مغلق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تفسيرية</a:t>
            </a: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8:32:20Z</dcterms:created>
  <dc:creator>wajjoha</dc:creator>
  <dc:description/>
  <dc:language>en-US</dc:language>
  <cp:lastModifiedBy>mashael</cp:lastModifiedBy>
  <dcterms:modified xsi:type="dcterms:W3CDTF">2012-11-11T23:52:43Z</dcterms:modified>
  <cp:revision>15</cp:revision>
  <dc:subject/>
  <dc:title>مبادئ تحليل وتصميم النظم</dc:title>
</cp:coreProperties>
</file>