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4F37-A452-41C9-8343-DE11B0C41AB1}"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5FE9-0421-4951-AE64-1652AA6F9C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0F92-1D32-4635-961A-99F37BAE2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A2C81-98FE-4D81-A622-B68A266C4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100" spc="-1" strike="noStrike">
              <a:solidFill>
                <a:srgbClr val="000000"/>
              </a:solidFill>
              <a:latin typeface="Calibri"/>
              <a:ea typeface="Arial"/>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10AA-8B1E-4DB3-9AA0-F77971EA83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8695-89B4-4893-A454-BBAC4B648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73AC-14B4-4646-BD0D-314194374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9C39-2372-4973-82CC-CB26C95242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924C-5949-4323-8DFE-02BC7555A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B280-1F08-49EA-8A67-E0468A0EA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340C-D0B9-457B-8141-381578E5A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ED01-22C7-4B87-A0E1-3A60ED901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58C1-4584-41ED-BBD9-270A7E363D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658E-BA1A-45E7-862F-150B7F97E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E232-1DE3-449D-8B63-2F342B228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24CA-1DBB-4DC0-94EF-0C39496B5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D90E2-D4E4-45E7-A525-3DE37F61F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AB7D-2BEF-4F19-BA95-D8A6550339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01A1-3D9E-4083-B22D-9CE881CEA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FE0A-7CDD-4574-89E7-B1EC16BB2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856A-5F2E-45C7-A86F-CAB16E226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8FB70-FAD0-45FE-9F0B-B052EAC6B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A21B-7106-4376-821E-8E26467DE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AAC5-D5DA-4E1D-959E-0AA654E5CC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0113-832F-49ED-B9DE-3F1281505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AFEB-17A3-431E-9DE1-DDF765865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6144-4340-4B2C-806A-D3885A129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A9F7-1863-4F59-A15C-4A5102554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CACC-5DF8-47B8-A8FB-8EBF26A8D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9BB0-FA8C-4CFB-957D-22177312A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ar-SA" sz="1200" spc="-1" strike="noStrike">
              <a:solidFill>
                <a:srgbClr val="000000"/>
              </a:solidFill>
              <a:latin typeface="Calibri"/>
              <a:ea typeface="Arial"/>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599E-C9C9-4BBC-AEE0-76E5272FE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0685-AE7B-4946-B70B-CCD22049E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F573-D512-4B77-BCDC-EFDB2933FF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ED5B0-4F14-4D1E-8FBC-34FAECC44C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54D1A91-2A94-4AE3-A907-0EF5984E90B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EFDC8773-31A4-4DA2-825A-BAE24C76FBE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F9B0E073-F745-4D44-9A6F-FA8731DA9F8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3B774BF-A1F2-4523-9414-922A4A68A0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3F7D0236-22A0-4D55-B009-FAE7910C24D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F747FBC5-BB10-47BD-AB8D-854644F2C2E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6504F203-00A4-4B70-B35B-26088685420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1A14AA9-8E5C-4995-85CA-30A138575D5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7EF22BD-915A-4908-8397-2897C7950B5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0DBDCA1A-8477-42D2-A051-3D12A6AD5F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86376259-E1C7-4789-8704-AE5D0B8569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FBEAB81-F016-457F-8994-1F9140E1465C}"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5ECE15B-F3AE-4F7D-91C6-AB43CFAEDDC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13DB31-9D53-4DA3-81B2-B3FB3B0AFE5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795F47E-97CB-4BB9-9CC0-250282CD735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07F30F2-3840-45AD-B829-0A1AC882A24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38AF029-9677-4D42-88F8-B525BFC2586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7A8151-F980-4521-96D3-41650C009A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915D815-3F1D-4CC5-9F81-6DCF0CBF4A9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FB6C410-F112-4AED-9262-312D9E9A5D0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695E98-713D-43CD-BF15-9580EB17842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EA28411-CEA8-4E06-97DA-90797270050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7E29634-8186-4C2B-BDCF-3436B790179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685F9F0-9CC2-4219-8092-3B05E2AA840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084FAB5-C0BC-4B4D-BB35-C43DBD0BF5D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67667AE-E232-4E07-9CD1-343CC22ABA8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3DB5175-354A-4226-9298-B7A55F32D2F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DC69-C008-4CC7-9846-49930F584FC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EF46-CD69-45B1-BF88-D78F4AE900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B7D2BE6-BC0B-4953-BF29-DBF6AD6A253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61CE-3DB0-4B7E-9B1A-472C79677284}"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C1F2-C2B3-425D-8ED2-BB4ABEABA0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61FE1B7B-3666-4CD3-8274-0DBA1D566D7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14682A6-1082-4141-B039-792918035BC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B1B4892-0339-46DD-8F1E-D74A53E9257E}"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BB27F31-A5F6-41DF-9293-4D480BD0154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AB6F72C-E388-4262-80E7-7C27E1D2868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17211A3-AFF8-44D0-B4C6-11A9E8AF725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08F0643-F561-47F5-A3B6-CE6D9F5A887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DE12087C-DB3E-4CC2-BA51-1F8D347A9BD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65C0963-1A14-4E0E-93EE-42D033C2A31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B68F89F-FAEE-463F-87D8-1635A10071E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F2CC6105-7FBB-4FDC-A8D0-0DA32B1CC225}"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2EE265F-F723-460D-8422-23F2E9AC074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CBEF3E48-EB9B-4310-AE04-284FC433A59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353A5B87-BAD1-4490-8EE1-F0C39D3409E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p:transition spd="med">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3"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8" name="Diagram 7" descr=""/>
          <p:cNvPicPr/>
          <p:nvPr/>
        </p:nvPicPr>
        <p:blipFill>
          <a:blip r:embed="rId1"/>
          <a:stretch/>
        </p:blipFill>
        <p:spPr>
          <a:xfrm>
            <a:off x="1560600" y="3505320"/>
            <a:ext cx="5297400" cy="2273040"/>
          </a:xfrm>
          <a:prstGeom prst="rect">
            <a:avLst/>
          </a:prstGeom>
          <a:ln w="0">
            <a:noFill/>
          </a:ln>
        </p:spPr>
      </p:pic>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0"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mass</cp:lastModifiedBy>
  <dcterms:modified xsi:type="dcterms:W3CDTF">2013-06-07T09:45:52Z</dcterms:modified>
  <cp:revision>56</cp:revision>
  <dc:subject/>
  <dc:title>Slide 1</dc:title>
</cp:coreProperties>
</file>