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EA90-E369-4E82-B676-4FBDD5712309}"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1D23-0171-4D76-A059-99BD4284F40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0E46-7B75-47B6-BD01-D24FB543A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A944-4D26-46CC-8275-C90566B81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7C8D-439F-4043-B5F8-D7AD0FF95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0A79-1549-4E88-830D-62690F8A3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FD0B-CC60-4080-ACB1-C62FD8A30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C0DD-2188-4771-85CD-A83425194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5F86-BA8C-4341-9581-4E64850C7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9E53-B71D-4B32-AE12-9F9641EA3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ACF4-59D2-4E65-91FA-0DC35AF0C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3F05-778B-4D24-A454-EBE86BDF6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9DF2-F11C-4089-8923-6A84FC16F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8CD1-15D2-459E-9D81-155F2F7BD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DFCC-25DC-48DA-901A-7DA012210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A3A2-1BD5-4723-AC2C-50476D1AE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A3C4-86F5-49EE-B6BB-5DE00BC3F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A92F-A28A-43E2-AF4F-399A391F5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FEF9-C825-484B-B86B-25205864A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D6E4-10C3-442F-AA52-58334B570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33E8-98EC-4532-9120-930B3BFCD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2585-DEA0-4C4E-9FC6-CCE2A97CA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536F-CF52-40A9-9DE8-AA8517699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3E89-A3D3-4D8D-95F3-437D11862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62AA-D4EB-4E68-83D4-0D91AE9F4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CF18-7722-499D-B436-1776F973C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7EA5-E173-4F5F-8252-23BBA54DD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0D60-0760-42E6-B147-E19D5EF79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4909-CDF1-4CAF-9D51-573733C4E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99E8-47F3-4CBC-BD70-818DF88F5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1F98-9542-4966-AE24-9F1B230E2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9DBF-E1CF-418B-9E5B-F0FB5C9B4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A06C-09A7-4CEE-9804-31D45BBD1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EC92-6170-433F-A114-AF6036DAB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B6BA8E6-4DC1-4A90-BF75-6D3ECA6C4AF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EE8DFA5-A34E-4C1B-920D-A9FE8E83B00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EB64451-05AA-48BF-B8F1-900A94B7C8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37491B5-F1A8-42FB-A9AB-562677F260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5AC4754D-80B7-4633-8A77-7A9C081D4FA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B735C19-5623-4981-9BFB-685D2BD015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D891DE6-FA8F-4FFC-B9E9-B80F0BA22E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D027D46-2527-4CE1-937C-7AF9430050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8B67828-6B36-4A9C-B7CE-9E3EDC6D52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9B5D7B7-BBCA-4E3C-806C-C509B5ED94E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5D338FE6-BBF4-4E10-9F63-0B1366B4B0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059EE74-D7DC-4D7D-B43D-C6B053A983C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545B8A0-F888-4096-ACE1-86490D5E589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7E0374B-BDC4-40CB-A5F9-C95E866B9CD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BBE4C47-BF39-4B90-8BC3-4D908D355E7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46D4266-AA1E-444B-8E5E-9BDD1BB5691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6D60B1-9581-4C31-96C4-93AA0C5FD24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678199-FC4B-4A5F-A999-167C520F364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23196D7-D703-4EF4-A628-767BE3C145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0CA16D-D18F-416E-8B62-BDB3A66BDC5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E6DB3D1-58AA-442C-B3EE-4B0DE704D83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1288643-1428-4B5D-A0AA-BF12EAB91C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DF3FA70-0D5A-4E8C-8F2D-235E6EAD251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44D31B9-C29C-4616-BA9E-1C4E150148E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88C9A2A-0E32-46A8-A57E-4C93A0A1B8B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028E791-8BC3-47C4-9BDE-486D80E3269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8E9B149-AE40-4450-966F-CAF59337C62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16BF-D068-4F88-8DD5-90A936803DE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660F-5D48-46B1-8B0D-C734DF51A9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B8805BE-0120-4379-B8E7-3B7FC897107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516C-9CB6-431D-B91E-6F16EDDD27F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AAE2-39D6-4B55-AFE0-DC9E83A4BC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9DD55CA8-3771-42DB-8131-45A23DABFFA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F1DC520-6D0C-4BC7-99FF-472A8490D70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BB5D611-49BB-4981-AB49-FAF209F8D47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F0DA53D-04F9-451F-8F76-A1B10E18931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B913F69-AD40-4B1E-8814-AD0541FD138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BE89F9F-25E9-46D5-99EB-70FF209712E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D9E2E06-AEB9-4A6F-A6D4-E8FD819ED9A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4C7EC0B2-08F1-4968-A33D-795F67C869F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F479FBA-8EA5-460F-B7DD-812F4CF1657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C296C8F-B21C-4FDE-8691-FDD2F1CD2BA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9F649E0-DA7E-4916-ABF0-B5ACD040AFF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841DAC4-4C5D-4A18-9B66-491CB3321D1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1A3649E-A418-42CE-B64E-410CAC5D926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57E3E01-1217-49C1-B3E0-35AEF74553C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0720" y="2127240"/>
            <a:ext cx="8242560" cy="4005360"/>
          </a:xfrm>
          <a:prstGeom prst="rect">
            <a:avLst/>
          </a:prstGeom>
          <a:ln w="0">
            <a:noFill/>
          </a:ln>
        </p:spPr>
      </p:pic>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17760" y="2120760"/>
            <a:ext cx="6046560" cy="4084920"/>
          </a:xfrm>
          <a:prstGeom prst="rect">
            <a:avLst/>
          </a:prstGeom>
          <a:ln w="0">
            <a:noFill/>
          </a:ln>
        </p:spPr>
      </p:pic>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38120" y="1901880"/>
            <a:ext cx="8352000" cy="3998880"/>
          </a:xfrm>
          <a:prstGeom prst="rect">
            <a:avLst/>
          </a:prstGeom>
          <a:ln w="0">
            <a:noFill/>
          </a:ln>
        </p:spPr>
      </p:pic>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27040" y="2438280"/>
            <a:ext cx="6212160" cy="4078440"/>
          </a:xfrm>
          <a:prstGeom prst="rect">
            <a:avLst/>
          </a:prstGeom>
          <a:ln w="0">
            <a:noFill/>
          </a:ln>
        </p:spPr>
      </p:pic>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0" name=""/>
          <p:cNvSpPr txBox="1"/>
          <p:nvPr/>
        </p:nvSpPr>
        <p:spPr>
          <a:xfrm>
            <a:off x="837720" y="2209320"/>
            <a:ext cx="762012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3" name=""/>
          <p:cNvSpPr txBox="1"/>
          <p:nvPr/>
        </p:nvSpPr>
        <p:spPr>
          <a:xfrm>
            <a:off x="685800" y="2209320"/>
            <a:ext cx="7772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in-time system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ID</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exact product location</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 shelv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ing orders automaticall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portation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8" name="Diagram 7" descr=""/>
          <p:cNvPicPr/>
          <p:nvPr/>
        </p:nvPicPr>
        <p:blipFill>
          <a:blip r:embed="rId1"/>
          <a:stretch/>
        </p:blipFill>
        <p:spPr>
          <a:xfrm>
            <a:off x="1560600" y="3505320"/>
            <a:ext cx="5297400" cy="2273040"/>
          </a:xfrm>
          <a:prstGeom prst="rect">
            <a:avLst/>
          </a:prstGeom>
          <a:ln w="0">
            <a:noFill/>
          </a:ln>
        </p:spPr>
      </p:pic>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0" name=""/>
          <p:cNvSpPr txBox="1"/>
          <p:nvPr/>
        </p:nvSpPr>
        <p:spPr>
          <a:xfrm>
            <a:off x="685800" y="1981080"/>
            <a:ext cx="777240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 (electronic data interchang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MI (vendor-managed inventory)</a:t>
            </a:r>
            <a:endParaRPr b="0" lang="en-US" sz="2800" spc="-1" strike="noStrike">
              <a:solidFill>
                <a:srgbClr val="000000"/>
              </a:solidFill>
              <a:latin typeface="Calibri"/>
            </a:endParaRPr>
          </a:p>
        </p:txBody>
      </p:sp>
      <p:sp>
        <p:nvSpPr>
          <p:cNvPr id="86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3"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party logistics</a:t>
            </a:r>
            <a:r>
              <a:rPr b="0" lang="en-US" sz="2800" spc="-1" strike="noStrike">
                <a:solidFill>
                  <a:srgbClr val="000000"/>
                </a:solidFill>
                <a:latin typeface="Calibri"/>
              </a:rPr>
              <a:t> is the outsourcing of logistics functions to third-party logistics providers (3PL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57280" y="2359080"/>
            <a:ext cx="6205680" cy="4505400"/>
          </a:xfrm>
          <a:prstGeom prst="rect">
            <a:avLst/>
          </a:prstGeom>
          <a:ln w="0">
            <a:noFill/>
          </a:ln>
        </p:spPr>
      </p:pic>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mass</cp:lastModifiedBy>
  <dcterms:modified xsi:type="dcterms:W3CDTF">2013-06-07T09:45:52Z</dcterms:modified>
  <cp:revision>56</cp:revision>
  <dc:subject/>
  <dc:title>Slide 1</dc:title>
</cp:coreProperties>
</file>