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1356-9FAD-4955-A2E7-80BD5768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946-BE89-41B4-873E-19D90181A04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E90-1F40-4D80-AF10-80BCD4A55522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6862-9513-4770-ACA7-190C88FADD5E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ED0-C3EB-42BF-97D7-F537526AD7B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38F-EDEF-49C3-A921-F5CDFC42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81B-DD47-4FF5-B154-6F4DFFD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9D4-D5A8-419D-AAA1-F777AA60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A88-C6A4-4E2F-81A0-8335E4CE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101-E26B-4ABE-9575-71525D5F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E736-3C5B-400D-A45B-4FAFA2F1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2A71-3FC2-4619-AD95-6FF52F3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153-F5F2-42BB-A752-EBE56E49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3E1-5AF1-4CFB-B480-743D094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77B-E524-4630-A343-8B6F9FA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861-F5DD-484E-BB4E-4863E68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D75-92FB-40D7-B0E2-78695E6C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92A3-39EF-4106-8D1B-FD0B77D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58B-43E1-4C40-8D00-0C07C69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EAE-0502-4DD1-AE8D-F52EA5B0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4DB9-56AE-4E22-B487-CD8205E4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A25-725E-4612-9F60-8E55328A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6D9-D1C9-445E-80DA-A073D31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7FC-EF62-4C4F-A4C6-146F2AF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870-7A4A-4674-A4C5-9DF56339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FE7-7E1F-4F55-9D38-D4FA1B35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8F2-122B-4FB3-B433-E7EABBB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9B9-AF18-4A17-A036-8FCBA8A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1E5-7448-4EE6-9D5C-4E8DBBC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A6EE-316A-4C0F-A353-D67EA661B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AF7-067B-4D38-897E-6B905BB0BED5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8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20"/>
          <p:cNvSpPr txBox="1"/>
          <p:nvPr/>
        </p:nvSpPr>
        <p:spPr>
          <a:xfrm>
            <a:off x="3200400" y="1523880"/>
            <a:ext cx="2733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apter 2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E5F5-7169-4ADF-9634-58434ED232B7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croscopic prokaryo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numerous organisms on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ancient; earliest forms of lif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cteria are part of every environment on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are adapted to places where nothing else can li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6002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E1A-50D9-4B70-850C-E2F8688D5297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ck deposits in Australia contain fossils of bacteria 3.5 byo; in relatio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Eukaryotic cells (protists) 2.5 by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dern Humans only came about 100,000 years ag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l Evolu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5" descr="MMj02951780000[1]"/>
          <p:cNvPicPr/>
          <p:nvPr/>
        </p:nvPicPr>
        <p:blipFill>
          <a:blip r:embed="rId1"/>
          <a:stretch/>
        </p:blipFill>
        <p:spPr>
          <a:xfrm>
            <a:off x="3581280" y="4343400"/>
            <a:ext cx="2514600" cy="125748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BF3-540B-439B-99EC-A7192AA41556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, all modern organisms evolved from bacter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33216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94920" y="12193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PROKARYOTIC:  single-celled; no nucleus or membrane-bound organel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Few morphological differences between types of bacteri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Do not vary much in shape &amp; size like other organis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Grouped into taxa based on structure, physiology, molecular composition, &amp; reaction to specific types of stai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523880" y="30492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l Classific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5" descr="MPj04074920000[1]"/>
          <p:cNvPicPr/>
          <p:nvPr/>
        </p:nvPicPr>
        <p:blipFill>
          <a:blip r:embed="rId1"/>
          <a:stretch/>
        </p:blipFill>
        <p:spPr>
          <a:xfrm>
            <a:off x="3809880" y="5181480"/>
            <a:ext cx="2362320" cy="14302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256F-6CF3-4827-8556-5C98B155622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02:55Z</dcterms:modified>
  <cp:revision>9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