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0B44-45EA-44EE-9F8B-206EAD872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869F-9A07-4CFB-B43F-9F1860E80621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82B4-DABD-40FB-B677-35103A26EC83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F4D-7B47-4C05-AED2-CA61A413AD0F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8B76-655A-4FA6-BEE2-A61F23A18E66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F84-A4D4-4783-BE58-041229D5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205-1CD1-420A-8736-C3FF62A5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697-EC2C-4B66-8DE3-C4C31558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D1D-EF95-4D14-9F4B-A92964C1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A664-A9CB-49B7-A42F-C5A2315A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353A-CDA8-4495-9C70-1F99F5C3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A505-FCC1-4E50-B46F-DA9F7A6B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E95-DF20-4C2E-B3E1-E4C6EB19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020-FBEF-4BD8-A673-A54AB0E5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A248-8407-41B3-80D5-BD82EB35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A9F0-D994-4E4E-B7AE-E7A32EAB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8C8-6161-447C-9C50-307024F6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445-C5F7-4EFD-AAA8-449470F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AFFB-8AF8-4607-9D13-7767FF2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75CF-3E54-4C0A-86F5-F28B5AB5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B929-FD9E-4887-945D-E63263D4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1683-1407-4D08-9264-C93D9F25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914-1752-4B3C-9E74-B1FD4007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74C-FAB7-41F8-8454-4FF455F0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8D2-6753-4599-8969-1EE10699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38A-0B36-4D4E-A917-DE179DEE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4C5-0859-4EBF-9A42-C4D6BC1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DAA-321E-45B9-A114-01C68A7D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CC2-9608-4AD0-8388-7999C5C2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F56C-77F0-4FA3-A1CF-8A427D8E9D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5049-DCDA-4FCB-B170-68792D0EABCF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Thermoacidophil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ve in extreme acidic environments, high temp., low p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ep sea hydrothermal v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t springs, geys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rchaebacteri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8" descr="300px-Hydrothermal_vent"/>
          <p:cNvPicPr/>
          <p:nvPr/>
        </p:nvPicPr>
        <p:blipFill>
          <a:blip r:embed="rId1"/>
          <a:stretch/>
        </p:blipFill>
        <p:spPr>
          <a:xfrm>
            <a:off x="5867280" y="4267080"/>
            <a:ext cx="285768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ot%20spring%20near%20Old%20Faithful%205_30_04"/>
          <p:cNvPicPr/>
          <p:nvPr/>
        </p:nvPicPr>
        <p:blipFill>
          <a:blip r:embed="rId2"/>
          <a:stretch/>
        </p:blipFill>
        <p:spPr>
          <a:xfrm>
            <a:off x="1295280" y="4419720"/>
            <a:ext cx="4038840" cy="220968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5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4F88-1F66-4577-9DB5-9257EB3CDDA3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vided into MANY different phyla according to evolutionary relationshi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generally recognized phyla ar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YANOBACTER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PIROCHETE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AM-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TEOBAC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ubacteri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F40C-C5D5-4715-B4A2-08F184CB1A7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53352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Eubacteria come in three basic shape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Bacilli (bacillus)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: rod-shape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Cocci (coccus)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: sphere-shape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Spirilla (spirillum)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: spiral-shape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Picture 6" descr="bacilli"/>
          <p:cNvPicPr/>
          <p:nvPr/>
        </p:nvPicPr>
        <p:blipFill>
          <a:blip r:embed="rId1"/>
          <a:stretch/>
        </p:blipFill>
        <p:spPr>
          <a:xfrm>
            <a:off x="7391520" y="1676520"/>
            <a:ext cx="156204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spirilla"/>
          <p:cNvPicPr/>
          <p:nvPr/>
        </p:nvPicPr>
        <p:blipFill>
          <a:blip r:embed="rId2"/>
          <a:stretch/>
        </p:blipFill>
        <p:spPr>
          <a:xfrm>
            <a:off x="5486400" y="5257800"/>
            <a:ext cx="2514600" cy="146844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6"/>
          <p:cNvSpPr/>
          <p:nvPr/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5ACF-6E3C-4BBA-A83E-03E22C53B554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7642080" y="3352680"/>
            <a:ext cx="150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ell forms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plo- pai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trepto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chai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taphylo: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pelike clus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E2D3-F875-4709-B60A-92AC1C1766EC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10" descr="003cocci"/>
          <p:cNvPicPr/>
          <p:nvPr/>
        </p:nvPicPr>
        <p:blipFill>
          <a:blip r:embed="rId1"/>
          <a:stretch/>
        </p:blipFill>
        <p:spPr>
          <a:xfrm>
            <a:off x="5715000" y="304920"/>
            <a:ext cx="3029040" cy="2550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3113280" cy="2438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6705720" y="4724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dentify thi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6:55:01Z</dcterms:created>
  <dc:creator>Brock  Silvestri</dc:creator>
  <dc:description/>
  <cp:keywords/>
  <dc:language>en-US</dc:language>
  <cp:lastModifiedBy>Mysoon Al Ansari</cp:lastModifiedBy>
  <dcterms:modified xsi:type="dcterms:W3CDTF">2013-08-28T18:15:07Z</dcterms:modified>
  <cp:revision>10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