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5D3B-0771-4A7D-A2E5-A259FDFB3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A50C-4994-4F2F-B758-F113A8168CC5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B8EC-14C0-467B-97CC-92EE7765068D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C5CC-FC6E-4E8B-92E5-0EFDF4A7FD92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7CA4-647D-4298-9EAC-14EDAEB026D9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60C-C6E5-44D7-9BD0-010553E9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8B7-C83C-426F-9EFE-C18990D6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766-CCB2-4A0F-A76D-D825301D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E6B-F13B-4040-9B6D-60B42098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1933-B3E2-4D96-8031-8C47DEFB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0B20-6D2D-4528-8615-49277805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8632-0E6A-4AD9-B2EA-9CEB578F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7A7E-13E2-4F63-8C7A-6D0B6A7E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D933-D8AC-4E59-A961-176E6606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7BFE-1920-4160-855E-F7B6531F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C272-87C6-44EC-B790-7F40EAB5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125-A06E-45A9-80F2-FD9F4636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94E6-1C84-4BD7-86B8-1114166A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D51E-9215-493B-8237-FC81FF5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E6FD-DFC1-4085-A75B-53AD76C4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EAB9-3B57-474D-998D-7A065DEA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067A-85FA-4E17-A101-FB682422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843-0462-4D70-8550-FC812696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C1E-DECE-4BA4-BFD7-F323C0C7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7E7-CFD8-45E2-8EBB-34B961C4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D12-2A25-4D07-A1A3-6D5BA8E7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645-42F0-4497-98C8-B2E9967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9DC-DF5A-4C9A-BD61-61DE3E1B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A7A-6598-43DF-B96B-E6DA2EFD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08BD-2604-43B1-BC61-9784C08EEC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0835-D2E7-4713-8996-3203FAB4074A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ubacteria cell walls are made of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Peptidoglyca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ckness of cell wall and other membranes protects bacteria against some kinds of antibiotics by preventing their entry into the cel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lassification by Structur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267440" cy="424368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BCFC-9C7B-40DF-9D5D-B94CED80B4F7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species of bacteria can be grouped into 2 categories based on their response to a laboratory technique called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Gram Stainin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xonomists divide bacter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o various sub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cluding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ram-Positiv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&amp; Gram-Negative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ram Stai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708280" cy="269568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7ECE-366A-43A7-BE5E-FE191F3BD191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90360" y="1295280"/>
            <a:ext cx="78483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echnique involves staining bacteria with purple dye (Crystal violet) &amp; iodin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n rinsed with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n restained with a red dye (Safranin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ram-Positive Bacteria will retain the PURPLE DYE and appear Purple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ram-Negative Bacteria will appear RED (pink) from the RED DY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epending on cell walls, bacteria absorbs either purple/red dye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ram Stai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048120" y="4267080"/>
            <a:ext cx="3504960" cy="235764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7886-5E87-4931-B64C-CD7EEFC237E1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1981080" cy="1648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6705720" y="4343400"/>
            <a:ext cx="2133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949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Gram-Positi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bacteria have thicker layer of peptidoglycan in cell wal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ram-Positive and Negative differ insusceptibilities to antibacterial drugs, produce different toxic materials, &amp; react differently to disinfectant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ram Stai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81280" cy="34858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5410080" y="4495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e2a00"/>
                </a:solidFill>
                <a:latin typeface="Calibri"/>
              </a:rPr>
              <a:t>Gram + (top), Gram – (bottom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D617-DCD2-47C3-A9D0-455E9CB50ECB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105520" y="518148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Note: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Gram-negativ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acteria have cell wall including an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er membran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mposed of a layer of lipids and sugars: 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lycocalyx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6:55:01Z</dcterms:created>
  <dc:creator>Brock  Silvestri</dc:creator>
  <dc:description/>
  <cp:keywords/>
  <dc:language>en-US</dc:language>
  <cp:lastModifiedBy>Mysoon Al Ansari</cp:lastModifiedBy>
  <dcterms:modified xsi:type="dcterms:W3CDTF">2013-08-28T18:18:42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