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FDFD-A183-448A-9064-23F090B19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60AA-BBCF-4D6E-B28E-3E161A541091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B472-E41E-441D-A67B-2D4C315099E9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C92A-2C61-482F-BAFC-C96325896E8F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6A5F-4797-4BD1-8AE4-FB5277D97B20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EC3-96F1-4DAC-AAAB-D48696F9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447-5295-4730-978C-DE8605EB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242-303A-438B-BB26-E234A6E6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97C-FE32-479F-B03F-F483A714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0D82-8A30-47AB-8E5C-D7AE8C26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7000-AD32-4E22-A9ED-013CB281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7834-DAA2-4B22-82DC-635E4491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F9BC-692E-4EFF-9C10-E854CE2F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FBD5-8354-4B40-B4E8-4DDF8FF5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F627-81ED-44B4-82CA-23C25430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9174-D478-40B8-902E-C0A5D7F4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5FA-7874-4724-91D7-A55F1A0D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7B16-BF59-4630-936D-A3A1F0C5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D1F5-7702-40DC-B38F-A959809B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FF41-82C1-4927-842C-49EC62E7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32A0-CBE9-4425-A3E2-7A4853AE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F735-91CC-4760-9F7B-CCC1CAD0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ECB-EA6E-4225-85F0-6512E61E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1E4-EF36-4C8A-B91D-FFFD080C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4F3-575B-4C40-BBFD-3FE7C64B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764-CDF2-44E3-B4EA-ACFB43A9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614-1871-48AF-AFFB-83DD3AB6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7C6-2CE3-4399-9E5D-A0FB91A5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0AC-F59C-4F69-93D2-02933A26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51F6-6DCA-4FED-83E6-2F33C319BC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09DB-5B84-43D7-BA74-3514B8657DAD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osed of 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ytoplasm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ome bacteria have distinctive structures, such a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lagella,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capsules, and outer membrane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acterial Anato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11D2-66B2-4BE3-8575-5C46BD1B7A44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476960" cy="3643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990720" y="5181480"/>
            <a:ext cx="7848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Capsule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(glycocalyx) an additional (optional) outer covering; protects against drying or harsh chemicals &amp; host body's white blood cells, which would otherwise engulf (eat) i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3429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Flagella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: whip-like structure used for move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Pili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(pilus) short, hair-like protein structures found on the surface of some species of bacteria 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elp bacteria hold on to host cells &amp; can be used to transfer genetic material from one bacterium to anoth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tructur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Picture 6" descr="General%20Bacteria"/>
          <p:cNvPicPr/>
          <p:nvPr/>
        </p:nvPicPr>
        <p:blipFill>
          <a:blip r:embed="rId1"/>
          <a:stretch/>
        </p:blipFill>
        <p:spPr>
          <a:xfrm>
            <a:off x="4038480" y="1371600"/>
            <a:ext cx="4648320" cy="3733920"/>
          </a:xfrm>
          <a:prstGeom prst="rect">
            <a:avLst/>
          </a:prstGeom>
          <a:ln w="0">
            <a:noFill/>
          </a:ln>
        </p:spPr>
      </p:pic>
      <p:sp>
        <p:nvSpPr>
          <p:cNvPr id="97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9A44-0B90-49BD-B244-C232D3DA0755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040" y="137124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karyotes have lots of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ibosom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but no organelles with membran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 not have mitochondria or chloroplasts so use cell membranes to carry out cellular respiration or photosynthe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tructur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4800600" y="4267080"/>
            <a:ext cx="257976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F9BB-7DCC-4BE3-9A6B-507F3DB52122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876920" y="1219320"/>
            <a:ext cx="426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ve a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ingle chromosom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:  DNA in single closed loo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y also have small loops of additional genes: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lasm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360" y="1218960"/>
            <a:ext cx="5105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spore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 is a dormant structure that is produced by Gram-positive bacterial species that are exposed to harsh environmental condition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Cell is encased in a protective covering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Makes them VERY hard to kill!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When conditions improve they break open &amp; resume producing new bacteria cells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tructur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667240" cy="176832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5017-4A76-4363-BD0F-CBFA7A51CBBE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6248520" y="16002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is bacterium has formed an ENDOSPOR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172200" y="5181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ifference between 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isinfect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and 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terilize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6:55:01Z</dcterms:created>
  <dc:creator>Brock  Silvestri</dc:creator>
  <dc:description/>
  <cp:keywords/>
  <dc:language>en-US</dc:language>
  <cp:lastModifiedBy>Mysoon Al Ansari</cp:lastModifiedBy>
  <dcterms:modified xsi:type="dcterms:W3CDTF">2013-08-28T18:20:25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