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E6EA-7857-4E0E-AF11-34EE2E97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27E-711E-4DBB-8116-AEBE2551B6D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B84-1DD7-43F8-A4BE-02E08EB7C954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6C5-0DAF-49BE-A8C0-20E68DD0726B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A08D-4149-4026-B7CE-BEFD01E9635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5E7-14E5-4A5B-BF9C-003A087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624-E6E0-4611-8A5F-8700C547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493-6781-44B4-9D8F-A91A8941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EB1-D5FE-43EF-BD3C-07E4EF5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EC5C-72EE-4776-8049-69ECE9D2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0FF-18FE-435A-8E8F-3DDF3ED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A6F-BBD6-4915-9ADE-74E2C59D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2194-A8CF-4989-8236-816E147D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4619-2B80-45D9-B60F-E54516DA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CD2-5737-46A8-9053-0555AA5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9B37-28DF-469E-B2C0-5663F14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1F4-9855-4378-AB59-2B75CE48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781-70E8-46B9-BF33-8411A80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D17E-C439-4861-B213-11B1504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643F-BC95-4BD9-9667-ECE4C9A9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ABE-8C1E-42ED-B38F-C72FEDE6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A489-7774-4CBF-8C8D-F9518F60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147-BC71-41AB-A00F-3A844230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F3C-FAC5-4BAC-AA0B-50062E9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78D-4D73-4258-8B2D-BD7BF5E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E75-36B7-4ACC-9F78-5A6D8888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0D8-9781-49A2-8F98-B817FAA2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D90-6C87-4115-873B-D9041EF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26D-D696-46CB-9514-F532E02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B183-1D8E-428F-8EC8-9890EE31DC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C85-6994-40BC-ADD0-6089A7649D0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tanus" TargetMode="External"/><Relationship Id="rId2" Type="http://schemas.openxmlformats.org/officeDocument/2006/relationships/hyperlink" Target="http://en.wikipedia.org/wiki/Typhoid_fever" TargetMode="External"/><Relationship Id="rId3" Type="http://schemas.openxmlformats.org/officeDocument/2006/relationships/hyperlink" Target="http://en.wikipedia.org/wiki/Diphtheria" TargetMode="External"/><Relationship Id="rId4" Type="http://schemas.openxmlformats.org/officeDocument/2006/relationships/hyperlink" Target="http://en.wikipedia.org/wiki/Syphilis" TargetMode="External"/><Relationship Id="rId5" Type="http://schemas.openxmlformats.org/officeDocument/2006/relationships/hyperlink" Target="http://en.wikipedia.org/wiki/Cholera" TargetMode="External"/><Relationship Id="rId6" Type="http://schemas.openxmlformats.org/officeDocument/2006/relationships/hyperlink" Target="http://en.wikipedia.org/wiki/Foodborne_illness" TargetMode="External"/><Relationship Id="rId7" Type="http://schemas.openxmlformats.org/officeDocument/2006/relationships/hyperlink" Target="http://en.wikipedia.org/wiki/Leprosy" TargetMode="External"/><Relationship Id="rId8" Type="http://schemas.openxmlformats.org/officeDocument/2006/relationships/hyperlink" Target="http://en.wikipedia.org/wiki/Tuberculosis" TargetMode="External"/><Relationship Id="rId9" Type="http://schemas.openxmlformats.org/officeDocument/2006/relationships/hyperlink" Target="http://biology.clc.uc.edu/courses/bio106/bact-dis.htm" TargetMode="External"/><Relationship Id="rId10" Type="http://schemas.openxmlformats.org/officeDocument/2006/relationships/hyperlink" Target="http://en.wikipedia.org/wiki/Agriculture" TargetMode="External"/><Relationship Id="rId11" Type="http://schemas.openxmlformats.org/officeDocument/2006/relationships/hyperlink" Target="http://en.wikipedia.org/wiki/Leaf_spot" TargetMode="External"/><Relationship Id="rId12" Type="http://schemas.openxmlformats.org/officeDocument/2006/relationships/hyperlink" Target="http://en.wikipedia.org/wiki/Fire_blight" TargetMode="External"/><Relationship Id="rId13" Type="http://schemas.openxmlformats.org/officeDocument/2006/relationships/hyperlink" Target="http://en.wikipedia.org/wiki/Wilting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Patholog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: scientific study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Pathogen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: bacteria that caus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bacteria cause disease by producing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xin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poison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Exotoxin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ial proteins; produced by Gram-positive Bac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reted into the surrounding environ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Tetanu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a disease caused by an Exotoxin. Ever cut yourself or step on a nail and had to take a shot?  That was to prevent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Tet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 &amp; Disea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5" descr="MMj03097350000[1]"/>
          <p:cNvPicPr/>
          <p:nvPr/>
        </p:nvPicPr>
        <p:blipFill>
          <a:blip r:embed="rId1"/>
          <a:stretch/>
        </p:blipFill>
        <p:spPr>
          <a:xfrm>
            <a:off x="7010280" y="220968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40C-AE31-451F-933F-ABFAE6CD2AB2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 Black"/>
              </a:rPr>
              <a:t>Endotoxin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made of lipids &amp; carbohyd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ociated with the outer membrane of Gram-negative bacteria, such as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E. col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 released until bacteria dies 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use fever, body aches, &amp; weakness, &amp; they damage the vessels of the Circulatory System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 &amp; Disea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Picture 6" descr="E_coli_lge"/>
          <p:cNvPicPr/>
          <p:nvPr/>
        </p:nvPicPr>
        <p:blipFill>
          <a:blip r:embed="rId1"/>
          <a:stretch/>
        </p:blipFill>
        <p:spPr>
          <a:xfrm>
            <a:off x="7010280" y="1371600"/>
            <a:ext cx="2067120" cy="13716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FDD-AE58-4689-B08D-96BB46044B5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iseas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17524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Pathogenic bacteria are a major cause of human death and disease and cause infections such as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1"/>
              </a:rPr>
              <a:t>tetanus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2"/>
              </a:rPr>
              <a:t>typhoid fever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3"/>
              </a:rPr>
              <a:t>diphtheria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4"/>
              </a:rPr>
              <a:t>syphilis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5"/>
              </a:rPr>
              <a:t>cholera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6"/>
              </a:rPr>
              <a:t>foodborne illness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7"/>
              </a:rPr>
              <a:t>leprosy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 an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8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pneumonia, Lyme disease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Arial Rounded MT Bold"/>
                <a:hlinkClick r:id="rId9"/>
              </a:rPr>
              <a:t>http://biology.clc.uc.edu/courses/bio106/bact-dis.ht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Bacterial diseases are also important in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10"/>
              </a:rPr>
              <a:t>agriculture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with bacteria causing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11"/>
              </a:rPr>
              <a:t>leaf spot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,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12"/>
              </a:rPr>
              <a:t>fire blight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 an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 Rounded MT Bold"/>
                <a:hlinkClick r:id="rId13"/>
              </a:rPr>
              <a:t>wilts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 in plants, as well as Johne's disease, mastitis, salmonella and anthrax in farm anima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Rounded MT Bold"/>
              </a:rPr>
              <a:t>http://en.wikipedia.org/wiki/Bacterial_diseas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B3F-8CB3-4C63-9B30-0D6ACB3F004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ny antibiotics are derived from chemicals that bacteria or fungi produce;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 ways that antibiotics kill bacteri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erferes with cell wall synthesis, ex: Penicill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erferes with protein synthesis; ex: Tetracycl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hibits RNA synthesis; ex: Rifamp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y affect only the growth of bacteria without harming the body cells of hum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tibiotic Res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veruse of antibiotics encourages drug-resistant strains to evolve through sel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utant bacteria continue to grow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447920" y="2286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 &amp; Disea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678-43A7-4402-A33E-8CDFF379BF5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51:46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