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9DB-CAD7-4F20-8F04-129E0827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969-7AEE-49C4-B9F4-79767651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A11-3BD5-4108-8E5F-9C32C8F8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E7A-1881-408B-A304-55145D49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0C9-6188-4CB4-8545-4B9051F8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CA7-34B9-4C55-93D5-9913E7E1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3F3-1F56-47E7-878D-12EC279D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97D-47DD-440C-BFAF-E18C2BC9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42A-FFD6-483E-ABA9-3731B5CA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1A1-73E5-4186-9D83-933F6884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7D8-2A5B-46AC-BD92-4BA0D940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E5D8-1226-4532-8088-EF78A7F1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AFF7-9675-4BEE-BBDE-80B57970F76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فصل الساد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نظ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عالج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شمل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رتيب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ديث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جراء العمليات الحساب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لخي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نشاء الملف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خزين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م هائل من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م هائل من التفاصي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إعداد التقاري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ي عرض البيانات بطريقة صالحة للاستخدام من قبل المستخد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تم إعداد التقارير إم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عد إدخال و معالجة البيانات مباشرة أ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لى أساس زم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هد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على نظ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كساب الطالب المعرفة بالمسميات المختلفة لنظم المعلو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عريف نظام معالج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و ذلك النظام الذي يتولى عملية تجميع البيانات من مصادرها المختلفة (داخلية و خارجية) و إجراء عمليات المعالجة لها (يدويا و آليا) و إخراجها بشكل تقارير يمكن استخدامها بواسطة العديد من الأطراف داخل المؤسس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ختلاف في التسمي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معالجة التعام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المعالجة الإلكترونية ل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خصائص المميزة لنظم معالج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نظام معالجة البيانات يؤدي مهاما أساسية لا غنى عنها للمنظم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هناك قواعد و إجراءات معينة تحدد الكيفية التي التي يجب أن تتم فيها معالجة البيانا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نظام معالجة البيانات يتعامل مع بيانات تفصيلية و ليست اجما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نظام معالجة البيانات يتعامل مع بيانات تاريخ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نظام معالجة البيانات يوفر الحد الأدنى من المعلومات لحل المشك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نواع نظم معالج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نظم اليدو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آلات التي تعمل بالمفاتي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آلات البطاقات المثق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اسبات الآ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هام الأساسية لنظام معالج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جميع و إعداد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راجع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خزين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عداد التقار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جميع و اعداد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جميع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سجلات أ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نهايات طرف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عداد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صنيف و ترمي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عدادها لتكون صالحة للإدخ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راجع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أكد من صحة البيانات قبل المعالج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دو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آل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هدف إل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أكد من إعداد البيانات بالشكل المناس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أكد من صدق المدخل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6:06:32Z</dcterms:created>
  <dc:creator>Dr.Kharma</dc:creator>
  <dc:description/>
  <dc:language>en-US</dc:language>
  <cp:lastModifiedBy>mashael</cp:lastModifiedBy>
  <dcterms:modified xsi:type="dcterms:W3CDTF">2012-09-24T21:15:50Z</dcterms:modified>
  <cp:revision>16</cp:revision>
  <dc:subject/>
  <dc:title>الفصل السادس</dc:title>
</cp:coreProperties>
</file>