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405-3CA4-4CAC-9BDF-C4E00343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C11-8378-4A8D-8AC6-6EA17CF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290-B7B9-4527-92BE-B493F0EB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E1A-9417-42CA-8842-069D72C7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A2E-EDFB-4ABE-A0F3-F4B719AF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A87-BD08-449D-BD2D-16799EA2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757-AC3C-473A-A71E-90C0F3E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8B8-F52B-412F-A9F6-E1E25B46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B2F-EA5A-40C5-8534-C8B2C1C4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B3D-3A22-48C2-9537-B503726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D77-E66C-4160-8F09-88BBB9E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B04-16C9-4113-8353-B45445C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B4B-FE79-4761-80FD-703C109543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فصل الساد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م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رتيب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ديث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جراء العمليات الحساب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لخي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نشاء الملف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 هائل من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 هائل من التفاصي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ي عرض البيانات بطريقة صالحة للاستخدام من قبل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 إعداد التقارير إ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عد إدخال و معالجة البيانات مباشرة أ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أساس زم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على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كساب الطالب المعرفة بالمسميات المختلفة لنظم 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ريف نظا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ذلك النظام الذي يتولى عملية تجميع البيانات من مصادرها المختلفة (داخلية و خارجية) و إجراء عمليات المعالجة لها (يدويا و آليا) و إخراجها بشكل تقارير يمكن استخدامها بواسطة العديد من الأطراف داخل المؤس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ختلاف في التسمي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عالجة التعام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المعالجة الإلكترونية ل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خصائص المميزة لنظ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ؤدي مهاما أساسية لا غنى عنها ل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هناك قواعد و إجراءات معينة تحدد الكيفية التي التي يجب أن تتم فيها معالجة البيان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تعامل مع بيانات تفصيلية و ليست اجم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تعامل مع بيانات تاريخ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وفر الحد الأدنى من المعلومات لحل المشك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نظ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نظم اليدو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آلات التي تعمل بالمفاتي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آلات البطاقات المثق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اسبات الآ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هام الأساسية لنظا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جميع و إعداد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جميع و اعداد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جميع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سجلات أ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هايات طرف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داد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صنيف و ترمي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دادها لتكون صالحة للإدخ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أكد من صحة البيانات قبل المعال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دو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آل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هدف إل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أكد من إعداد البيانات بالشكل المناس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أكد من صدق المدخل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06:32Z</dcterms:created>
  <dc:creator>Dr.Kharma</dc:creator>
  <dc:description/>
  <dc:language>en-US</dc:language>
  <cp:lastModifiedBy>mashael</cp:lastModifiedBy>
  <dcterms:modified xsi:type="dcterms:W3CDTF">2012-09-24T21:15:50Z</dcterms:modified>
  <cp:revision>16</cp:revision>
  <dc:subject/>
  <dc:title>الفصل السادس</dc:title>
</cp:coreProperties>
</file>