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DF28-8D26-4E25-8AF4-4E8A891C1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DB7E-0A13-452A-A83A-F06A584468D9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6687-7C06-40A0-8BA9-E8DBB71591EC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C82A-575B-472E-9D85-B481246D1470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75E5-51AE-4E6F-B3E7-B3A515EC0CC7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60D5-D4C7-4B5B-A2B7-862C3DD8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E5A5-B025-491B-8089-71425F0A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0EF-7F00-4C2A-AD73-BB6BB7A4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C96-E206-4E2F-86B7-9D20DA1A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8F8B-7028-4492-8FF5-966A5D50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1FBD-63C5-4B2C-A894-FB784466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4DCA-E9F5-4293-ADC2-3BB1F57B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45FB-4BFC-479C-84B2-78487863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BAD4-B3DB-455F-ADE0-174D9A33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A4E3-DE7A-4BB3-8154-5312131B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DCF9-3459-4F25-B249-E5790754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6C3-8B89-43E2-A6F9-66AA73F7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B850-D77C-4A70-85F3-5346FD75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0AB1-58F5-4331-8FF7-BF8D91DA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C387-A6EE-49F9-B02F-651F1CA8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D72B-3973-4F07-879E-FA1FC514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3310-72CE-4FC9-8366-DD13D9CD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4E0-E28F-4F94-BFEC-65670E9B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8D0-0DD4-4E38-B6DF-4D9D1EE8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A71-E3EA-40ED-92A5-A370ED0A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7D4-3192-4378-A94D-5B9F64F5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992-B0D5-419D-B1C0-7E5882E3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3B9-3C29-4F1F-AD52-13A95627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48B-3D00-48C8-8321-98C110F1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BC6F-493B-4D43-B0C0-4FA94BD64B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EAF6-DEB9-46A3-8FB8-164C9174A14F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71240" y="12193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Prokaryotes are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heterotroph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; get their energy by consuming organic matter as a source of nutritio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me are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utotroph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; obtain energy by making their own foo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hototrophs: from sunligh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emotrophs: from minera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Nutrition &amp; Growth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Picture 7" descr="MMj02827560000[1]"/>
          <p:cNvPicPr/>
          <p:nvPr/>
        </p:nvPicPr>
        <p:blipFill>
          <a:blip r:embed="rId1"/>
          <a:stretch/>
        </p:blipFill>
        <p:spPr>
          <a:xfrm>
            <a:off x="7086600" y="434340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30F2-6638-4049-9878-69D8413CC671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Bacterial Reproduct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F75D-1271-4C73-BE18-8C152A41E803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3603600" cy="2862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1066680" y="41148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alibri"/>
              </a:rPr>
              <a:t>Binary fissio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724280" y="1066680"/>
            <a:ext cx="4419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Bacteria cell goal: to grow and multip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Many can double number every 20 minutes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Use </a:t>
            </a:r>
            <a:r>
              <a:rPr b="1" i="1" lang="en-US" sz="2400" spc="-1" strike="noStrike">
                <a:solidFill>
                  <a:srgbClr val="ffffcc"/>
                </a:solidFill>
                <a:latin typeface="Arial Black"/>
              </a:rPr>
              <a:t>binary fission</a:t>
            </a:r>
            <a:r>
              <a:rPr b="0" i="1" lang="en-US" sz="24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to reproduce asexually, quick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Process: chromosome is replicated, then the cell divid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" name="Picture 6" descr="Binary_fission_anim.gif"/>
          <p:cNvPicPr/>
          <p:nvPr/>
        </p:nvPicPr>
        <p:blipFill>
          <a:blip r:embed="rId2"/>
          <a:stretch/>
        </p:blipFill>
        <p:spPr>
          <a:xfrm>
            <a:off x="1447920" y="4572000"/>
            <a:ext cx="23619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cteria can also combine ge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3 ways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Conjugatio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--</a:t>
            </a:r>
            <a:r>
              <a:rPr b="0" lang="en-US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Transformatio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(uptake of naked DNA from outside the cell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Transductio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(virus inserts new genes into cell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enetic Recombinatio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4019760" cy="3925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5638680" y="5791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njugatio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D760-501F-4AF4-A27E-051621D60C4F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Eubacterial Phyla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F2C6-4585-4EC7-9EDC-60528E795D39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6:55:01Z</dcterms:created>
  <dc:creator>Brock  Silvestri</dc:creator>
  <dc:description/>
  <cp:keywords/>
  <dc:language>en-US</dc:language>
  <cp:lastModifiedBy>Mysoon Al Ansari</cp:lastModifiedBy>
  <dcterms:modified xsi:type="dcterms:W3CDTF">2013-08-28T18:22:05Z</dcterms:modified>
  <cp:revision>1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91033</vt:lpwstr>
  </property>
</Properties>
</file>