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FC5-4122-453D-9A61-0B8A19A9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7E1-3010-43AE-A2DE-C05D1F8F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FA4-A6F1-480B-9284-7A297F91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7CF-AF6D-4475-9CA3-98901898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C0A-AB36-4064-900C-DF6876FB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698-1B73-46D6-AB4D-671B1B70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FE8-B98A-4E55-88A0-23D38286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047-8E2B-43DC-9A21-98F9557F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CBFA-FF2C-43FC-9738-2F9935FD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F26-458E-43A9-851D-AA584E53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340-CAC9-4720-998B-1A2610BD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75D-5F7B-43A1-A9AF-AE69D405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5FA7-938A-42E3-ACCC-368A8C52D5F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ساب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ناصر المكون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خرجات نظام معالجة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حوث و الدراسات المتخص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خرجات المخابرات الخارج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قارير الدو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قارير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خرجات النماذج الرياض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ناصر المكون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عالجة الدا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جميع و إعداد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راجعة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عالجة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خزين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عداد التقار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دورية ← مبرمج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قارير استثنائ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←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ظهور مشاكل و حدوث انحراف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خاصة ← حل مشكلات غير مبرمج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نظم المعلومات الإدار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علاقة نظم المعلومات الإدارية بالأنظمة ال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الفرق بين نظم المعلومات الإدارية و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كساب الطالب مهارة استخدام نظم معلومات إدارية في المنظ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لامح العام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ركيز على المعلومات الموجهة لمديري الإدارة الوسط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دفق المستمر و المبرمج ل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كامل مع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ديم تقارير للإدارة الوسط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اريف نظم المعلوم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جموعة من الأجزاء المرتبطة بعضها ببعض فيضم احدها أساليب المعالجة السريعة للمعلومات و يهتم الآخر بتطبيق الأساليب الإحصائية و الرياضية في حل المشكلات و يتولى الثالث محاكاة التفكير من خلال برامج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جموعة منظمة من الوسائل التي توفر معلومات عن الماضي و الحاضر و التنبؤ بالمستقبل فيما يتعلق بالعمليات الداخلية و المخابرات الخارجية للمنظمة و هي تلك التي تدعم وظائف التخطيط و الرقابة و العمليات في المنظمة من خلال توفير ما تحتاجه في التوقيت المناسب لصنع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اريف نظم المعلوم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بنيا على الحاسب و يوفر المعلومات للمسؤولين عن وحدة تنظيمية رسمية سواء كانت المنظمة ككل أو أحد المجالات الوظيفية ب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ناصر 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بنى على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تكا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دعم وظائف التخطيط و الرقابة و العملي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يصف الماضي و الحاضر و المستقب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ساعد الإدارة في صنع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صف العمليات الداخلية للمنظ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قوم بدور المخاب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دورية و خاص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خصائص 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هناك فرق بين نظم المعلومات الإدارية و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م المعلومات الإدارية موجهه لدعم القرارات المبرمجة (المهيكل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خرجات نظم المعلومات الإدارية تكون بشكل تقارير مرتبطة بأنواع معينة من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ظم المعلومات الإدارية و نظم معالجة البيانات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18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ظم المعلومات الإدار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ظم معالجة البيان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ضفاء معنى لهذه البيان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وفر البيان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حدد محتوى التقار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وفر المحتوى للتقار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حتوي نظم معالجة البيان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نصر من نظم المعلومات الإداري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ا هو نظام المعلومات الإداري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ا كليا لإشباع احتياجات جميع المدي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ضمن كل تطبيقات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بر أحد تطبيقات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بر مجموعة من النظم الوظيفية الفر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05:48:23Z</dcterms:created>
  <dc:creator>Dr.Kharma</dc:creator>
  <dc:description/>
  <dc:language>en-US</dc:language>
  <cp:lastModifiedBy>mashael</cp:lastModifiedBy>
  <dcterms:modified xsi:type="dcterms:W3CDTF">2012-10-05T02:22:44Z</dcterms:modified>
  <cp:revision>15</cp:revision>
  <dc:subject/>
  <dc:title>Slide 1</dc:title>
</cp:coreProperties>
</file>