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77D-3556-4CC6-B557-D9CC940D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C7A-033C-48CC-B65D-2FC17E6D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099-D0DD-4534-A978-D3D8345D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0A3-02BA-4124-89BE-C8829596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440-3F25-44A9-9B08-F0586A20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A71-6197-4AB6-9484-390D32AE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D83-7DFB-4CC5-98A3-67D240AC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2E9-56D3-4806-A2F0-F8F0F4FE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9A4-89A4-4D7E-81CA-123E051F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477-38B5-4376-A4B5-F7915A7D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5CD-45EA-45FA-B91C-5E58DD6A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46A-58A9-4F71-AAAD-E2A6FEA5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D9A4-2E72-4A0B-A5AD-6A18C38E537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ساب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ناصر المكون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خرجات نظام معالجة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حوث و الدراسات المتخص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خرجات المخابرات الخارج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قارير الدو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قارير الخا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خرجات النماذج الرياض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ناصر المكون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عالجة الدا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جميع و إعداد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راجعة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عالجة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خزين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عداد التقار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نواع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ارير دورية ← مبرمج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قارير استثنائ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←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ظهور مشاكل و حدوث انحراف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ارير خاصة ← حل مشكلات غير مبرمج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نظم المعلومات الإدار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علاقة نظم المعلومات الإدارية بالأنظمة ال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الفرق بين نظم المعلومات الإدارية و 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كساب الطالب مهارة استخدام نظم معلومات إدارية في المنظ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لامح العام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ركيز على المعلومات الموجهة لمديري الإدارة الوسط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دفق المستمر و المبرمج للمعل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كامل مع 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ديم تقارير للإدارة الوسط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عاريف نظم المعلوم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جموعة من الأجزاء المرتبطة بعضها ببعض فيضم احدها أساليب المعالجة السريعة للمعلومات و يهتم الآخر بتطبيق الأساليب الإحصائية و الرياضية في حل المشكلات و يتولى الثالث محاكاة التفكير من خلال برامج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جموعة منظمة من الوسائل التي توفر معلومات عن الماضي و الحاضر و التنبؤ بالمستقبل فيما يتعلق بالعمليات الداخلية و المخابرات الخارجية للمنظمة و هي تلك التي تدعم وظائف التخطيط و الرقابة و العمليات في المنظمة من خلال توفير ما تحتاجه في التوقيت المناسب لصنع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عاريف نظم المعلوم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مبنيا على الحاسب و يوفر المعلومات للمسؤولين عن وحدة تنظيمية رسمية سواء كانت المنظمة ككل أو أحد المجالات الوظيفية ب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عناصر 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بنى على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متكا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دعم وظائف التخطيط و الرقابة و العملي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يصف الماضي و الحاضر و المستقب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ساعد الإدارة في صنع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صف العمليات الداخلية للمنظ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قوم بدور المخاب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ارير دورية و خاص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خصائص 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هناك فرق بين نظم المعلومات الإدارية و 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م المعلومات الإدارية موجهه لدعم القرارات المبرمجة (المهيكل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خرجات نظم المعلومات الإدارية تكون بشكل تقارير مرتبطة بأنواع معينة من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ظم المعلومات الإدارية و نظم معالجة البيانات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18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ظم المعلومات الإدار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ظم معالجة البيان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ضفاء معنى لهذه البيان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وفر البيان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حدد محتوى التقار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وفر المحتوى للتقار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حتوي نظم معالجة البيان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نصر من نظم المعلومات الإدار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ا هو نظام المعلومات الإداري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ا كليا لإشباع احتياجات جميع المدير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تضمن كل تطبيقات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بر أحد تطبيقات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بر مجموعة من النظم الوظيفية الفر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05:48:23Z</dcterms:created>
  <dc:creator>Dr.Kharma</dc:creator>
  <dc:description/>
  <dc:language>en-US</dc:language>
  <cp:lastModifiedBy>mashael</cp:lastModifiedBy>
  <dcterms:modified xsi:type="dcterms:W3CDTF">2012-10-05T02:22:44Z</dcterms:modified>
  <cp:revision>15</cp:revision>
  <dc:subject/>
  <dc:title>Slide 1</dc:title>
</cp:coreProperties>
</file>