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698-4078-473C-93C0-B96289BD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7E2-DAF4-4542-B02F-53508CC6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F30-B473-4EDC-A07B-B3847029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B13-5AEF-49D4-B5B1-4CF55D19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4DF-ECD3-4C37-9CBC-0AA32EDC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33E-E3C2-4924-8489-70EF258A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11B-7EFA-4394-B375-FCD00AAB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2EB-5901-47DE-9EC1-B616CB2B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AFD-077C-4200-89D2-9AACCC79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730-4B27-4650-B9C2-9B449ADE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3F3-83A1-42E0-8281-F49C4040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B7A-A5F8-4D66-A1D3-2CA2DFC9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A6BF-E355-40B6-9F9C-46131EF3702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لفصل الساب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سباب فشل نظم المعلومات الإدارية في بداية ظهورها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دم توافر الدراية الكافية لدى المدراء بكيفية استخدام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وافر كم كبير من المعلومات نتيجة لاستخدام نظم المعلومات الإدارية مما جعل المدراء يشتكون من كثرة المعلومات لديه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عناصر المكونة ل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دخ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خرجات نظام معالجة البيانات :يوفر بيانات تصف العمليات الداخلية في المنظم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حوث و الدراسات المتخصصة : تبين أثر البيئة الخارجية على العمليات الداخل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خرجات المخابرات الخارجية: تهتم بجمع و تحليل المعلومات التي تصف عمليات و تحركات الشركات المنافس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ابع العناصر المكونة ل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قارير الدور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قارير الخاص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خرجات النماذج الرياض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ابع العناصر المكونة ل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عالجة الدا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جميع و إعداد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راجعة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عالجة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خزين البي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عداد التقار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نواع القرارات الناتجة عن 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ارير دورية ← مبرمج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قارير استثنائ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←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ظهور مشاكل و حدوث انحراف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ارير خاصة ← حل مشكلات غير مبرمج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دور نظم المعلومات الإدارية في صنع القر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م المعلومات الإدارية يمكن أن تسهم في حل مشكلات المنظمة بطريقتين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أنها توفر معلومات عن اعمال المنظمة كك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أنها تسهم بشكل بدئي في التعرف على المشكلات و فهم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نظم المعلومات الإدار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علاقة نظم المعلومات الإدارية بالأنظمة ال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الفرق بين نظم المعلومات الإدارية و نظ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كساب الطالب مهارة استخدام نظم معلومات إدارية في المنظ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لامح العامة ل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ركيز على المعلومات الموجهة لمديري الإدارة الوسط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دفق المستمر و المبرمج للمعلو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كامل مع نظ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ديم تقارير للإدارة الوسط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عاريف نظم المعلوم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جموعة من الأجزاء المرتبطة بعضها ببعض فيضم احدها أساليب المعالجة السريعة للمعلومات و يهتم الآخر بتطبيق الأساليب الإحصائية و الرياضية في حل المشكلات و يتولى الثالث محاكاة التفكير من خلال برامج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جموعة منظمة من الوسائل التي توفر معلومات عن الماضي و الحاضر و التنبؤ بالمستقبل فيما يتعلق بالعمليات الداخلية و المخابرات الخارجية للمنظمة و هي تلك التي تدعم وظائف التخطيط و الرقابة و العمليات في المنظمة من خلال توفير ما تحتاجه في التوقيت المناسب لصنع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عاريف نظم المعلوم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مبنيا على الحاسب و يوفر المعلومات للمسؤولين عن وحدة تنظيمية رسمية سواء كانت المنظمة ككل أو أحد المجالات الوظيفية ب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عناصر 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بنى على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متكا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دعم وظائف التخطيط و الرقابة و العملي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يصف الماضي و الحاضر و المستقب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ساعد الإدارة في صنع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صف العمليات الداخلية للمنظم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قوم بدور المخاب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ارير دورية و خاص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خصائص نظم المعلومات الإدار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ن هناك فرق بين نظم المعلومات الإدارية و نظم معالجة البيانات، معظم البيانات المطلوبة لنظم المعلومات الإدارية تأتي من نظم معالجة البيانا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م المعلومات الإدارية موجهه لدعم القرارات المبرمجة (شبه الهيكل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خرجات نظم المعلومات الإدارية تكون بشكل تقارير مرتبطة بأنواع معينة من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ظم المعلومات الإدارية و نظم معالج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853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ظم المعلومات الإدار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نظم معالجة البيان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إضفاء معنى لهذه البيان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توفر البيان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يحدد محتوى التقاري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يوفر المحتوى للتقاري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716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يحتوي نظم معالجة البيان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نصر من نظم المعلومات الإدار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02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رتبط بالأنشطة الإدار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رتبط بالأنشطة التشغي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ا هو نظام المعلومات الإداري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ا كليا لإشباع احتياجات جميع المدير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تضمن كل تطبيقات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تبر أحد تطبيقات الحاسب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تبر مجموعة من النظم الوظيفية الفرع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05:48:23Z</dcterms:created>
  <dc:creator>Dr.Kharma</dc:creator>
  <dc:description/>
  <dc:language>en-US</dc:language>
  <cp:lastModifiedBy>mashael</cp:lastModifiedBy>
  <dcterms:modified xsi:type="dcterms:W3CDTF">2012-10-08T04:45:07Z</dcterms:modified>
  <cp:revision>20</cp:revision>
  <dc:subject/>
  <dc:title>Slide 1</dc:title>
</cp:coreProperties>
</file>