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AE5D-68E7-4E83-B510-1EA459826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4CF9-025F-444C-954E-06E6659B8A46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E970-EE9B-4FDB-B004-78506604DDC2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DCF3-D5EF-4337-9CFF-61DDBCB366FF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746B-2FC6-40D4-B2E2-A1CD8DD67154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F237-58E4-47F1-81B9-67CA7161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01A9-9316-4C54-9C74-76BA3778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E240-D814-40DE-88A0-48F4AAA14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95FA-C169-406C-BFBF-44C01EBB2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D04E-5731-4BAC-B212-CF249A1D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C896-1CE7-448F-9DCB-93894351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87CF-6FA8-4715-86B2-AA7EA69C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065F-657F-44A8-9586-AB4881CC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2126-552F-4E7A-BE7A-52308767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BAB6-7F71-4DAA-9B67-B8139C31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B60D-599F-4859-8D36-1D943260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9FFC-8DB5-485C-AB6C-73289010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94AC-A16C-4968-B057-B1FC0F7C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13AB-192A-470A-BE96-C9AC9535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550C-F91C-4A6A-BB6D-3A9C35C1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306F-EEAA-4E65-A238-C40C6E60B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9976-1201-440B-B912-22FE5010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C0BA-12D3-4A84-8604-5C591D32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269B-2C9D-4718-BF1C-BE528782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D7FE-D636-49AD-8C7D-210D5771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FD47-73AF-44F9-9126-B4C53815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8BFA-D331-499D-A44D-DECE8778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78E2-5A39-4860-A377-C5933DCC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8A36-8E43-45E5-9635-98A58F08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949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3135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DE34-631A-40DA-9B1D-3A00E0A8AB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4E98-5428-4C67-A06A-EE3B01268550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Nitrogen-Fixing Bacteri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arth's atmosphere is 80% nitrogen but plants and animals cannot use nitrogen in gaseous stat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e require nitrogen to make nitrogen-containing compounds like proteins and nucleic acid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Rhizobium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are essential to the nitrogen cycl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1371600" y="457200"/>
            <a:ext cx="6781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teobacteria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1" name="Picture 6" descr="MCj02265360000[1]"/>
          <p:cNvPicPr/>
          <p:nvPr/>
        </p:nvPicPr>
        <p:blipFill>
          <a:blip r:embed="rId1"/>
          <a:stretch/>
        </p:blipFill>
        <p:spPr>
          <a:xfrm>
            <a:off x="6543720" y="1143000"/>
            <a:ext cx="2600280" cy="1066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2"/>
          <a:stretch/>
        </p:blipFill>
        <p:spPr>
          <a:xfrm>
            <a:off x="7496280" y="4662360"/>
            <a:ext cx="1647720" cy="2195640"/>
          </a:xfrm>
          <a:prstGeom prst="rect">
            <a:avLst/>
          </a:prstGeom>
          <a:ln w="0">
            <a:noFill/>
          </a:ln>
        </p:spPr>
      </p:pic>
      <p:sp>
        <p:nvSpPr>
          <p:cNvPr id="93" name="Slide Number Placeholder 5"/>
          <p:cNvSpPr/>
          <p:nvPr/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542B-0BD8-42FE-93B6-522E633D33AE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2514600" y="60199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Legumes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have lots of root nodules, filled with these bacteria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219320" y="14479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Gram-Negative bacteria that perform plant-like photosynthesis &amp; release oxygen as by-product (waste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nce classified as blue-green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alga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ow considered eubacteria, because they lack a membrane-bound nucleus &amp; chloroplast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WordArt 4"/>
          <p:cNvSpPr txBox="1"/>
          <p:nvPr/>
        </p:nvSpPr>
        <p:spPr>
          <a:xfrm>
            <a:off x="1371600" y="457200"/>
            <a:ext cx="6781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yanobacteria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3886200" y="4495680"/>
            <a:ext cx="3962520" cy="2117880"/>
          </a:xfrm>
          <a:prstGeom prst="rect">
            <a:avLst/>
          </a:prstGeom>
          <a:ln w="0">
            <a:noFill/>
          </a:ln>
        </p:spPr>
      </p:pic>
      <p:sp>
        <p:nvSpPr>
          <p:cNvPr id="98" name="Slide Number Placeholder 4"/>
          <p:cNvSpPr/>
          <p:nvPr/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EA5E-6429-4CBC-BBCC-DD820A3C69BC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ffcc"/>
                </a:solidFill>
                <a:uFillTx/>
                <a:latin typeface="Arial"/>
              </a:rPr>
              <a:t>“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Eutrophication</a:t>
            </a:r>
            <a:r>
              <a:rPr b="0" lang="ja-JP" sz="3200" spc="-1" strike="noStrike">
                <a:solidFill>
                  <a:srgbClr val="ffffcc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: Population 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Bloom 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of bacteria =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sudden increase in # of cyanobacteria due to high availability of nutrient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fter many cyanobacteria die; decomposed by heterotrophic bacteri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sume available oxygen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1371600" y="457200"/>
            <a:ext cx="6781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yanobacteria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7162920" y="3429000"/>
            <a:ext cx="1981080" cy="3124080"/>
          </a:xfrm>
          <a:prstGeom prst="rect">
            <a:avLst/>
          </a:prstGeom>
          <a:ln w="0">
            <a:noFill/>
          </a:ln>
        </p:spPr>
      </p:pic>
      <p:sp>
        <p:nvSpPr>
          <p:cNvPr id="102" name="Slide Number Placeholder 4"/>
          <p:cNvSpPr/>
          <p:nvPr/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D67E-BDF3-4597-9BD0-644A6CEDA383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7086600" cy="4876920"/>
          </a:xfrm>
          <a:prstGeom prst="rect">
            <a:avLst/>
          </a:prstGeom>
          <a:ln w="0">
            <a:noFill/>
          </a:ln>
        </p:spPr>
      </p:pic>
      <p:sp>
        <p:nvSpPr>
          <p:cNvPr id="104" name="WordArt 5"/>
          <p:cNvSpPr txBox="1"/>
          <p:nvPr/>
        </p:nvSpPr>
        <p:spPr>
          <a:xfrm>
            <a:off x="1371600" y="457200"/>
            <a:ext cx="6781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Eutrophication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B172-7DFF-4609-AB26-C4BD6C9916F9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16:55:01Z</dcterms:created>
  <dc:creator>Brock  Silvestri</dc:creator>
  <dc:description/>
  <cp:keywords/>
  <dc:language>en-US</dc:language>
  <cp:lastModifiedBy>Mysoon Al Ansari</cp:lastModifiedBy>
  <dcterms:modified xsi:type="dcterms:W3CDTF">2013-08-28T18:29:28Z</dcterms:modified>
  <cp:revision>9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391033</vt:lpwstr>
  </property>
</Properties>
</file>