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667-511B-489C-A6DB-1CD70CC6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7939-7501-42B9-A528-73E7FF66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F94-432B-442C-912F-1DB985C1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D1E8-7A02-49B3-B6E4-BB8ED8D5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3C0-8CDC-4F13-8E62-B30625A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FC5-186C-42DA-BDBD-DE0784CD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550-715A-431C-966F-4E5F3469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AC5-1C75-4DA8-A824-E4D73BF4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910-737A-4AA2-B7B9-EC53CAB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2B5-E62F-44C1-B78C-3D601DA7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348-2D36-4A7F-8125-0C19F3EA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D2C-8157-4FAE-8A3F-4BFB3256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9A53-837E-419E-9E21-E5AB01DE1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  <a:cs typeface="Arial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جهز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بكات الاتصا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جهزة الاتصا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جهزة ا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من الملفات المتكاملة مع بعضها البعض تشمل كل من البيانات الداخلية التي تعبر عن البيانات الداخلية للمنظمة و التي يتم تجميعها من المجالات الوظيفية للمنظ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زايا وجود قواعد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ليد معلومات أكثر من نفس البيانات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جابة على الاستفسارات المرتبطة بموضوع محدد بالذات بدرجة أكبر من اليس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قليل ازدواج البيانات إلى أقل حد ممك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سين و تعزيز إدار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البيانات و الاحتفاظ بها بشكل أسه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مساحة أقبل للتخز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أكثر رقيا للتعامل مع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ير 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صميم و إدارة تنفيذ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أساليب علا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حتفاظ بسجل لمكونات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معايير تقييم أداء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ضافة وظائف جديدة ل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سين وظائف قاعدة البيانات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صادر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صادر داخلي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صادر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يانات المستند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عدة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عتبر النموذج تمثيل أو محاكاة للواق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كون هذه النماذج إحصائية و كمية وظيف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النماذج (معايير التمييز بين النماذج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من النموذج (وصفية أو مثال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تعامل مع العشوائية (احتمالية أو حتم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عمومية في التطبيق (خاصة أو عام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وع البيانات التي يتعامل معها النموذج (ساكنة أو مركب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ستوى التنظيمي الذي يستخدم النموذج( إستراتيجية أو تكتيكية أو تشغيل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جال الوظي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زايا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برة تعليمية للمد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قدرة على التنب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قل تكلفة من المحاولة و الخط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يوب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عوبة تمثيل الواق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حتاج إلى مهارات رياضية و إحصائية عالية ج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لاقة بين قاعدة البيانات و قاعدة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4"/>
          <p:cNvSpPr/>
          <p:nvPr/>
        </p:nvSpPr>
        <p:spPr>
          <a:xfrm>
            <a:off x="5181480" y="3581280"/>
            <a:ext cx="1447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قاعدة البيان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5"/>
          <p:cNvSpPr/>
          <p:nvPr/>
        </p:nvSpPr>
        <p:spPr>
          <a:xfrm>
            <a:off x="1828800" y="3581280"/>
            <a:ext cx="1447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قاعدة النماذ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Straight Arrow Connector 7"/>
          <p:cNvCxnSpPr/>
          <p:nvPr/>
        </p:nvCxnSpPr>
        <p:spPr>
          <a:xfrm>
            <a:off x="3200040" y="388620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9"/>
          <p:cNvCxnSpPr/>
          <p:nvPr/>
        </p:nvCxnSpPr>
        <p:spPr>
          <a:xfrm flipH="1" flipV="1">
            <a:off x="3200040" y="441936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TextBox 10"/>
          <p:cNvSpPr/>
          <p:nvPr/>
        </p:nvSpPr>
        <p:spPr>
          <a:xfrm>
            <a:off x="4343400" y="365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832200" y="35053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بيان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نظم دعم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مكونات نظم دعم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علاقة نظم دعم القرارات مع الأنظمة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كساب الطالب مهارة استخدام نظم دعم القرارات في المنظ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ام إدارة الح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هي الوسيلة التي يمكن أن يتفاعل بها المستخدم مع نظام دعم القر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نواع أساليب الحو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قارير المجدو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سؤال و الجو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قائمة الإختيار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لغة الأوام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نموذج المداخلات و المخرج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دخلات في سياق المخرج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خليط من الأساليب السابق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ام الح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لغة التصر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لغة العر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فرا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المستخد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ستخدمين النهائي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حللين الفني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داريون و المهندس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ظم المهتمة ب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ظم المهتمة بالنماذ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م دعم قرارات فر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م دعم القرارات الجما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ف على أنها نظام تفاعلي مبني على الحاسب الآلي يسهم في تيسير حل المشكلات الغير مبرمجة و الذي يسعى لحلها مجموعة من متخذي القرارات الذين يعملون معا كفر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برمجي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عنصر البش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حجرة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شبكة أعمال مح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مؤتمرات الاتص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نع القرارات عن بع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صائص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نظم يتم تصميمها خصيصا و لا يوجد لها مواصفات و مكونات عا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نظم يتم تصميمها لزيادة فعالية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سهلة الاستخد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توي أساليب تمنع من انتشار السلوك الجماعي السل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نظم المعلومات لتوفير الجهد و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عن بيئة المنظ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| بيانات 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مل نظم المعلومات على خدمة هدف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صائص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البرامج الجاهزة و التكنولوجيا ا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النماذج الإحصائ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حددة 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اعد على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يف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من الإجراءات تقوم بالاعتماد على الحاسب الآلي، وتستخدم العديد من النماذج و البرامج لمعالجة البيانات والاستفادة من الخبرات الشخصية لمساعدة الإدارة في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لامح الأساسية ل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قرارات الغير مبرمجة  و شبه مبرمجة التي تصنع عند مستويات الإدارة العليا في المنظم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خاصية التفاعلية، المرونة، و القدرة على التكيف مع متطلبات متخذ القرارات و الاستجابة السريعة لاحتياج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إمكانية بدء التشغيل و التحكم في العمليات بواسطة المستخدم النهائ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دعم عمليات كل من اتخاذ القرارات الفردية و اتخاذ القرارات التنظي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جودة و فاعلية القرار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كامل مع نظم المعلومات الأخر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الات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هيكلة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ستوى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رحلة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نظم تدعي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عرف على حدود و نطاق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درجة الاستجابة لحل المشكلة نتيجة تغير أحد المتغي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نموذج و اتجاه الح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نبؤ بمخرجات القرار التي تم اتخاذ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المزيج الأمثل لمتغيرات القرار و التي تؤثر على نتائج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هيل المشاركة الجماعية ل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نماذ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إدارة الحو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53:40Z</dcterms:created>
  <dc:creator>Qasem Kharma</dc:creator>
  <dc:description/>
  <dc:language>en-US</dc:language>
  <cp:lastModifiedBy>mashael</cp:lastModifiedBy>
  <dcterms:modified xsi:type="dcterms:W3CDTF">2012-10-09T05:57:57Z</dcterms:modified>
  <cp:revision>35</cp:revision>
  <dc:subject/>
  <dc:title>نظم دعم القرارات</dc:title>
</cp:coreProperties>
</file>