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47CD-0EE5-4E2C-A67B-F3BE6E33F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7AE2-8AFD-43FE-8F17-93F674174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1E96-A7D3-4E22-BB35-F923B9D52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7AE5-7235-4881-8EC3-91442F248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867C-F77D-4DFB-845E-79A4143DC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9171-137C-497B-8BE9-8A875EAE3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66E1-3A20-47D8-89D2-EC0C9E52B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1EEA-FCFE-4A9B-87C4-AA76DEBBC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8B0F-7891-4FED-998B-C0F172941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DB8F-88AB-4BFE-86C1-1A99DC5B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9A04-DBCD-4BC9-8B15-D48E160D8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D7E0-811E-4A0A-B98F-55FC6497F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0B15D-3F33-4989-BF82-F623D15F5C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نظم دعم القرارا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898989"/>
                </a:solidFill>
                <a:latin typeface="Calibri"/>
                <a:cs typeface="Arial"/>
              </a:rPr>
              <a:t>الفصل الثام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مكونات نظم دعم القرارا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أجهز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قاعدة البيان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قاعدة النماذ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نظام إدارة الحوا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أفرا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أجهز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أجهز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شبكات الاتصال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أجهزة الاتصال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أجهزة المخرج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قاعدة البيانا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algn="just" rtl="1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مجموعة من الملفات المتكاملة مع بعضها البعض تشمل كل من البيانات الداخلية التي تعبر عن البيانات الداخلية للمنظمة و التي يتم تجميعها من المجالات الوظيفية للمنظم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مزايا وجود قواعد البيانا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وليد معلومات أكثر من نفس البيانات المتاح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إجابة على الاستفسارات المرتبطة بموضوع محدد بالذات بدرجة أكبر من اليس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قليل ازدواج البيانات إلى أقل حد ممك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حسين و تعزيز إدارة البيان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عرض البيانات و الاحتفاظ بها بشكل أسه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ستخدام مساحة أقل للتخزي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نظام أكثر رقيا للتعامل مع البيان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مدير قاعدة البيانا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صميم و إدارة تنفيذ قاعدة البيان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وضع أساليب علا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إحتفاظ بسجل لمكونات قاعدة البيان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وضع معايير تقييم أداء قاعدة البيان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إضافة وظائف جديدة لقاعدة البيان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حسين وظائف قاعدة البيانات المتاح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مصادر البيانا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نظام معالجة البيان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مصادر داخلية أخر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مصادر خارج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بيانات المستند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وظائف نظام قاعدة البيانا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خزين البيانات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ستدعاء البيانات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تحكم في البيانات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قاعدة النماذج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يعتبر النموذج تمثيل أو محاكاة للواق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يمكن أن تكون هذه النماذج إحصائية و كمية وظيف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أنواع النماذج (معايير التمييز بين النماذج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هدف من النموذج (وصفية أو مثالية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درجة التعامل مع العشوائية (احتمالية أو حتمية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درجة العمومية في التطبيق (خاصة أو عامة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نوع البيانات التي يتعامل معها النموذج (ساكنة أو مركبة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مستوى التنظيمي الذي يستخدم النموذج( إستراتيجية أو تكتيكية أو تشغيلية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مجال الوظيف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مزايا النماذج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خبرة تعليمية للمدي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وفير الوق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قدرة على التنبؤ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أقل تكلفة من المحاولة و الخطأ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أهدا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عريف الطالب بنظم دعم القرار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عريف الطالب بمكونات نظم دعم القرار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عريف الطالب بعلاقة نظم دعم القرارات مع الأنظمة الأخر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إكساب الطالب مهارة استخدام نظم دعم القرارات في المنظم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عيوب النماذج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صعوبة تمثيل الواق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يحتاج إلى مهارات رياضية و إحصائية عالية جد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علاقة بين قاعدة البيانات و قاعدة النماذج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Oval 4"/>
          <p:cNvSpPr/>
          <p:nvPr/>
        </p:nvSpPr>
        <p:spPr>
          <a:xfrm>
            <a:off x="5181480" y="3581280"/>
            <a:ext cx="1447920" cy="1143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alibri"/>
              </a:rPr>
              <a:t>قاعدة البيانات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Oval 5"/>
          <p:cNvSpPr/>
          <p:nvPr/>
        </p:nvSpPr>
        <p:spPr>
          <a:xfrm>
            <a:off x="1828800" y="3581280"/>
            <a:ext cx="1447920" cy="1143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alibri"/>
              </a:rPr>
              <a:t>قاعدة النماذ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5" name="Straight Arrow Connector 7"/>
          <p:cNvCxnSpPr/>
          <p:nvPr/>
        </p:nvCxnSpPr>
        <p:spPr>
          <a:xfrm>
            <a:off x="3200040" y="3886200"/>
            <a:ext cx="205776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6" name="Straight Arrow Connector 9"/>
          <p:cNvCxnSpPr/>
          <p:nvPr/>
        </p:nvCxnSpPr>
        <p:spPr>
          <a:xfrm flipH="1" flipV="1">
            <a:off x="3200040" y="4419360"/>
            <a:ext cx="205776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7" name="TextBox 10"/>
          <p:cNvSpPr/>
          <p:nvPr/>
        </p:nvSpPr>
        <p:spPr>
          <a:xfrm>
            <a:off x="4343400" y="36576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11"/>
          <p:cNvSpPr/>
          <p:nvPr/>
        </p:nvSpPr>
        <p:spPr>
          <a:xfrm>
            <a:off x="3832200" y="3505320"/>
            <a:ext cx="7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بيانات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نظام إدارة الحوا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هي الوسيلة التي يمكن أن يتفاعل بها المستخدم مع نظام دعم القرا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أنواع أساليب الحوا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alibri"/>
                <a:cs typeface="Arial"/>
              </a:rPr>
              <a:t>التقارير المجدول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alibri"/>
                <a:cs typeface="Arial"/>
              </a:rPr>
              <a:t>السؤال و الجواب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alibri"/>
                <a:cs typeface="Arial"/>
              </a:rPr>
              <a:t>قائمة الإختيارات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alibri"/>
                <a:cs typeface="Arial"/>
              </a:rPr>
              <a:t>لغة الأوام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alibri"/>
                <a:cs typeface="Arial"/>
              </a:rPr>
              <a:t>نموذج المداخلات و المخرجات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alibri"/>
                <a:cs typeface="Arial"/>
              </a:rPr>
              <a:t>المدخلات في سياق المخرجات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alibri"/>
                <a:cs typeface="Arial"/>
              </a:rPr>
              <a:t>خليط من الأساليب السابق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مكونات نظام الحوا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لغة التصرف : مايمكن للمستخدم أن يفعله للاتصال مع النظام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لغة العرض: مايراه أو يسمعه المستخدم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قاعدة المعرفة: عن المعلومات التي يجب أن يعرفها المستخدم عن القرار و عن كيفية استخدام نظم دعم القرا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أفرا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مجموعة الأفراد المشتركين في تنمية و تشغيل و استخدام نظم دعم القرا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لمستخدمين النهائيي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لمحللين الفنيي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إداريون و المهندسي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أنواع نظم دعم القرارا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نظم المهتمة بالبيان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نظم المهتمة بالنماذ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نظم دعم قرارات فرد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نظم دعم القرارات الجماع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نظم دعم القرارات الجماع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عرف على أنها نظام تفاعلي مبني على الحاسب الآلي يسهم في تيسير حل المشكلات الغير مبرمجة و الذي يسعى لحلها مجموعة من متخذي القرارات الذين يعملون معا كفري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مكونات نظم دعم القرارات الجماع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أجهز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برمجي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عنصر البشر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إجراء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أنواع نظم دعم القرارات الجماع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ستخدام حجرة القرار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ستخدام شبكة أعمال محل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ستخدام مؤتمرات الاتصا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صنع القرارات عن بع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خصائص نظم دعم القرارات الجماع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أنها نظم يتم تصميمها خصيصا و لا يوجد لها مواصفات و مكونات عام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أنها نظم يتم تصميمها لزيادة فعالية القرا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سهلة الاستخدا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حتوي أساليب تمنع من انتشار السلوك الجماعي السلب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مقدم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ستخدام نظم المعلومات لتوفير الجهد و الوق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وفير معلومات عن بيئة المنظم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وفير معلومات | بيانات داخل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عمل نظم المعلومات على خدمة هدف معي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خصائص نظم دعم القرارا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ستخدم البرامج الجاهزة و التكنولوجيا المعلوم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ستخدم النماذج الإحصائ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محددة الهد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ساعد على اتخاذ القرار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تفاوت نظم دعم القرارات في درجة تأثيرها المباشر على القرارات حيث يقتصر بعضها على توفير المعلومات في حين يصل البعض الآخر إلى تقديم اقتراحات بالقرار المناسب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تعريف نظم دعم القرارا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مجموعة من الإجراءات تقوم بالاعتماد على الحاسب الآلي، وتستخدم العديد من النماذج و البرامج لمعالجة البيانات والاستفادة من الخبرات الشخصية لمساعدة الإدارة في اتخاذ القرار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مكونات نظم دعم القرا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- نظام اللغة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: هي كافة الوسائل المستخدمة بغرض تسهيل الاتصال  المستخدم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- نظام المعرفة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: توفير المعرفة المرتبطة بمجالات محددة في النظام في شكل حقائق حيث يتم تغذية النظام بالمشكلة من خلال اسئلة يطرحها النظام ثم يقوم النظام باقتراح حلول لها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- نظام معالجة المشاكل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:و هو اداة الربط بين نظام اللغة و المعرف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لامح الأساسية لنظم دعم القرارا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algn="just" rtl="1">
              <a:lnSpc>
                <a:spcPct val="90000"/>
              </a:lnSpc>
              <a:spcBef>
                <a:spcPts val="675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Calibri"/>
                <a:cs typeface="Arial"/>
              </a:rPr>
              <a:t>التركيز على القرارات الغير مبرمجة  و شبه مبرمجة التي تصنع عند مستويات الإدارة العليا في المنظمات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5360" algn="just" rtl="1">
              <a:lnSpc>
                <a:spcPct val="90000"/>
              </a:lnSpc>
              <a:spcBef>
                <a:spcPts val="675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Calibri"/>
                <a:cs typeface="Arial"/>
              </a:rPr>
              <a:t>التركيز على خاصية التفاعلية، المرونة، و القدرة على التكيف مع متطلبات متخذ القرارات و الاستجابة السريعة لاحتياجات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5360" algn="just" rtl="1">
              <a:lnSpc>
                <a:spcPct val="90000"/>
              </a:lnSpc>
              <a:spcBef>
                <a:spcPts val="675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Calibri"/>
                <a:cs typeface="Arial"/>
              </a:rPr>
              <a:t>إمكانية بدء التشغيل و التحكم في العمليات بواسطة المستخدم النهائي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5360" algn="just" rtl="1">
              <a:lnSpc>
                <a:spcPct val="90000"/>
              </a:lnSpc>
              <a:spcBef>
                <a:spcPts val="675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Calibri"/>
                <a:cs typeface="Arial"/>
              </a:rPr>
              <a:t>دعم عمليات كل من اتخاذ القرارات الفردية و اتخاذ القرارات التنظيمية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5360" algn="just" rtl="1">
              <a:lnSpc>
                <a:spcPct val="90000"/>
              </a:lnSpc>
              <a:spcBef>
                <a:spcPts val="675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Calibri"/>
                <a:cs typeface="Arial"/>
              </a:rPr>
              <a:t>التركيز على جودة و فاعلية القرارات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5360" algn="just" rtl="1">
              <a:lnSpc>
                <a:spcPct val="90000"/>
              </a:lnSpc>
              <a:spcBef>
                <a:spcPts val="675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Calibri"/>
                <a:cs typeface="Arial"/>
              </a:rPr>
              <a:t>التكامل مع نظم المعلومات الأخرى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مجالات نظم دعم القرارا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درجة هيكلة المشكل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مستوى اتخاذ القرا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مرحلة اتخاذ القرا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وظائف نظم تدعيم القرارا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r" rtl="1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تعرف على حدود و نطاق المشكل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 rtl="1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حديد درجة الاستجابة لحل المشكلة نتيجة تغير أحد المتغير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 rtl="1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حديد نموذج و اتجاه الح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 rtl="1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تنبؤ بمخرجات القرار التي تم اتخاذ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 rtl="1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وضع المزيج الأمثل لمتغيرات القرار و التي تؤثر على نتائج القرا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 rtl="1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سهيل المشاركة الجماعية لاتخاذ القرار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 rtl="1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1T13:53:40Z</dcterms:created>
  <dc:creator>Qasem Kharma</dc:creator>
  <dc:description/>
  <dc:language>en-US</dc:language>
  <cp:lastModifiedBy>mashael</cp:lastModifiedBy>
  <dcterms:modified xsi:type="dcterms:W3CDTF">2012-10-15T06:00:26Z</dcterms:modified>
  <cp:revision>40</cp:revision>
  <dc:subject/>
  <dc:title>نظم دعم القرارات</dc:title>
</cp:coreProperties>
</file>