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5C51-5EF0-4CBF-8E64-682809E3B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E123-210F-462B-A187-5FD325F5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0438-8543-4754-8EA7-4165BBBF1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1F84-6FA5-4DA4-99E6-456573602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AF29-6CBC-4AC8-B37E-3FA5EDC5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9500-FA04-477C-9157-4FD74DFB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E406-8D8A-46B8-BDEB-5EB6EBDA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7B10-4B44-419E-BE90-7220E547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9CC0-2675-4DA0-B31C-725D8821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8285-5F8E-443E-9DF2-BFE84B02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FFB8-EFF3-47F3-BB0C-43417753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DB5E-A8A6-476A-B407-62CFF2C1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F14C-4E0D-47F0-843D-5F0A332773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نظم دعم القرار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98989"/>
                </a:solidFill>
                <a:latin typeface="Calibri"/>
                <a:cs typeface="Arial"/>
              </a:rPr>
              <a:t>الفصل الثام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مكونات نظم دعم القرار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أجهز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قاعدة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قاعدة النماذ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نظام إدارة الحوا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أفرا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جهز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أجهز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شبكات الاتصال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أجهزة الاتصال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أجهزة المخرج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قاعدة البيان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just" rtl="1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جموعة من الملفات المتكاملة مع بعضها البعض تشمل كل من البيانات الداخلية التي تعبر عن البيانات الداخلية للمنظمة و التي يتم تجميعها من المجالات الوظيفية للمنظم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مزايا وجود قواعد البيان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وليد معلومات أكثر من نفس البيانات المتاح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إجابة على الاستفسارات المرتبطة بموضوع محدد بالذات بدرجة أكبر من اليس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قليل ازدواج البيانات إلى أقل حد ممك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حسين و تعزيز إدارة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عرض البيانات و الاحتفاظ بها بشكل أسه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ستخدام مساحة أقل للتخز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نظام أكثر رقيا للتعامل مع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مدير قاعدة البيان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صميم و إدارة تنفيذ قاعدة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ضع أساليب علا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إحتفاظ بسجل لمكونات قاعدة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ضع معايير تقييم أداء قاعدة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إضافة وظائف جديدة لقاعدة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حسين وظائف قاعدة البيانات المتاح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مصادر البيان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نظام معالجة 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صادر داخلية أخر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صادر خارج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بيانات المستند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وظائف نظام قاعدة البيان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خزين البيانا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ستدعاء البيانا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تحكم في البيانا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قاعدة النماذ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يعتبر النموذج تمثيل أو محاكاة للواق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يمكن أن تكون هذه النماذج إحصائية و كمية وظيف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واع النماذج (معايير التمييز بين النماذج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هدف من النموذج (وصفية أو مثالية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درجة التعامل مع العشوائية (احتمالية أو حتمية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درجة العمومية في التطبيق (خاصة أو عامة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نوع البيانات التي يتعامل معها النموذج (ساكنة أو مركبة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مستوى التنظيمي الذي يستخدم النموذج( إستراتيجية أو تكتيكية أو تشغيلية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مجال الوظيف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مزايا النماذ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خبرة تعليمية للمدي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وفير الوق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قدرة على التنب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أقل تكلفة من المحاولة و الخط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هدا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عريف الطالب بنظم دعم القرا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عريف الطالب بمكونات نظم دعم القرا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عريف الطالب بعلاقة نظم دعم القرارات مع الأنظمة الأخر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إكساب الطالب مهارة استخدام نظم دعم القرارات في المنظم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عيوب النماذ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صعوبة تمثيل الواق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يحتاج إلى مهارات رياضية و إحصائية عالية جد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علاقة بين قاعدة البيانات و قاعدة النماذ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val 4"/>
          <p:cNvSpPr/>
          <p:nvPr/>
        </p:nvSpPr>
        <p:spPr>
          <a:xfrm>
            <a:off x="5181480" y="3581280"/>
            <a:ext cx="1447920" cy="1143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قاعدة البيانا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Oval 5"/>
          <p:cNvSpPr/>
          <p:nvPr/>
        </p:nvSpPr>
        <p:spPr>
          <a:xfrm>
            <a:off x="1828800" y="3581280"/>
            <a:ext cx="1447920" cy="1143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قاعدة النماذ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Straight Arrow Connector 7"/>
          <p:cNvCxnSpPr/>
          <p:nvPr/>
        </p:nvCxnSpPr>
        <p:spPr>
          <a:xfrm>
            <a:off x="3200040" y="3886200"/>
            <a:ext cx="205776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Straight Arrow Connector 9"/>
          <p:cNvCxnSpPr/>
          <p:nvPr/>
        </p:nvCxnSpPr>
        <p:spPr>
          <a:xfrm flipH="1" flipV="1">
            <a:off x="3200040" y="4419360"/>
            <a:ext cx="205776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" name="TextBox 10"/>
          <p:cNvSpPr/>
          <p:nvPr/>
        </p:nvSpPr>
        <p:spPr>
          <a:xfrm>
            <a:off x="4343400" y="36576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1"/>
          <p:cNvSpPr/>
          <p:nvPr/>
        </p:nvSpPr>
        <p:spPr>
          <a:xfrm>
            <a:off x="3832200" y="350532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بيانا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نظام إدارة الحوا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هي الوسيلة التي يمكن أن يتفاعل بها المستخدم مع نظام دعم القرا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  <a:cs typeface="Arial"/>
              </a:rPr>
              <a:t>أنواع أساليب الحوا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التقارير المجدول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السؤال و الجواب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قائمة الإختيارا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لغة الأوام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نموذج المداخلات و المخرجا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المدخلات في سياق المخرجا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  <a:cs typeface="Arial"/>
              </a:rPr>
              <a:t>خليط من الأساليب السابق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مكونات نظام الحوا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لغة التصرف : مايمكن للمستخدم أن يفعله للاتصال مع النظام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لغة العرض: مايراه أو يسمعه المستخدم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قاعدة المعرفة: عن المعلومات التي يجب أن يعرفها المستخدم عن القرار و عن كيفية استخدام نظم دعم القرا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فرا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جموعة الأفراد المشتركين في تنمية و تشغيل و استخدام نظم دعم القرا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مستخدمين النهائي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محللين الفني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إداريون و المهندس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واع نظم دعم القرار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نظم المهتمة بالبيان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نظم المهتمة بالنماذ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نظم دعم قرارات فرد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نظم دعم القرارات الجماع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نظم دعم القرارات الجماع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عرف على أنها نظام تفاعلي مبني على الحاسب الآلي يسهم في تيسير حل المشكلات الغير مبرمجة و الذي يسعى لحلها مجموعة من متخذي القرارات الذين يعملون معا كفري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مكونات نظم دعم القرارات الجماع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أجهز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برمجي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عنصر البشر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إجراء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واع نظم دعم القرارات الجماع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ستخدام حجرة القرا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ستخدام شبكة أعمال محل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ستخدام مؤتمرات الاتصا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صنع القرارات عن بع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خصائص نظم دعم القرارات الجماع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أنها نظم يتم تصميمها خصيصا و لا يوجد لها مواصفات و مكونات عام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أنها نظم يتم تصميمها لزيادة فعالية القرا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سهلة الاستخدا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حتوي أساليب تمنع من انتشار السلوك الجماعي السلب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مقدم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ستخدام نظم المعلومات لتوفير الجهد و الوق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وفير معلومات عن بيئة المنظم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وفير معلومات | بيانات داخل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عمل نظم المعلومات على خدمة هدف مع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خصائص نظم دعم القرار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ستخدم البرامج الجاهزة و التكنولوجيا المعلوم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ستخدم النماذج الإحصائ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حددة الهد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ساعد على اتخاذ القرا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تفاوت نظم دعم القرارات في درجة تأثيرها المباشر على القرارات حيث يقتصر بعضها على توفير المعلومات في حين يصل البعض الآخر إلى تقديم اقتراحات بالقرار المناسب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تعريف نظم دعم القرار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جموعة من الإجراءات تقوم بالاعتماد على الحاسب الآلي، وتستخدم العديد من النماذج و البرامج لمعالجة البيانات والاستفادة من الخبرات الشخصية لمساعدة الإدارة في اتخاذ القرا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مكونات نظم دعم القرا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- نظام اللغ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: هي كافة الوسائل المستخدمة بغرض تسهيل الاتصال  المستخدم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- نظام المعرف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: توفير المعرفة المرتبطة بمجالات محددة في النظام في شكل حقائق حيث يتم تغذية النظام بالمشكلة من خلال اسئلة يطرحها النظام ثم يقوم النظام باقتراح حلول له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- نظام معالجة المشاكل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:و هو اداة الربط بين نظام اللغة و المعرف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لامح الأساسية لنظم دعم القرار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algn="just" rtl="1">
              <a:lnSpc>
                <a:spcPct val="90000"/>
              </a:lnSpc>
              <a:spcBef>
                <a:spcPts val="67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التركيز على القرارات الغير مبرمجة  و شبه مبرمجة التي تصنع عند مستويات الإدارة العليا في المنظمات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5360" algn="just" rtl="1">
              <a:lnSpc>
                <a:spcPct val="90000"/>
              </a:lnSpc>
              <a:spcBef>
                <a:spcPts val="67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التركيز على خاصية التفاعلية، المرونة، و القدرة على التكيف مع متطلبات متخذ القرارات و الاستجابة السريعة لاحتياجات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5360" algn="just" rtl="1">
              <a:lnSpc>
                <a:spcPct val="90000"/>
              </a:lnSpc>
              <a:spcBef>
                <a:spcPts val="67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إمكانية بدء التشغيل و التحكم في العمليات بواسطة المستخدم النهائي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5360" algn="just" rtl="1">
              <a:lnSpc>
                <a:spcPct val="90000"/>
              </a:lnSpc>
              <a:spcBef>
                <a:spcPts val="67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دعم عمليات كل من اتخاذ القرارات الفردية و اتخاذ القرارات التنظيمي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5360" algn="just" rtl="1">
              <a:lnSpc>
                <a:spcPct val="90000"/>
              </a:lnSpc>
              <a:spcBef>
                <a:spcPts val="67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التركيز على جودة و فاعلية القرارات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5360" algn="just" rtl="1">
              <a:lnSpc>
                <a:spcPct val="90000"/>
              </a:lnSpc>
              <a:spcBef>
                <a:spcPts val="67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Calibri"/>
                <a:cs typeface="Arial"/>
              </a:rPr>
              <a:t>التكامل مع نظم المعلومات الأخر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مجالات نظم دعم القرار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درجة هيكلة المشكل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ستوى اتخاذ القرا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مرحلة اتخاذ القرا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وظائف نظم تدعيم القرار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تعرف على حدود و نطاق المشكل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حديد درجة الاستجابة لحل المشكلة نتيجة تغير أحد المتغي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حديد نموذج و اتجاه الح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التنبؤ بمخرجات القرار التي تم اتخاذ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وضع المزيج الأمثل لمتغيرات القرار و التي تؤثر على نتائج القرا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rial"/>
              </a:rPr>
              <a:t>تسهيل المشاركة الجماعية لاتخاذ القرا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13:53:40Z</dcterms:created>
  <dc:creator>Qasem Kharma</dc:creator>
  <dc:description/>
  <dc:language>en-US</dc:language>
  <cp:lastModifiedBy>mashael</cp:lastModifiedBy>
  <dcterms:modified xsi:type="dcterms:W3CDTF">2012-10-15T06:00:26Z</dcterms:modified>
  <cp:revision>40</cp:revision>
  <dc:subject/>
  <dc:title>نظم دعم القرارات</dc:title>
</cp:coreProperties>
</file>