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gif" ContentType="image/gif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1AC0-603B-43BE-9FDD-8DDBEB16A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6614-A3DA-4D99-B5DF-82610787FFE2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ABE2-8113-42BD-938F-E678EEA78AAA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507C-2B7C-44EB-9243-07CC1ED952D1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D1A9-078D-4D48-8205-C42D03E03897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BD9-A7DA-4261-9ECF-D62908CD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805-E025-445B-9413-BB5907BB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3BE-B0D6-40EA-A7CB-489648BE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703-C373-42EA-8D71-7CE304AA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7A01-0107-4B3B-B260-5A101FFD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62CC-4AC8-4E8E-81C7-DCAAFE3F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BB8A-E23B-49B8-A28F-E5608250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320D-C804-4465-812E-9DA1119E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84A7-FC8D-439F-A8FE-4A55E4CC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3ACA-7A05-47EC-99A7-6324B0C1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4E98-4FBC-4923-8C77-153875B2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3FD-32C0-4EFA-B085-D5ABFFE3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BA0F-F3EF-4C26-A794-FD37B91B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724B-77E7-4155-96DC-EE2733E5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7B20-5B37-4D16-B1CA-A585E659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94F8-0636-476E-842E-190D942E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A018-9271-43A3-81FC-E39B17FE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731-732A-425A-BF8F-2B3E2B19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E15-E7C9-4F08-904B-4F9A8711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053-7505-4083-9F6D-DE62491C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7EC-1964-41E0-9062-A954A311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7FA-7498-42BF-9605-7E57CE4D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505-EC19-474E-8039-489F0AE4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3C8-4F6C-403F-916B-49D097D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02CB-176B-4F70-969E-460FD9BBE4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BB23-9AE2-4D1B-BCE6-9FBAB7103631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innvista.com/health/microbes/bacteria/foodprod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Actinomycetes: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Gram-positive bacteria that form branching filaments; used to make antibiotics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ram-Positive Bacteria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58F8-E639-45FC-AE45-B6F4169BFE80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Used in sewage treatment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Decomposers, breaking down the remains of organic matter in dead plant &amp; animal was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Recyclers, returning nutrients back to the environ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Food production: Bacteria help us make buttermilk, sour cream, yogurt, some cheese, sauerkraut and pickle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1371600" y="45720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Picture 5" descr="MMj02853350000[1]"/>
          <p:cNvPicPr/>
          <p:nvPr/>
        </p:nvPicPr>
        <p:blipFill>
          <a:blip r:embed="rId1"/>
          <a:stretch/>
        </p:blipFill>
        <p:spPr>
          <a:xfrm>
            <a:off x="7086600" y="1295280"/>
            <a:ext cx="1523880" cy="95256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4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9AB0-F176-46F2-B3D4-4EC14805F0BA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7848720" y="3962520"/>
            <a:ext cx="8953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5791320" y="5562720"/>
            <a:ext cx="1143000" cy="1100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12952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www.innvista.com/health/microbes/bacteria/foodprod.ht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Industrial chemical pro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Help clean up environmental disasters caused by humans, such as chemical &amp; oil spill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Useful in genetic engineering (gene splicing) to produce medicines and drug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1828800" y="457200"/>
            <a:ext cx="6019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Picture 5" descr="MMj03158120000[1]"/>
          <p:cNvPicPr/>
          <p:nvPr/>
        </p:nvPicPr>
        <p:blipFill>
          <a:blip r:embed="rId1"/>
          <a:stretch/>
        </p:blipFill>
        <p:spPr>
          <a:xfrm>
            <a:off x="7620120" y="1295280"/>
            <a:ext cx="1218960" cy="152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Cj02331160000[1]"/>
          <p:cNvPicPr/>
          <p:nvPr/>
        </p:nvPicPr>
        <p:blipFill>
          <a:blip r:embed="rId2"/>
          <a:stretch/>
        </p:blipFill>
        <p:spPr>
          <a:xfrm>
            <a:off x="6248520" y="3657600"/>
            <a:ext cx="1987560" cy="121932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5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4BEB-62C8-462D-BD4A-212A729DDA3E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3"/>
          <a:stretch/>
        </p:blipFill>
        <p:spPr>
          <a:xfrm>
            <a:off x="2819520" y="5932440"/>
            <a:ext cx="13906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371600" y="45720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n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Spoil foo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Cause odo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Some cause illness/disease, dea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"Toxins" substances released by bacteria the make you i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BD58-9EA5-4DA3-87C5-2C5F9D1405A6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4" descr="DecayingPeachSmall.gif"/>
          <p:cNvPicPr/>
          <p:nvPr/>
        </p:nvPicPr>
        <p:blipFill>
          <a:blip r:embed="rId1"/>
          <a:stretch/>
        </p:blipFill>
        <p:spPr>
          <a:xfrm>
            <a:off x="4191120" y="1295280"/>
            <a:ext cx="281916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6:55:01Z</dcterms:created>
  <dc:creator>Brock  Silvestri</dc:creator>
  <dc:description/>
  <cp:keywords/>
  <dc:language>en-US</dc:language>
  <cp:lastModifiedBy>Mysoon Al Ansari</cp:lastModifiedBy>
  <dcterms:modified xsi:type="dcterms:W3CDTF">2013-08-28T18:32:10Z</dcterms:modified>
  <cp:revision>10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