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DD0-21BB-4BDE-A441-F248A04A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84D-5C39-4AC2-9B92-BCD20113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8A7-59B5-4D34-8B70-0224F85B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511-5CEE-4874-87AD-9002DFBF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45DA-4932-452F-9AA8-AAF44107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D8B-4D57-4F3D-B1D1-0398931C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6F4-45B8-49D2-884E-04604909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5BE6-CE04-4943-8825-74F4A2BC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90F-1AEA-4CFE-BFDA-CE1835DB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490-6071-4F0C-8CBA-B78F2AEA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AFB-B218-4BB3-BC4D-346CBD56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004-B9FC-4DEB-82C9-A75C294D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B0E2-4D96-4791-ADC8-681839A4276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نظم الخبيرة و الذكاء الصناع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الفصل التاس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نواع النظم الخبي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طريقة أداء النظام الخبير لعمل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نظم الخبيرة المبنية على القواع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نظم الخبيرة المبنية على مث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نظم الخبيرة المبنية على نموذ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نواع النظم الخبي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وع البرمج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ناءا على احتياجات معي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فقا لحزم جاهز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زايا النظم الخبي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وفير الخبرات النادر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زيادة الإنتاج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رون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مكانية العمل في ظروف خطر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عمل في ظل معلومات غير مؤك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مكانية نقل المعرف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عيوب النظم الخبي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صعوبة توفر الخب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صعوبة الحصول على المعرف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حدودية قدرات معرفة المستخدم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مل في مجالات محدو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ستخدام الخبراء مصطلحات معقدة للتعبير عن الحقائق و العلاق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بناءه مكل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لامح برمجة الذكاء الصناع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مثيل الرمز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اجتها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بيانات الغير كام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مثيل المعرف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بيانات المتضار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قدرة على التعل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جالات الذكاء الصناع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كنولوجيا الإنسان الآ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عالجة اللغات الطبيع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ماذج المحاكا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نظم الخبير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عريف النظام الخبي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و برنامج ذكي للحاسب الآلي يقوم على استخدام المعرفة و خطوات الاستدلال لتقديم حل للمشكلات الصعبة التي تحتاج في حلها إلى استشارة الخبرا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صفات النظم الخبي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صمم لحل مشاكل في مجال مع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وم على اساس التحليل التجريبي للظاهرة محل الدراس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قدرة على الإستدلال من المعارف الحالية لتكوين معارف جدي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تمد على المعالجة الرمز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قدرة على تفسير عمليات الإستدلال التي يقوم ب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علاقة النظام الخبير بالأنظمة الأخر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تبر النظام الخبير هو المسيطر أو المتحكم الرئيس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كون النظام الخبير جزءا من التطبيقات الأ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وظائف (استخدامات) النظم الخبي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خطي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رقابة و تحديد الانحرا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شخيص القصو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دريب من خلال التفسي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سترجاع الخبرات النادر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وفير الوق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مداد المنظمة بحلول متسق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كونات النظام الخبي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تسهيل استقطاب المعرف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قاعدة المعرف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إدارة قاعدة المعرف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داة الاستدلا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داة التفاعل مع المستخد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نواع النظم الخبي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وع المساع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مساعد في الأعمال الروتينية مثل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graphic Expert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زميل في مناقشة المشكلة بطرح أسئلة ثم الإجا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خبير حقيقي بتحديد أبعاد المشكلة و توضح العلاج الأمث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1T09:42:12Z</dcterms:created>
  <dc:creator>Dr.Kharma</dc:creator>
  <dc:description/>
  <dc:language>en-US</dc:language>
  <cp:lastModifiedBy>mashael</cp:lastModifiedBy>
  <dcterms:modified xsi:type="dcterms:W3CDTF">2012-10-15T18:02:15Z</dcterms:modified>
  <cp:revision>16</cp:revision>
  <dc:subject/>
  <dc:title>النظم الخبيرة و الذكاء الصناعي</dc:title>
</cp:coreProperties>
</file>