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580-4BD4-406E-8F37-31F198EB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FCF-5CD0-4876-90F0-423DA805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062-8F9F-4728-9B93-38CE03C3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EF7-42DD-4C57-95AB-F79C945E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555-E586-4839-81BC-1C6E1640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4BC-AD5D-4B10-9BEC-DC4E3EE0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AA5-177D-432D-B96D-11407841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879E-7A3A-40DD-A11B-DA813E71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231-98A7-4480-B7F4-A745CC14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2B7-5EDB-4F4F-9AF4-737DB753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CF8-02D3-40A3-8D37-18FA52F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4F4-840C-4556-9E51-41D1F7AE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C58E-C5A1-4F70-BBC1-797E03C3E32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نظم الخبيرة و الذكاء الصن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98989"/>
                </a:solidFill>
                <a:latin typeface="Calibri"/>
              </a:rPr>
              <a:t>الفصل التاس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طريقة أداء النظام الخبير لعمل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م الخبيرة المبنية على القواع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م الخبيرة المبنية على مث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ظم الخبيرة المبنية على نموذ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ع البرمج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ناءا على احتياجات معي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فقا لحزم جاهز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زايا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 الخبرات الناد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زيادة الإنتا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رون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مكانية العمل في ظروف خط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عمل في ظل معلومات غير مؤك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مكانية نقل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يوب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عوبة توفر الخب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عوبة الحصول على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حدودية قدرات معرفة المستخدم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مل في مجالات محدو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تخدام الخبراء مصطلحات معقدة للتعبير عن الحقائق و العلاق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ناءه مكل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لامح برمجة الذكاء الصن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مثيل الرمز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جته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يانات الغير كام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ثيل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يانات المتضار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قدرة على التعل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جالات الذكاء الصناع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كنولوجيا الإنسان الآ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عالجة اللغات الطبي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ماذج المحاكا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نظم الخبي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عريف النظام الخبي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هو برنامج ذكي للحاسب الآلي يقوم على استخدام المعرفة و خطوات الاستدلال لتقديم حل للمشكلات الصعبة التي تحتاج في حلها إلى استشارة الخبر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صفات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صمم لحل مشاكل في مجال مع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وم على اساس التحليل التجريبي للظاهرة محل الدرا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قدرة على الإستدلال من المعارف الحالية لتكوين معارف جدي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مد على المعالجة الرمز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قدرة على تفسير عمليات الإستدلال التي يقوم ب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لاقة النظام الخبير بالأنظمة الأخر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بر النظام الخبير هو المسيطر أو المتحكم الرئيس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كون النظام الخبير جزءا من التطبيقات الأ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وظائف (استخدامات)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رقابة و تحديد الانحرا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شخيص القص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دريب من خلال التفس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سترجاع الخبرات الناد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 الوق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مداد المنظمة بحلول متسق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كونات النظام الخبي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تسهيل استقطاب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اعدة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ظام إدارة قاعدة المعرف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داة الاستدل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داة التفاعل مع المستخد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نواع النظم الخبير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نوع المساع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مساعد في الأعمال الروتينية مثل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graphic Exper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زميل في مناقشة المشكلة بطرح أسئلة ثم الإجا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خبير حقيقي بتحديد أبعاد المشكلة و توضح العلاج الأمث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9:42:12Z</dcterms:created>
  <dc:creator>Dr.Kharma</dc:creator>
  <dc:description/>
  <dc:language>en-US</dc:language>
  <cp:lastModifiedBy>mashael</cp:lastModifiedBy>
  <dcterms:modified xsi:type="dcterms:W3CDTF">2012-10-15T18:02:15Z</dcterms:modified>
  <cp:revision>16</cp:revision>
  <dc:subject/>
  <dc:title>النظم الخبيرة و الذكاء الصناعي</dc:title>
</cp:coreProperties>
</file>