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cc"/>
                </a:solidFill>
                <a:latin typeface="Palatino"/>
              </a:rPr>
              <a:t>Click to move the slide</a:t>
            </a:r>
            <a:endParaRPr b="0" lang="en-US" sz="3600" spc="-1" strike="noStrike">
              <a:solidFill>
                <a:srgbClr val="6600cc"/>
              </a:solidFill>
              <a:latin typeface="Palatino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97752-EC50-4078-A3F9-E1ECDEAD0A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CE723-7B82-481E-98C9-7BC94C6EA3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9F988-7C54-4100-AA33-62767A0E54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E814B-63BB-41C9-9391-1B1FCBF377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29813-9B94-484A-BE46-680BA8BA26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A48F7-3C0D-436F-BA19-608D9235E9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35F33-922D-4FB2-B3CE-01AD6E267A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C874B-9924-4F2E-8C36-33768E31C0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F168F-E444-4C50-AFD0-A65222BD0C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17BCF-33B9-40BC-8F1C-181AD85776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A3411-B66A-48F4-886E-99A654D870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4F6AB-04A7-406D-B9D5-53EE3366A8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FD43E-AEF0-4FD8-8C90-C1C0FB3C75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BB15F-C277-4FEA-A0B0-C10D900BF8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84142-ED01-4FC1-8199-C699A06131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49E31-8DEC-4374-BA16-001044518D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D6335-F602-4461-A717-B57FEAAB41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CC48B-63FD-4F23-AAE5-16EA0B2F6E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7B5C5-8B75-4E82-8058-9EEE609AD6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65F6F-920E-4407-AB8F-2219E301E3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C1642-4633-468D-9856-CD8CE6B958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941FF-1555-4720-9B8B-A7956528D4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cc"/>
              </a:solidFill>
              <a:latin typeface="Palatino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cc"/>
              </a:solidFill>
              <a:latin typeface="Palatino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cc"/>
              </a:solidFill>
              <a:latin typeface="Palatino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cc"/>
              </a:solidFill>
              <a:latin typeface="Palatino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cc"/>
              </a:solidFill>
              <a:latin typeface="Palatino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cc"/>
              </a:solidFill>
              <a:latin typeface="Palatino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cc"/>
              </a:solidFill>
              <a:latin typeface="Palatino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cc"/>
              </a:solidFill>
              <a:latin typeface="Palatino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cc"/>
              </a:solidFill>
              <a:latin typeface="Palatino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cc"/>
              </a:solidFill>
              <a:latin typeface="Palatino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cc"/>
                </a:solidFill>
                <a:latin typeface="Palatino"/>
              </a:rPr>
              <a:t>Click to edit the title text format</a:t>
            </a:r>
            <a:endParaRPr b="0" lang="en-US" sz="3600" spc="-1" strike="noStrike">
              <a:solidFill>
                <a:srgbClr val="6600cc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33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Palatino"/>
              </a:rPr>
              <a:t>Click to edit the outline text format</a:t>
            </a: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  <a:p>
            <a:pPr lvl="2" marL="1143000" indent="-228600">
              <a:spcBef>
                <a:spcPts val="700"/>
              </a:spcBef>
              <a:buClr>
                <a:srgbClr val="333399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Palatino"/>
              </a:rPr>
              <a:t>Third Outline Level</a:t>
            </a: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Palatino"/>
              </a:rPr>
              <a:t>Fourth Outline Level</a:t>
            </a: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Palatino"/>
              </a:rPr>
              <a:t>Fifth Outline Level</a:t>
            </a: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Palatino"/>
              </a:rPr>
              <a:t>Sixth Outline Level</a:t>
            </a: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Palatino"/>
              </a:rPr>
              <a:t>Seventh Outline Level</a:t>
            </a: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</p:txBody>
      </p:sp>
      <p:sp>
        <p:nvSpPr>
          <p:cNvPr id="2" name="Text Box 7"/>
          <p:cNvSpPr/>
          <p:nvPr/>
        </p:nvSpPr>
        <p:spPr>
          <a:xfrm>
            <a:off x="842040" y="6294600"/>
            <a:ext cx="141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Palatino"/>
              </a:rPr>
              <a:t>A Gift of Fire, 2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Text Box 8"/>
          <p:cNvSpPr/>
          <p:nvPr/>
        </p:nvSpPr>
        <p:spPr>
          <a:xfrm>
            <a:off x="3380760" y="6294600"/>
            <a:ext cx="216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hapter 7: Computer Cr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"/>
          <p:cNvSpPr/>
          <p:nvPr/>
        </p:nvSpPr>
        <p:spPr>
          <a:xfrm>
            <a:off x="7570800" y="6294600"/>
            <a:ext cx="9396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4538D-0EEA-4ACD-96CA-6CF5045F0758}" type="slidenum">
              <a:rPr b="0" lang="en-US" sz="12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142640" y="1447920"/>
            <a:ext cx="70102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PowerPoint</a:t>
            </a:r>
            <a:r>
              <a:rPr b="0" lang="en-US" sz="1800" spc="-1" strike="noStrike" baseline="30000">
                <a:solidFill>
                  <a:srgbClr val="000000"/>
                </a:solidFill>
                <a:latin typeface="Palatino"/>
              </a:rPr>
              <a:t>®</a:t>
            </a: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 Slides to Accompany</a:t>
            </a:r>
            <a:endParaRPr b="0" lang="en-US" sz="1800" spc="-1" strike="noStrike">
              <a:solidFill>
                <a:srgbClr val="993300"/>
              </a:solidFill>
              <a:latin typeface="Palatino"/>
            </a:endParaRPr>
          </a:p>
          <a:p>
            <a:pPr marL="343080"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Palatino"/>
              </a:rPr>
              <a:t>A Gift of Fire</a:t>
            </a:r>
            <a:r>
              <a:rPr b="1" i="1" lang="en-US" sz="2800" spc="-1" strike="noStrike">
                <a:solidFill>
                  <a:srgbClr val="000000"/>
                </a:solidFill>
                <a:latin typeface="Palatino"/>
              </a:rPr>
              <a:t>: Social, Legal, and Ethical Issues for Computers and the Internet</a:t>
            </a: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  <a:p>
            <a:pPr marL="343080"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"/>
              </a:rPr>
              <a:t>(2nd Edition)</a:t>
            </a:r>
            <a:endParaRPr b="0" lang="en-US" sz="1800" spc="-1" strike="noStrike">
              <a:solidFill>
                <a:srgbClr val="993300"/>
              </a:solidFill>
              <a:latin typeface="Palatino"/>
            </a:endParaRPr>
          </a:p>
          <a:p>
            <a:pPr marL="34308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alatino"/>
              </a:rPr>
              <a:t>by</a:t>
            </a:r>
            <a:r>
              <a:rPr b="1" lang="en-US" sz="2000" spc="-1" strike="noStrike">
                <a:solidFill>
                  <a:srgbClr val="000000"/>
                </a:solidFill>
                <a:latin typeface="Palatino"/>
              </a:rPr>
              <a:t> Sara Baase</a:t>
            </a:r>
            <a:endParaRPr b="0" lang="en-US" sz="2000" spc="-1" strike="noStrike">
              <a:solidFill>
                <a:srgbClr val="993300"/>
              </a:solidFill>
              <a:latin typeface="Palatino"/>
            </a:endParaRPr>
          </a:p>
          <a:p>
            <a:pPr marL="343080" indent="0" algn="ctr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San Diego State University</a:t>
            </a:r>
            <a:endParaRPr b="0" lang="en-US" sz="1800" spc="-1" strike="noStrike">
              <a:solidFill>
                <a:srgbClr val="993300"/>
              </a:solidFill>
              <a:latin typeface="Palatino"/>
            </a:endParaRPr>
          </a:p>
          <a:p>
            <a:pPr marL="343080" indent="0" algn="ctr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3300"/>
              </a:solidFill>
              <a:latin typeface="Palatino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alatino"/>
              </a:rPr>
              <a:t>PowerPoint slides created by Sherry Clark</a:t>
            </a:r>
            <a:endParaRPr b="0" lang="en-US" sz="1600" spc="-1" strike="noStrike">
              <a:solidFill>
                <a:srgbClr val="993300"/>
              </a:solidFill>
              <a:latin typeface="Palatino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alatino"/>
              </a:rPr>
              <a:t>Copyright 2003 Prentice Hall</a:t>
            </a:r>
            <a:endParaRPr b="0" lang="en-US" sz="1600" spc="-1" strike="noStrike">
              <a:solidFill>
                <a:srgbClr val="9933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cc"/>
                </a:solidFill>
                <a:latin typeface="Palatino"/>
              </a:rPr>
              <a:t>Hacking</a:t>
            </a:r>
            <a:endParaRPr b="0" lang="en-US" sz="3600" spc="-1" strike="noStrike">
              <a:solidFill>
                <a:srgbClr val="6600cc"/>
              </a:solidFill>
              <a:latin typeface="Palatino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80773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Palatino"/>
              </a:rPr>
              <a:t>Catching Hackers</a:t>
            </a: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… 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requires law enforcement to recognize and respond to myriad hacking attacks.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Computer forensics tools may include: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Undercover agents,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Honey pots (sting operations in cyberspace),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Archives of online message boards,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Tools for recovering deleted or coded information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Computer forensics agencies and services include: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Computer Emergency Response Team (CERT),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National Infrastructure Protection Center (NIPC),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Private companies specializing in recovering deleted files and e-mail, tracking hackers via Web site and telephone logs, etc.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838080" y="5791320"/>
            <a:ext cx="72392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What computer forensics tools or agencies have been in the news lately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cc"/>
                </a:solidFill>
                <a:latin typeface="Palatino"/>
              </a:rPr>
              <a:t>Hacking</a:t>
            </a:r>
            <a:endParaRPr b="0" lang="en-US" sz="3600" spc="-1" strike="noStrike">
              <a:solidFill>
                <a:srgbClr val="6600cc"/>
              </a:solidFill>
              <a:latin typeface="Palatino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Palatino"/>
              </a:rPr>
              <a:t>Questions About Penalties</a:t>
            </a: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Inten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Should hackers who did not intend to do damage or harm be punished differently than those with criminal intentions?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Should underage hackers receive a different penalty than adult hackers?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Damage Don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Should the penalty correspond to the actual damage done or the potential for damage?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cc"/>
                </a:solidFill>
                <a:latin typeface="Palatino"/>
              </a:rPr>
              <a:t>Hacking</a:t>
            </a:r>
            <a:endParaRPr b="0" lang="en-US" sz="3600" spc="-1" strike="noStrike">
              <a:solidFill>
                <a:srgbClr val="6600cc"/>
              </a:solidFill>
              <a:latin typeface="Palatino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Palatino"/>
              </a:rPr>
              <a:t>Security</a:t>
            </a: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curity weaknesses can be found in the computer systems used by: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businesses,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14300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government (classified and unclassified), and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14300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personal computers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Causes of security weakness: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characteristics of the Internet and Web,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14300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human nature,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14300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inherent complexity of computer systems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838080" y="5638680"/>
            <a:ext cx="51055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How secure is your computer at home? At work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cc"/>
                </a:solidFill>
                <a:latin typeface="Palatino"/>
              </a:rPr>
              <a:t>Hacking</a:t>
            </a:r>
            <a:endParaRPr b="0" lang="en-US" sz="3600" spc="-1" strike="noStrike">
              <a:solidFill>
                <a:srgbClr val="6600cc"/>
              </a:solidFill>
              <a:latin typeface="Palatino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Palatino"/>
              </a:rPr>
              <a:t>Security can be improved by:</a:t>
            </a: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  <a:p>
            <a:pPr lvl="2" marL="114300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Ongoing education and training to recognize the risks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14300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Better system design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14300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Use of security tools and systems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14300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Challenging “others” to find flaws in systems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14300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Writing and enforcing laws that don’t stymie research and advancement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838080" y="5638680"/>
            <a:ext cx="40388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Does weak security justify intrusion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cc"/>
                </a:solidFill>
                <a:latin typeface="Palatino"/>
              </a:rPr>
              <a:t>Online Scams</a:t>
            </a:r>
            <a:endParaRPr b="0" lang="en-US" sz="3600" spc="-1" strike="noStrike">
              <a:solidFill>
                <a:srgbClr val="6600cc"/>
              </a:solidFill>
              <a:latin typeface="Palatino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Palatino"/>
              </a:rPr>
              <a:t>Auctions</a:t>
            </a: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lling and buying goods online has become popular.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roblems: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sellers don’t send the goods,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14300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sellers send inferior goods,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14300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price is driven up by shill bidding, and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14300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illegal goods sold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olutions: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educate customers,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14300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read seller “reviews,”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14300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use third-party escrow, and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14300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more…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cc"/>
                </a:solidFill>
                <a:latin typeface="Palatino"/>
              </a:rPr>
              <a:t>Fraud, Embezzlement, Sabotage, Identity Theft, and Forgery</a:t>
            </a:r>
            <a:endParaRPr b="0" lang="en-US" sz="3600" spc="-1" strike="noStrike">
              <a:solidFill>
                <a:srgbClr val="6600cc"/>
              </a:solidFill>
              <a:latin typeface="Palatino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Palatino"/>
              </a:rPr>
              <a:t>Some Causes of Fraud</a:t>
            </a: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Credit-Car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Stolen receipts, mailed notices, and cards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Interception of online transaction or weak e-commerce security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Careless handling by card-owner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ATM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Stolen account numbers and PINs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Insider knowledge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A counterfeit ATM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Telecommunication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Stolen long-distance PINs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Cloned phones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838080" y="5638680"/>
            <a:ext cx="71629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What is the legal definition of fraud? Embezzlement? Sabotage? Theft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cc"/>
                </a:solidFill>
                <a:latin typeface="Palatino"/>
              </a:rPr>
              <a:t>Fraud, Embezzlement, Sabotage, Identity Theft, and Forgery</a:t>
            </a:r>
            <a:endParaRPr b="0" lang="en-US" sz="3600" spc="-1" strike="noStrike">
              <a:solidFill>
                <a:srgbClr val="6600cc"/>
              </a:solidFill>
              <a:latin typeface="Palatino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Palatino"/>
              </a:rPr>
              <a:t>Some Defenses Against Fraud</a:t>
            </a: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Credit-Car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Instant credit-card check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Analysis of buying patterns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Analysis of credit card applications (to detect identity theft)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Verify user with Caller ID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ATM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Redesigned ATMs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Limited withdrawal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Telecommunication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match phone “signature” with serial number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identify phone without broadcasting serial number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838080" y="5638680"/>
            <a:ext cx="67057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Identify a business’ defense against fraud that you have witness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cc"/>
                </a:solidFill>
                <a:latin typeface="Palatino"/>
              </a:rPr>
              <a:t>Fraud, Embezzlement, Sabotage, Identity Theft, and Forgery</a:t>
            </a:r>
            <a:endParaRPr b="0" lang="en-US" sz="3600" spc="-1" strike="noStrike">
              <a:solidFill>
                <a:srgbClr val="6600cc"/>
              </a:solidFill>
              <a:latin typeface="Palatino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Palatino"/>
              </a:rPr>
              <a:t>Embezzlement and Sabotage</a:t>
            </a: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ome Cause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Insider information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Poor security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Complex financial transactions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Anonymity of computer users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ome Defense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Rotate employee responsibility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Require use of employee ID and password 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Implement audit trails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Careful screening and background checks of employees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cc"/>
                </a:solidFill>
                <a:latin typeface="Palatino"/>
              </a:rPr>
              <a:t>Fraud, Embezzlement, Sabotage, Identity Theft, and Forgery</a:t>
            </a:r>
            <a:endParaRPr b="0" lang="en-US" sz="3600" spc="-1" strike="noStrike">
              <a:solidFill>
                <a:srgbClr val="6600cc"/>
              </a:solidFill>
              <a:latin typeface="Palatino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Palatino"/>
              </a:rPr>
              <a:t>Identity Theft</a:t>
            </a: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ome Causes of Identity Thef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Insecure and inappropriate use of Social Security numbers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Careless handling of personally identifiable information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Weak security of stored records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Insufficient assistance to identity theft victims. 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ome Defenses for Identity Thef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Limit use of personally identifiable information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Increase security of information stored by businesses and government agencies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Improve methods to accurately identify a person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Educate consumers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838080" y="5867280"/>
            <a:ext cx="71629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What measures do you take to reduce the risk of theft of your identity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cc"/>
                </a:solidFill>
                <a:latin typeface="Palatino"/>
              </a:rPr>
              <a:t>Fraud, Embezzlement, Sabotage, Identity Theft, and Forgery</a:t>
            </a:r>
            <a:endParaRPr b="0" lang="en-US" sz="3600" spc="-1" strike="noStrike">
              <a:solidFill>
                <a:srgbClr val="6600cc"/>
              </a:solidFill>
              <a:latin typeface="Palatino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Palatino"/>
              </a:rPr>
              <a:t>Forgery</a:t>
            </a: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ome Cause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Powerful computers and digital manipulation software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High-quality printers, copiers, and scanners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ome Defense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Educate consumers and employees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Use anti-counterfeiting techniques during production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Use counterfeit detection methods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Create legal and procedural incentives to improve security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838080" y="5334120"/>
            <a:ext cx="7391520" cy="734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How would you educate your peers about the risks of digital forgery? A parent? A child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6600cc"/>
                </a:solidFill>
                <a:latin typeface="Palatino"/>
              </a:rPr>
              <a:t>A Gift of Fire</a:t>
            </a:r>
            <a:endParaRPr b="0" lang="en-US" sz="3600" spc="-1" strike="noStrike">
              <a:solidFill>
                <a:srgbClr val="6600cc"/>
              </a:solidFill>
              <a:latin typeface="Palatino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09120" y="2285640"/>
            <a:ext cx="80010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Palatino"/>
              </a:rPr>
              <a:t>Computer Crime</a:t>
            </a: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3300"/>
              </a:solidFill>
              <a:latin typeface="Palatino"/>
            </a:endParaRPr>
          </a:p>
          <a:p>
            <a:pPr lvl="1" marL="79704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Introduction</a:t>
            </a:r>
            <a:endParaRPr b="0" lang="en-US" sz="1800" spc="-1" strike="noStrike">
              <a:solidFill>
                <a:srgbClr val="993300"/>
              </a:solidFill>
              <a:latin typeface="Palatino"/>
            </a:endParaRPr>
          </a:p>
          <a:p>
            <a:pPr lvl="1" marL="79704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Hacking</a:t>
            </a:r>
            <a:endParaRPr b="0" lang="en-US" sz="1800" spc="-1" strike="noStrike">
              <a:solidFill>
                <a:srgbClr val="993300"/>
              </a:solidFill>
              <a:latin typeface="Palatino"/>
            </a:endParaRPr>
          </a:p>
          <a:p>
            <a:pPr lvl="1" marL="79704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Online Scams</a:t>
            </a:r>
            <a:endParaRPr b="0" lang="en-US" sz="1800" spc="-1" strike="noStrike">
              <a:solidFill>
                <a:srgbClr val="993300"/>
              </a:solidFill>
              <a:latin typeface="Palatino"/>
            </a:endParaRPr>
          </a:p>
          <a:p>
            <a:pPr lvl="1" marL="79704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Fraud, Embezzlement, Sabotage, Information Theft, and Forgery</a:t>
            </a:r>
            <a:endParaRPr b="0" lang="en-US" sz="1800" spc="-1" strike="noStrike">
              <a:solidFill>
                <a:srgbClr val="993300"/>
              </a:solidFill>
              <a:latin typeface="Palatino"/>
            </a:endParaRPr>
          </a:p>
          <a:p>
            <a:pPr lvl="1" marL="79704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Crime Fighting Versus Privacy and Civil Liberties</a:t>
            </a:r>
            <a:endParaRPr b="0" lang="en-US" sz="1800" spc="-1" strike="noStrike">
              <a:solidFill>
                <a:srgbClr val="9933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cc"/>
                </a:solidFill>
                <a:latin typeface="Palatino"/>
              </a:rPr>
              <a:t>Crime Fighting vs</a:t>
            </a:r>
            <a:br>
              <a:rPr sz="3600"/>
            </a:br>
            <a:r>
              <a:rPr b="0" lang="en-US" sz="3600" spc="-1" strike="noStrike">
                <a:solidFill>
                  <a:srgbClr val="6600cc"/>
                </a:solidFill>
                <a:latin typeface="Palatino"/>
              </a:rPr>
              <a:t>Privacy and Civil Liberties</a:t>
            </a:r>
            <a:endParaRPr b="0" lang="en-US" sz="3600" spc="-1" strike="noStrike">
              <a:solidFill>
                <a:srgbClr val="6600cc"/>
              </a:solidFill>
              <a:latin typeface="Palatino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Palatino"/>
              </a:rPr>
              <a:t>Scams</a:t>
            </a: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Crime Fighting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Automated surveillance software to look for suspicious Web activity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rivacy and Civil Libertie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No search warrant nor proof of probable cause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Palatino"/>
              </a:rPr>
              <a:t>Biometrics</a:t>
            </a: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Crime Fighting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Exact match of biological characteristics to a unique person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rivacy and Civil Libertie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Easy to build complete dossier on people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838080" y="5440320"/>
            <a:ext cx="7162920" cy="734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How much of your privacy and civil liberties are you willing to give up in order to allow law enforcement to better fight computer crim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cc"/>
                </a:solidFill>
                <a:latin typeface="Palatino"/>
              </a:rPr>
              <a:t>Crime Fighting vs</a:t>
            </a:r>
            <a:br>
              <a:rPr sz="3600"/>
            </a:br>
            <a:r>
              <a:rPr b="0" lang="en-US" sz="3600" spc="-1" strike="noStrike">
                <a:solidFill>
                  <a:srgbClr val="6600cc"/>
                </a:solidFill>
                <a:latin typeface="Palatino"/>
              </a:rPr>
              <a:t>Privacy and Civil Liberties</a:t>
            </a:r>
            <a:endParaRPr b="0" lang="en-US" sz="3600" spc="-1" strike="noStrike">
              <a:solidFill>
                <a:srgbClr val="6600cc"/>
              </a:solidFill>
              <a:latin typeface="Palatino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Palatino"/>
              </a:rPr>
              <a:t>Search and Seizure of Computers</a:t>
            </a: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Crime Fighting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2" marL="1119960" indent="-2239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Obtain evidence of a crime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rivacy and Civil Libertie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2" marL="1119960" indent="-2239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Day-to-day business ceases; non-criminal contact with others ends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Palatino"/>
              </a:rPr>
              <a:t>The Cybercrime Treaty</a:t>
            </a: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Crime Fighting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2" marL="1119960" indent="-2239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U.S. and European governments agree to cooperate with investigations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rivacy and Civil Libertie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2" marL="1119960" indent="-2239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Potential for government spying is great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838080" y="5715000"/>
            <a:ext cx="74678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Might there be incriminating data stored about you in the logs of your ISP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Palatino"/>
              </a:rPr>
              <a:t>Introduction</a:t>
            </a:r>
            <a:endParaRPr b="0" lang="en-US" sz="3200" spc="-1" strike="noStrike">
              <a:solidFill>
                <a:srgbClr val="6600cc"/>
              </a:solidFill>
              <a:latin typeface="Palatino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Palatino"/>
              </a:rPr>
              <a:t>Computers Are Tools</a:t>
            </a: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Computers assist us in our work, expand our thinking, and provide entertainment.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Palatino"/>
              </a:rPr>
              <a:t>Computers Are Used to Commit Crimes</a:t>
            </a: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reventing, detecting, and prosecuting computer crime is a challenge.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cc"/>
                </a:solidFill>
                <a:latin typeface="Palatino"/>
              </a:rPr>
              <a:t>Hacking</a:t>
            </a:r>
            <a:endParaRPr b="0" lang="en-US" sz="3600" spc="-1" strike="noStrike">
              <a:solidFill>
                <a:srgbClr val="6600cc"/>
              </a:solidFill>
              <a:latin typeface="Palatino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Palatino"/>
              </a:rPr>
              <a:t>The Phases of Hacking</a:t>
            </a: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hase One: The early year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1960s and 1970s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14300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Originally, </a:t>
            </a:r>
            <a:r>
              <a:rPr b="0" i="1" lang="en-US" sz="1600" spc="-1" strike="noStrike">
                <a:solidFill>
                  <a:srgbClr val="333399"/>
                </a:solidFill>
                <a:latin typeface="Palatino"/>
              </a:rPr>
              <a:t>hacker</a:t>
            </a: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 referred to a creative programmer wrote clever code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14300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The first operating systems and computer games were written by hackers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14300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The term hacking was a positive term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14300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Hackers were usually high-school and college students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838080" y="5334120"/>
            <a:ext cx="51055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Describe a modern-day version of “clever” hack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cc"/>
                </a:solidFill>
                <a:latin typeface="Palatino"/>
              </a:rPr>
              <a:t>Hacking</a:t>
            </a:r>
            <a:endParaRPr b="0" lang="en-US" sz="3600" spc="-1" strike="noStrike">
              <a:solidFill>
                <a:srgbClr val="6600cc"/>
              </a:solidFill>
              <a:latin typeface="Palatino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Palatino"/>
              </a:rPr>
              <a:t>The Phases of Hacking </a:t>
            </a:r>
            <a:r>
              <a:rPr b="0" lang="en-US" sz="2400" spc="-1" strike="noStrike">
                <a:solidFill>
                  <a:srgbClr val="993300"/>
                </a:solidFill>
                <a:latin typeface="Palatino"/>
              </a:rPr>
              <a:t>(cont’d)</a:t>
            </a:r>
            <a:endParaRPr b="0" lang="en-US" sz="2400" spc="-1" strike="noStrike">
              <a:solidFill>
                <a:srgbClr val="993300"/>
              </a:solidFill>
              <a:latin typeface="Palatino"/>
            </a:endParaRPr>
          </a:p>
          <a:p>
            <a:pPr lvl="1" marL="705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hase Two: Hacking takes on a more negative meaning.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2" marL="1085760" indent="-21708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1970s through 1990s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1708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Authors and the media used the term hacker to describe someone who used computers, without authorization, sometimes to commit crimes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1708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Early computer crimes were launched against business and government computers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1708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Adult criminals began using computers to commit their crimes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838080" y="5334120"/>
            <a:ext cx="7391520" cy="734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Distinguish between the hacking done by Kevin Mitnick and Robert J. Morr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cc"/>
                </a:solidFill>
                <a:latin typeface="Palatino"/>
              </a:rPr>
              <a:t>Hacking</a:t>
            </a:r>
            <a:endParaRPr b="0" lang="en-US" sz="3600" spc="-1" strike="noStrike">
              <a:solidFill>
                <a:srgbClr val="6600cc"/>
              </a:solidFill>
              <a:latin typeface="Palatino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Palatino"/>
              </a:rPr>
              <a:t>The Phases of Hacking</a:t>
            </a: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hase Three: The Web Era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Beginning in the mid-1990s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14300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The increased use of the Internet for school, work, business transactions, and recreation makes it attractive to criminals with basic computer skills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14300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Crimes include the release of malicious code (viruses and worms)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14300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Unprotected computers can be used, unsuspectingly, to accomplish network disruption or commit fraud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14300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Hackers with minimal computer skills can create havoc by using malicious code written by others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838080" y="5638680"/>
            <a:ext cx="55627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Why are denial-of-service attacks difficult to prevent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cc"/>
                </a:solidFill>
                <a:latin typeface="Palatino"/>
              </a:rPr>
              <a:t>Hacking</a:t>
            </a:r>
            <a:endParaRPr b="0" lang="en-US" sz="3600" spc="-1" strike="noStrike">
              <a:solidFill>
                <a:srgbClr val="6600cc"/>
              </a:solidFill>
              <a:latin typeface="Palatino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Palatino"/>
              </a:rPr>
              <a:t>Hactivism</a:t>
            </a: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is the use of hacking expertise to promote a political cause.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This kind of hacking can range from mild to destructive activities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14300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Some consider hactivism as modern-age civil disobedience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14300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Others believe hactivism denies others their freedom of speech and violates property rights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838080" y="5486400"/>
            <a:ext cx="41911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Argue the case that hactivism is ethic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cc"/>
                </a:solidFill>
                <a:latin typeface="Palatino"/>
              </a:rPr>
              <a:t>Hacking</a:t>
            </a:r>
            <a:endParaRPr b="0" lang="en-US" sz="3600" spc="-1" strike="noStrike">
              <a:solidFill>
                <a:srgbClr val="6600cc"/>
              </a:solidFill>
              <a:latin typeface="Palatino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Palatino"/>
              </a:rPr>
              <a:t>The Law</a:t>
            </a: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Computer Fraud and Abuse Act (CFAA, 1986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It is a crime to access, alter, damage, or destroy information on a computer without authorization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14300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Computers protected under this law include: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alatino"/>
              </a:rPr>
              <a:t>government computers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alatino"/>
              </a:rPr>
              <a:t>financial systems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alatino"/>
              </a:rPr>
              <a:t>medical systems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alatino"/>
              </a:rPr>
              <a:t>interstate commerce,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alatino"/>
              </a:rPr>
              <a:t>any computer on the Interne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838080" y="5562720"/>
            <a:ext cx="53341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Is your personal computer protected under this law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cc"/>
                </a:solidFill>
                <a:latin typeface="Palatino"/>
              </a:rPr>
              <a:t>Hacking</a:t>
            </a:r>
            <a:endParaRPr b="0" lang="en-US" sz="3600" spc="-1" strike="noStrike">
              <a:solidFill>
                <a:srgbClr val="6600cc"/>
              </a:solidFill>
              <a:latin typeface="Palatino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Palatino"/>
              </a:rPr>
              <a:t>The Law </a:t>
            </a:r>
            <a:r>
              <a:rPr b="0" lang="en-US" sz="2400" spc="-1" strike="noStrike">
                <a:solidFill>
                  <a:srgbClr val="993300"/>
                </a:solidFill>
                <a:latin typeface="Palatino"/>
              </a:rPr>
              <a:t>(cont’d)</a:t>
            </a:r>
            <a:endParaRPr b="0" lang="en-US" sz="2400" spc="-1" strike="noStrike">
              <a:solidFill>
                <a:srgbClr val="993300"/>
              </a:solidFill>
              <a:latin typeface="Palatino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USA Patriot Act (USAPA, 2001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2" marL="1131480" indent="-22608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Amends the CFAA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131480" indent="-22608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Allows for recovery of losses due to responding to a hacker attack, assessing damages, and restoring systems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131480" indent="-22608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Higher penalties can be levied against anyone hacking into computers belonging to criminal justice system or the military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131480" indent="-22608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The government can monitor online activity without a court order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838080" y="5334120"/>
            <a:ext cx="35816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Are anti-hacking laws adequat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2T04:21:54Z</dcterms:created>
  <dc:creator>Prentice Hall</dc:creator>
  <dc:description/>
  <dc:language>en-US</dc:language>
  <cp:lastModifiedBy>Administrator</cp:lastModifiedBy>
  <dcterms:modified xsi:type="dcterms:W3CDTF">2011-01-07T15:07:10Z</dcterms:modified>
  <cp:revision>183</cp:revision>
  <dc:subject/>
  <dc:title>Computer Crime</dc:title>
</cp:coreProperties>
</file>