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move the slid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8CA4-5E6E-47FB-A79A-D3E610264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B54A-53DC-44AF-9764-30D8EFE5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9CC3-0638-46A0-955C-3D19B43D3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837-E973-4D07-81C7-7A3EC8F33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74F-9984-4A0B-B28D-ACA026A9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87DD-3922-4A8E-93BC-C69861D5E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4D8-187A-4793-9D6F-CBFDCF400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8432-CAC1-4289-A099-4B3AAD88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4ECA-354A-440B-87F5-BB33E2C69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F00-522C-4020-A24A-63FD7B65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827-C1E3-405E-8629-F95C86F0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C8EB-35BD-4A14-84AC-23BC55AE9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BD09-049A-461E-BD18-D0F51D438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0468-6B56-4D12-BD33-F7C0358C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0A32-A617-4CAA-B11C-8CC6E083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2B87-4997-4C8A-96E6-783D7B4D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37D9-ABD3-468F-8D90-DE4E8A0D6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368C-C715-4A39-ABAE-D615EB27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43C2-E18E-42D9-8745-D6427D61A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2BB2-8985-4D22-9C42-8E6894751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4C2D-6C09-47BC-8173-D0128B86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7B47-32AB-449B-9C56-71DEA2FB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842040" y="62946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A Gift of Fire, 2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3380760" y="6294600"/>
            <a:ext cx="21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hapter 7: Compute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70800" y="6294600"/>
            <a:ext cx="93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55FC-567A-4CB3-BF75-FB11FA6654E4}" type="slidenum">
              <a:rPr b="0" lang="en-US" sz="12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owerPoin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Slides to Accompan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"/>
              </a:rPr>
              <a:t>A Gift of Fire</a:t>
            </a:r>
            <a:r>
              <a:rPr b="1" i="1" lang="en-US" sz="2800" spc="-1" strike="noStrike">
                <a:solidFill>
                  <a:srgbClr val="000000"/>
                </a:solidFill>
                <a:latin typeface="Palatino"/>
              </a:rPr>
              <a:t>: Social, Legal, and Ethical Issues for Computers and the Interne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(2nd Edition)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by</a:t>
            </a: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 Sara Baase</a:t>
            </a:r>
            <a:endParaRPr b="0" lang="en-US" sz="20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an Diego State Universit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owerPoint slides created by Sherry Clark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Copyright 2003 Prentice Hall</a:t>
            </a:r>
            <a:endParaRPr b="0" lang="en-US" sz="16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atching Hacker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s law enforcement to recognize and respond to myriad hacking attacks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 forensics tools may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ndercover agent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oney pots (sting operations in cyberspace)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rchives of online message board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ools for recovering deleted or coded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 forensics agencies and services include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 Emergency Response Team (CERT)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ational Infrastructure Protection Center (NIPC)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vate companies specializing in recovering deleted files and e-mail, tracking hackers via Web site and telephone logs, etc.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5791320"/>
            <a:ext cx="7239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computer forensics tools or agencies have been in the news late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Questions About Penalti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ten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ould hackers who did not intend to do damage or harm be punished differently than those with criminal intentions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ould underage hackers receive a different penalty than adult hackers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Damage Don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hould the penalty correspond to the actual damage done or the potential for damage?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urit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ity weaknesses can be found in the computer systems used by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usinesse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government (classified and unclassified), and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ersonal comput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uses of security weaknes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racteristics of the Internet and Web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uman nature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herent complexity of computer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38080" y="5638680"/>
            <a:ext cx="5105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secure is your computer at home? At wor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curity can be improved by: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ngoing education and training to recognize the risk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etter system desig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of security tools and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hallenging “others” to find flaws in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riting and enforcing laws that don’t stymie research and advancemen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838080" y="5638680"/>
            <a:ext cx="4038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oes weak security justify intru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Online Scams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Auction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lling and buying goods online has become popular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lers don’t send the good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ellers send inferior good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rice is driven up by shill bidding, and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llegal goods sol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ducate customers,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ad seller “reviews,”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third-party escrow, and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ore…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me Causes of Fraud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edit-Car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olen receipts, mailed notices, and ca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terception of online transaction or weak e-commerce secur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reless handling by card-own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olen account numbers and PI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ider knowledg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 counterfeit ATM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tolen long-distance PI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loned phon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38080" y="5638680"/>
            <a:ext cx="716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legal definition of fraud? Embezzlement? Sabotage? Thef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ome Defenses Against Fraud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edit-Car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tant credit-card check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alysis of buying patter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alysis of credit card applications (to detect identity theft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Verify user with Caller I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designed AT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ed withdrawal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match phone “signature” with serial numb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dentify phone without broadcasting serial numb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38080" y="5638680"/>
            <a:ext cx="6705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dentify a business’ defense against fraud that you have witne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Embezzlement and Sabotag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Cau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ider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oor secur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lex financial transac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nonymity of computer us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Defen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otate employee responsibil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Require use of employee ID and password 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mplement audit trai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reful screening and background checks of employe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Identity Theft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Causes of Identity Thef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ecure and inappropriate use of Social Security numb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areless handling of personally identifiable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Weak security of stored recor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sufficient assistance to identity theft victims. 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Defenses for Identity Thef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Limit use of personally identifiable inform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ncrease security of information stored by businesses and government agenc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mprove methods to accurately identify a pers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ducate consum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38080" y="5867280"/>
            <a:ext cx="716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measures do you take to reduce the risk of theft of your ident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Fraud, Embezzlement, Sabotage, Identity Theft, and Forgery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Forger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Cau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owerful computers and digital manipulation softwar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gh-quality printers, copiers, and scann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ome Defens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ducate consumers and employe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anti-counterfeiting techniques during produc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se counterfeit detection metho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eate legal and procedural incentives to improve secur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533412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would you educate your peers about the risks of digital forgery? A parent? A chil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cc"/>
                </a:solidFill>
                <a:latin typeface="Palatino"/>
              </a:rPr>
              <a:t>A Gift of Fire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 Crime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Introduction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acking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Online Scam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raud, Embezzlement, Sabotage, Information Theft, and Forgery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  <a:p>
            <a:pPr lvl="1" marL="797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rime Fighting Versus Privacy and Civil Liberties</a:t>
            </a:r>
            <a:endParaRPr b="0" lang="en-US" sz="1800" spc="-1" strike="noStrike">
              <a:solidFill>
                <a:srgbClr val="9933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rime Fighting vs</a:t>
            </a:r>
            <a:br>
              <a:rPr sz="3600"/>
            </a:b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Privacy and Civil Liberties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cam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tomated surveillance software to look for suspicious Web activit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No search warrant nor proof of probable caus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Biometric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xact match of biological characteristics to a unique pers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asy to build complete dossier on peopl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38080" y="5440320"/>
            <a:ext cx="71629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ow much of your privacy and civil liberties are you willing to give up in order to allow law enforcement to better fight computer cri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Crime Fighting vs</a:t>
            </a:r>
            <a:br>
              <a:rPr sz="3600"/>
            </a:b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Privacy and Civil Liberties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Search and Seizure of Computer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btain evidence of a crim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Day-to-day business ceases; non-criminal contact with others end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Cybercrime Treaty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rime Fight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.S. and European governments agree to cooperate with investigation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ivacy and Civil Liberti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Potential for government spying is great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080" y="5715000"/>
            <a:ext cx="7467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ight there be incriminating data stored about you in the logs of your IS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Palatino"/>
              </a:rPr>
              <a:t>Introduction</a:t>
            </a:r>
            <a:endParaRPr b="0" lang="en-US" sz="32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Tool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s assist us in our work, expand our thinking, and provide entertainment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Computers Are Used to Commit Crimes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eventing, detecting, and prosecuting computer crime is a challenge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Phases of H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hase One: The early year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1960s and 1970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riginally, </a:t>
            </a:r>
            <a:r>
              <a:rPr b="0" i="1" lang="en-US" sz="1600" spc="-1" strike="noStrike">
                <a:solidFill>
                  <a:srgbClr val="333399"/>
                </a:solidFill>
                <a:latin typeface="Palatino"/>
              </a:rPr>
              <a:t>hacker</a:t>
            </a: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 referred to a creative programmer wrote clever cod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first operating systems and computer games were written by hack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term hacking was a positive term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ackers were usually high-school and college studen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38080" y="5334120"/>
            <a:ext cx="5105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escribe a modern-day version of “clever” ha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Phases of Hacking </a:t>
            </a:r>
            <a:r>
              <a:rPr b="0" lang="en-US" sz="24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2400" spc="-1" strike="noStrike">
              <a:solidFill>
                <a:srgbClr val="993300"/>
              </a:solidFill>
              <a:latin typeface="Palatino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hase Two: Hacking takes on a more negative meaning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1970s through 1990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uthors and the media used the term hacker to describe someone who used computers, without authorization, sometimes to commit crim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Early computer crimes were launched against business and government comput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085760" indent="-217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dult criminals began using computers to commit their crim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38080" y="5334120"/>
            <a:ext cx="739152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Distinguish between the hacking done by Kevin Mitnick and Robert J. Morr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Phases of Hacking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hase Three: The Web Er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Beginning in the mid-1990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increased use of the Internet for school, work, business transactions, and recreation makes it attractive to criminals with basic computer skill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rimes include the release of malicious code (viruses and worms)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Unprotected computers can be used, unsuspectingly, to accomplish network disruption or commit fraud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ackers with minimal computer skills can create havoc by using malicious code written by other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5638680"/>
            <a:ext cx="5562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y are denial-of-service attacks difficult to prev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Hactivism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s the use of hacking expertise to promote a political cause.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is kind of hacking can range from mild to destructive activitie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Some consider hactivism as modern-age civil disobedience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Others believe hactivism denies others their freedom of speech and violates property right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5486400"/>
            <a:ext cx="4191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gue the case that hactivism is eth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Law</a:t>
            </a:r>
            <a:endParaRPr b="0" lang="en-US" sz="2800" spc="-1" strike="noStrike">
              <a:solidFill>
                <a:srgbClr val="9933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mputer Fraud and Abuse Act (CFAA, 1986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It is a crime to access, alter, damage, or destroy information on a computer without authorization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Computers protected under this law include: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government comput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financial system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medical system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interstate commerce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ny computer on the Inter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5562720"/>
            <a:ext cx="5334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s your personal computer protected under this la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Palatino"/>
              </a:rPr>
              <a:t>Hacking</a:t>
            </a:r>
            <a:endParaRPr b="0" lang="en-US" sz="3600" spc="-1" strike="noStrike">
              <a:solidFill>
                <a:srgbClr val="6600cc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Palatino"/>
              </a:rPr>
              <a:t>The Law </a:t>
            </a:r>
            <a:r>
              <a:rPr b="0" lang="en-US" sz="2400" spc="-1" strike="noStrike">
                <a:solidFill>
                  <a:srgbClr val="993300"/>
                </a:solidFill>
                <a:latin typeface="Palatino"/>
              </a:rPr>
              <a:t>(cont’d)</a:t>
            </a:r>
            <a:endParaRPr b="0" lang="en-US" sz="2400" spc="-1" strike="noStrike">
              <a:solidFill>
                <a:srgbClr val="993300"/>
              </a:solidFill>
              <a:latin typeface="Palatino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A Patriot Act (USAPA, 2001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mends the CFAA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Allows for recovery of losses due to responding to a hacker attack, assessing damages, and restoring systems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Higher penalties can be levied against anyone hacking into computers belonging to criminal justice system or the military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  <a:p>
            <a:pPr lvl="2" marL="1131480" indent="-226080">
              <a:spcBef>
                <a:spcPts val="400"/>
              </a:spcBef>
              <a:buClr>
                <a:srgbClr val="333399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Palatino"/>
              </a:rPr>
              <a:t>The government can monitor online activity without a court order.</a:t>
            </a:r>
            <a:endParaRPr b="0" lang="en-US" sz="1600" spc="-1" strike="noStrike">
              <a:solidFill>
                <a:srgbClr val="333399"/>
              </a:solidFill>
              <a:latin typeface="Palatino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5334120"/>
            <a:ext cx="3581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anti-hacking laws adequ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04:21:54Z</dcterms:created>
  <dc:creator>Prentice Hall</dc:creator>
  <dc:description/>
  <dc:language>en-US</dc:language>
  <cp:lastModifiedBy>Administrator</cp:lastModifiedBy>
  <dcterms:modified xsi:type="dcterms:W3CDTF">2011-01-07T15:07:10Z</dcterms:modified>
  <cp:revision>183</cp:revision>
  <dc:subject/>
  <dc:title>Computer Crime</dc:title>
</cp:coreProperties>
</file>