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dt" idx="22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ftr" idx="23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 type="sldNum" idx="24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5A44E-4A6C-49E7-854A-3D9060A60B86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46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A3DF1-163D-4C4B-A76E-9DCD8BA73A31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73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919DB-695A-4FF1-A659-FC2198FD60A2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76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F836E-CFCD-4F43-9268-5C57987D9958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79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BF4C0-BE5C-4D69-BB9D-0E2117D5A526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82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4BE18-22D4-49E1-AEFF-0483A88E77F8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85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9A5A8-20E9-4870-8E18-F5E981F1E6C6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88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AD40F-E294-4A1C-9471-2FD74110CAF1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91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FB71F-8427-4646-8855-5CBF2ADD020F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94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E4FE4-B461-4ED6-9A5D-4E67C3999F37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97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7FF2A-A2D5-4A2D-91C0-3F1F768E6188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500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5ED5D-354C-419D-B77E-5C99158D19CD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49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D95A8-A344-4B6A-8F99-284A5CE13305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503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4DDC1-1ADD-4B7E-8758-4B138D7030D7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506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CEEBE-F6BD-4B78-8398-4F3EB72080BE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509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0C4D5-1CA9-4D4A-BF4C-930D15AE3E8F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512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6BB49-3295-4AB4-9364-FC132AD11127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515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F7F61-72F7-4A6C-A22B-4A25F10A20CB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518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B962E-BB36-429C-9498-F58462D76CF8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521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8750D-0CED-4254-A857-52FC670BB369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524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AF24F-CED9-43D0-9486-BF52A77AB375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527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58A8B-4928-41E3-9E30-0A770BE59BBD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52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93F6A-90F6-4F1D-AA44-11C2510644CC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55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9568E-28C7-494A-8619-8371FA6BC5BF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58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EAB59-664E-42F4-B44F-7DE95EDACC55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61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5BCD9-B2CA-4CE4-8BC2-6AC3F32BA66B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64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78007-5E0A-4A1D-B03E-310482DBF867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67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B8D0A-8699-42B1-83E3-4B174BF3B8D8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70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2D2C1-FA97-4F83-8285-2582F033282C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B2DEF-5561-4E43-9278-06C61751B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222E7-1888-4FE0-A7B0-3E3B7EE24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94233-56E5-42E3-BAEF-BB5E2D5BC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69A35-C42F-415E-BF98-6B6206EB1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8336F-55C2-4393-B178-A2B792CA8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0A450-388B-41B7-8D37-157032FAA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589DB-49E8-4A16-87C3-890D741E3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4FC98-9E42-4086-978D-035028269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D1092-C577-4F7A-ADD0-2CF1F67EF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9593F-5DEE-4AF2-A5B8-94ED9BD45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910E1-3ACB-4C42-B582-4801597F5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BB111-824F-453C-9B96-CFF18CE5F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EBD9F-FBD9-4EDD-B61C-3F1F576C8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D9EDE-E922-4FBE-BA39-A3C80F8C2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66993-D8D4-47E6-A57B-1E1B3EC0B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7E7D6-092B-4C7D-B03F-42A9FAF3F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9BB56-2075-4BF5-A915-465F75BD0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619CDDE-2C9F-4876-88A5-F2E470B50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C5BBEFC-338D-4931-AE8E-649B02C7C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9E475DA-8C91-469D-AB74-51D08E755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7D12BE2-DF4F-4D79-BD66-8CED95104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06ABA3C-D032-4EC9-A611-9634B9ECC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DCB8A-595C-49A5-AE80-70D1E1BB5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F2480EE-59A5-4132-A639-BD33EBDAB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9954B9B-783A-43FE-9B6B-373E2C60A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17B2450-CAFA-4F80-B856-C5C1CF0AD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E3C20EC-3071-43E1-8CEF-D16B95E88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C0CCE00-4E83-4B9D-9634-46D88C1F9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EEEB791-21B0-41E2-9E78-2E85A3CE7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D82F3D-14C6-4C9C-82DE-B783569DE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5CC053-19D8-49F5-8474-73DBF2564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75020D-A03E-42E0-9B39-9E95F79EC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631872-362B-4342-948E-1B163D107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307EC-4DF1-44F1-9A8E-B9CB56A97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A96F23-DACA-4101-90C2-BB92439B5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DA446F-1666-42F9-8D7F-B2BA97292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B93FCB-7C5A-4F4F-BA41-F9499CBC1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BB088A-4026-4DD7-87B3-15F936721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954951-5740-40A5-993A-3D214E010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DFE02C-4540-42AD-9CEE-79334DB22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41A9F6-0DB3-474A-A65F-20E2C6C33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8ED59A-5B29-4100-BAC9-0F6BBC323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E794AD-6F0F-4E6C-9274-EE9E501F4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578510D-DD39-4F2F-950E-B1F4A5A75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F2759-C20B-4D93-8AA1-57109B298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77AC90E-8250-43D5-BCE4-DED4E04F9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832F083-52BB-4FD3-9320-D4EC13EEC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1DD8FF9-F5A8-43EE-AFC7-FB406264F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7F3BD68-16EB-45DD-B5C7-BFB0DCA86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8F8078F-79F1-4F60-98AB-03BC09068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D76DDB3-3DDF-4D08-85DC-34D5B2B94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DBBD4B8-5694-4B2D-A454-5C61E045F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7C3F9AD-47AF-4EC6-98DE-414A82759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8ECC948-EC07-44EE-BAC1-8B7DF6F2B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262B846-3001-4CF6-9EA7-18062D605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E5FF2-012B-4536-AAB8-D39E87A5D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006C5F6-03D0-41B2-85C0-A7924D0C2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893A1EB-E3F0-4D85-BDB0-7B15E7374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89CD899-F768-4171-9073-887DB682D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E2F9F44-5817-483D-A375-F0DBBB70D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2556FDD-8474-498E-A616-04D07422B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BA480BC-AE87-48BC-94D0-3D0E39251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4DE3617-008F-49F3-ADD5-68F362CDB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FABFB58-05B0-4BF8-928B-FA63A858B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A9160F4-C761-474E-99F4-2EE5C8C93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5F30F86-CC60-4605-9795-CA471CE05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01347-955F-48C6-8924-EB4741E47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082BD18-2423-42DD-99E9-CAFF067D4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2904952-0785-43A2-88A1-15E984E15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EE01B4D-0FE4-46AA-BD7E-85C37A1BC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6F25C4E-17B0-4FD0-806B-11369887F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EBF10B9-6326-4B31-9983-C379E54FB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CF7DFD4-3AE3-4C93-9321-8F76FE601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A585F1C-8535-47E3-9A4F-CE47A797C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24A48DD-1B02-40DD-BAF8-CEEB5BD26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FA3AAC9-7FDA-4099-A2D4-580DD7A10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401DFE4-7E6A-4426-BB16-369987CF8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1E2DF-D473-4368-97E4-1C97CF128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CE8254E-D272-4C97-B401-FDF5B8831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0DD03D8-F930-414B-9B14-67C307FC6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21A6482-2FF9-443C-8003-E1AB4EB9A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179663E-2F24-44E5-BCC3-58993D6CA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9FA0918-4D37-448A-934A-8BEE2F5F0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F5DA5-C8DB-4641-8CCA-82A235BD7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40D83-5375-4CA7-B599-A088B86F95B6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Straight Connector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Oval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Oval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Oval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20B53-4B26-45BE-B450-1EEC30A4BA93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54894-E2A3-4832-A235-70ED9B4D853F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Rectangle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Oval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Oval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Oval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Oval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Oval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Straight Connector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9E73C-7BAC-4C26-A210-8955E4C58861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52B77-9BE4-4240-B504-97F65B9DCE2E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" name="Straight Connector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" name="Straight Connector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9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1" name="Oval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7655D-D137-4943-854A-59F4BEFA61AB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Oval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Straight Connector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6" name="Rectangle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Straight Connector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Straight Connector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Straight Connector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4F587-904E-4040-ADFD-3103264CEEC8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2590560" y="3962520"/>
            <a:ext cx="510516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5f6d"/>
                </a:solidFill>
                <a:latin typeface="Calibri"/>
              </a:rPr>
              <a:t>Dr. Hassan Abdalla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1066680" y="1447560"/>
            <a:ext cx="74678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1" lang="en-US" sz="5400" spc="-1" strike="noStrike">
                <a:solidFill>
                  <a:srgbClr val="575f6d"/>
                </a:solidFill>
                <a:latin typeface="Calibri"/>
              </a:rPr>
              <a:t>COMMUNICATION SKILLS</a:t>
            </a:r>
            <a:endParaRPr b="0" lang="en-US" sz="5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0" name="Slide Number Placeholder 3"/>
          <p:cNvSpPr/>
          <p:nvPr/>
        </p:nvSpPr>
        <p:spPr>
          <a:xfrm>
            <a:off x="132552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5E5B4-9821-49C1-9937-F478B9F80EE2}" type="slidenum">
              <a:rPr b="1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70c0"/>
                </a:solidFill>
                <a:latin typeface="Century Schoolbook"/>
                <a:ea typeface="Times New Roman"/>
              </a:rPr>
              <a:t>PRESENTATION: COMM. MISTAKE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228600" y="1295280"/>
            <a:ext cx="868680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Facing the display screen behind you and talking to it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Stand in a position where you obscure the screen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Move about too much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Slides are not clear, text too small to read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Too much text on a slide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Inappropriate colors on the slide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Annoying animations, sound effects or picture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Room Lighting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7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EA648-6136-469B-BA59-1A8B7CC2A74D}" type="slidenum">
              <a:rPr b="1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70c0"/>
                </a:solidFill>
                <a:latin typeface="Century Schoolbook"/>
                <a:ea typeface="Times New Roman"/>
              </a:rPr>
              <a:t>WRITING &amp; REFERENCING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456840" y="1294920"/>
            <a:ext cx="7467480" cy="517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Written communication is the ability to communicate effectively in writing with a range of audiences” :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in a variety of mode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(e.g., persuasion, argument, exposition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using a number of different mean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(e.g., graphical, statistical, audio-visual and technological)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902C1-C246-4B63-B7E7-97181519DCD8}" type="slidenum">
              <a:rPr b="1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467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70c0"/>
                </a:solidFill>
                <a:latin typeface="Century Schoolbook"/>
                <a:ea typeface="Times New Roman"/>
              </a:rPr>
              <a:t>WRITING &amp; REFERENCING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456840" y="1219320"/>
            <a:ext cx="800100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Two objectives of Writing to a reader: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6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Must convey a clear and unambiguous message</a:t>
            </a:r>
            <a:endParaRPr b="0" lang="en-US" sz="25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6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Must produce goodwill</a:t>
            </a:r>
            <a:endParaRPr b="0" lang="en-US" sz="2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To achieve these two objectives, the writer must write: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6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Clearly</a:t>
            </a:r>
            <a:endParaRPr b="0" lang="en-US" sz="25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6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Coherently</a:t>
            </a:r>
            <a:endParaRPr b="0" lang="en-US" sz="25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6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Concisely</a:t>
            </a:r>
            <a:endParaRPr b="0" lang="en-US" sz="25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6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Correctly; with</a:t>
            </a:r>
            <a:endParaRPr b="0" lang="en-US" sz="25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6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Courtesy; and</a:t>
            </a:r>
            <a:endParaRPr b="0" lang="en-US" sz="25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6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Confidence</a:t>
            </a:r>
            <a:endParaRPr b="0" lang="en-US" sz="25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3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ABBC6-768E-4202-B515-9BB99076B59E}" type="slidenum">
              <a:rPr b="1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3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3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3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3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3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3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3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3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70c0"/>
                </a:solidFill>
                <a:latin typeface="Century Schoolbook"/>
                <a:ea typeface="Times New Roman"/>
              </a:rPr>
              <a:t>WRITING BACKGROUND SKILLS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456840" y="144792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ritten communication requires background skills such as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academic writing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revision and editing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critical reading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presentation of data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6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0BC5D-7912-4A72-928E-95FA36235890}" type="slidenum">
              <a:rPr b="1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70c0"/>
                </a:solidFill>
                <a:latin typeface="Century Schoolbook"/>
                <a:ea typeface="Times New Roman"/>
              </a:rPr>
              <a:t>ACADEMIC WRITING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380880" y="1143000"/>
            <a:ext cx="822960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riting in order t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analyze a topic closely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develop a point of view in relation to that topic through research and thought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persuade your reader that the point of view you have developed is well supported by the ideas and information you present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Create a clearly structured document that presents an account of what has happened in a practical session or as part of an experiment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Example: an essay, poster, paper or thesis and technical report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9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03E6A-52C9-4076-9D74-371E28D90CF6}" type="slidenum">
              <a:rPr b="1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70c0"/>
                </a:solidFill>
                <a:latin typeface="Century Schoolbook"/>
                <a:ea typeface="Times New Roman"/>
              </a:rPr>
              <a:t>REVISION AND EDITING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pplying techniques to improv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Writing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Presentation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Proofreading for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pelling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Grammar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tyle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2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DE151-CB53-4A9E-8159-A05BC2E71FBE}" type="slidenum">
              <a:rPr b="1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9246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70c0"/>
                </a:solidFill>
                <a:latin typeface="Century Schoolbook"/>
                <a:ea typeface="Times New Roman"/>
              </a:rPr>
              <a:t>CRITICAL READING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457200" y="9140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n awareness of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the content of the message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the style and method of communication,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understanding of how the content and method combine to create the meaning of the message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Example: results published in a scientific paper may be given more credibility than results presented at a departmental seminar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ctively listening, reading or viewing information to gain a complete and accurate understanding of the communicated messag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Example: extracting specific detail from an academic paper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5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712CF-3DFE-4989-AB35-D6DFDD0700C0}" type="slidenum">
              <a:rPr b="1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70c0"/>
                </a:solidFill>
                <a:latin typeface="Century Schoolbook"/>
                <a:ea typeface="Times New Roman"/>
              </a:rPr>
              <a:t>Presentation of Data</a:t>
            </a:r>
            <a:br>
              <a:rPr sz="3000"/>
            </a:b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456840" y="1295280"/>
            <a:ext cx="8077320" cy="502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n understanding of the use of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Image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Graph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Other method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Example, using appropriate graphing techniques in a scientific report, or well-chosen graphics to convey a concept)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8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57512-BDCA-4F83-AE1F-7488C1B8C63A}" type="slidenum">
              <a:rPr b="1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70c0"/>
                </a:solidFill>
                <a:latin typeface="Century Schoolbook"/>
                <a:ea typeface="Times New Roman"/>
              </a:rPr>
              <a:t>EXAMPLES OF “BAD WRITING”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457200" y="1143000"/>
            <a:ext cx="822960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"Teaching is like a disease; those of you who have it are lucky, you are blessed,”(From the New York Times, Jan 18, 1989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Dear Fellow Resident: Washington is a city that only cares about one thing: money, power and politics (The Washington Weekly, Oct 3, 2007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ODAY'S QUESTION: Efforts to make English the official language is gaining strength  throughout the U.S. What is your reaction? (N.Y. Daily News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ord processors are replacing the steno pad and ballpoint for many secretaries. Several thousandare to convene in Kansas City. (Kansas City Times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1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F961E-3A5D-440F-8B49-C4D2CBF9B1C0}" type="slidenum">
              <a:rPr b="1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70c0"/>
                </a:solidFill>
                <a:latin typeface="Century Schoolbook"/>
                <a:ea typeface="Times New Roman"/>
              </a:rPr>
              <a:t>GROUP INTERACTIONS - </a:t>
            </a:r>
            <a:r>
              <a:rPr b="0" lang="en-US" sz="3000" spc="-1" strike="noStrike">
                <a:solidFill>
                  <a:srgbClr val="ff0000"/>
                </a:solidFill>
                <a:latin typeface="Century Schoolbook"/>
                <a:ea typeface="Times New Roman"/>
              </a:rPr>
              <a:t>INCENTIVE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456840" y="1523880"/>
            <a:ext cx="7467480" cy="495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 group is two or more persons who are interacting with one another in such a manner that each person influences and is influenced by each other person” (Shaw M E 1976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Two heads are better than one”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4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47281-AB7E-49D3-9F21-BA2E7D3DB4A9}" type="slidenum">
              <a:rPr b="1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70c0"/>
                </a:solidFill>
                <a:latin typeface="Century Schoolbook"/>
                <a:ea typeface="Times New Roman"/>
              </a:rPr>
              <a:t>AGEND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456840" y="1600200"/>
            <a:ext cx="83818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General Communication Skill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824040" indent="-457200">
              <a:spcBef>
                <a:spcPts val="524"/>
              </a:spcBef>
              <a:buClr>
                <a:srgbClr val="fe8637"/>
              </a:buClr>
              <a:buSzPct val="8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Oral Communication Skills (Presentation in class)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824040" indent="-457200">
              <a:spcBef>
                <a:spcPts val="524"/>
              </a:spcBef>
              <a:buClr>
                <a:srgbClr val="fe8637"/>
              </a:buClr>
              <a:buSzPct val="8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Writing &amp; Referencing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824040" indent="-457200">
              <a:spcBef>
                <a:spcPts val="524"/>
              </a:spcBef>
              <a:buClr>
                <a:srgbClr val="fe8637"/>
              </a:buClr>
              <a:buSzPct val="8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Group Interaction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824040" indent="-457200">
              <a:spcBef>
                <a:spcPts val="524"/>
              </a:spcBef>
              <a:buClr>
                <a:srgbClr val="fe8637"/>
              </a:buClr>
              <a:buSzPct val="8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Leadership &amp; Management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3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B7B79-10D6-4D50-8E88-8BE4F0E92415}" type="slidenum">
              <a:rPr b="1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70c0"/>
                </a:solidFill>
                <a:latin typeface="Century Schoolbook"/>
                <a:ea typeface="Times New Roman"/>
              </a:rPr>
              <a:t>GROUP INTERACTIONS - </a:t>
            </a:r>
            <a:r>
              <a:rPr b="0" lang="en-US" sz="3200" spc="-1" strike="noStrike">
                <a:solidFill>
                  <a:srgbClr val="ff0000"/>
                </a:solidFill>
                <a:latin typeface="Century Schoolbook"/>
                <a:ea typeface="Times New Roman"/>
              </a:rPr>
              <a:t>BENEFITS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456840" y="1294920"/>
            <a:ext cx="8077320" cy="517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tudent’s viewpoint, some of the real positives of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tackling a problem in a group include: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finding out someone else’s viewpoint, approach, idea or perspective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preading the workload amongst the group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combining talents and using people’s particular strengths to the best advantage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helping individuals to discover what they know and what they have yet to discover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7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23CEA-BBE3-494E-9D61-A56CF1DE85B4}" type="slidenum">
              <a:rPr b="1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4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4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4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4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4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4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4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4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70c0"/>
                </a:solidFill>
                <a:latin typeface="Century Schoolbook"/>
                <a:ea typeface="Times New Roman"/>
              </a:rPr>
              <a:t>GROUP INTERACTIONS - </a:t>
            </a:r>
            <a:r>
              <a:rPr b="0" lang="en-US" sz="3200" spc="-1" strike="noStrike">
                <a:solidFill>
                  <a:srgbClr val="ff0000"/>
                </a:solidFill>
                <a:latin typeface="Century Schoolbook"/>
                <a:ea typeface="Times New Roman"/>
              </a:rPr>
              <a:t>BENEFITS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457200" y="990360"/>
            <a:ext cx="8305920" cy="548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Schoolbook"/>
              </a:rPr>
              <a:t>Educational perspective, working in groups is valued because it: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gives opportunities for students to develop generic skills such as: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30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entury Schoolbook"/>
              </a:rPr>
              <a:t>Team work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30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entury Schoolbook"/>
              </a:rPr>
              <a:t>Negotiation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30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entury Schoolbook"/>
              </a:rPr>
              <a:t>Cooperation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30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entury Schoolbook"/>
              </a:rPr>
              <a:t>Leadership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promotes collaborative learning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allows a topic to be explored in greater breadth and depth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enables the construction of authentic  workplace problem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encourages deep, higher level thinking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0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2B674-428E-4254-B406-0019EA129211}" type="slidenum">
              <a:rPr b="1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4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4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4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4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4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4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4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4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4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4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4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4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70c0"/>
                </a:solidFill>
                <a:latin typeface="Century Schoolbook"/>
                <a:ea typeface="Times New Roman"/>
              </a:rPr>
              <a:t>PROBLEMS IN GROUP WORK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456840" y="1371240"/>
            <a:ext cx="7467480" cy="510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Group members not contributing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Very quiet group member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Over-talkative group member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n individual who dominat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eople missing meeting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Misinterpreting the task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Getting off task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3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DD0BA-335B-46E4-8FA9-65ACA83D4B4D}" type="slidenum">
              <a:rPr b="1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4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4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4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4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4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4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4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4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70c0"/>
                </a:solidFill>
                <a:latin typeface="Century Schoolbook"/>
                <a:ea typeface="Times New Roman"/>
              </a:rPr>
              <a:t>INTERPERSONAL SKILL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456840" y="914040"/>
            <a:ext cx="7467480" cy="510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Smile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Be appreciative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Pay attention to other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Practice active listening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Bring people together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Resolve conflict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Communicate clearly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Humor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See it from their side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Don't complain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6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FC583-0876-41F7-9A5A-92BF1BF9755B}" type="slidenum">
              <a:rPr b="1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4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4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4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4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4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4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4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4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4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4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4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4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4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4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4674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70c0"/>
                </a:solidFill>
                <a:latin typeface="Century Schoolbook"/>
                <a:ea typeface="Times New Roman"/>
              </a:rPr>
              <a:t>IDEAL GROUP ROLE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380520" y="761760"/>
            <a:ext cx="853452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Facilitator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26760" indent="-267120">
              <a:spcBef>
                <a:spcPts val="6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entury Schoolbook"/>
              </a:rPr>
              <a:t>Responsible for chairing meetings.</a:t>
            </a:r>
            <a:endParaRPr b="0" lang="en-US" sz="25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Timekeeper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26760" indent="-267120">
              <a:spcBef>
                <a:spcPts val="6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entury Schoolbook"/>
              </a:rPr>
              <a:t>Makes sure the meeting runs to time.</a:t>
            </a:r>
            <a:endParaRPr b="0" lang="en-US" sz="25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Recorder/note-taker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26760" indent="-267120">
              <a:spcBef>
                <a:spcPts val="6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entury Schoolbook"/>
              </a:rPr>
              <a:t>Takes and distributes the minutes of the meeting.</a:t>
            </a:r>
            <a:endParaRPr b="0" lang="en-US" sz="25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Devil’s advocate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26760" indent="-267120">
              <a:spcBef>
                <a:spcPts val="6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entury Schoolbook"/>
              </a:rPr>
              <a:t>Someone who argues against the group’s position, to help determine the validity of that position.</a:t>
            </a:r>
            <a:endParaRPr b="0" lang="en-US" sz="25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Team player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26760" indent="-267120">
              <a:spcBef>
                <a:spcPts val="70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entury Schoolbook"/>
              </a:rPr>
              <a:t>Gives support to other roles by enthusiastic following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9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CE23E-815A-4CD2-BD07-F3F59DB28B34}" type="slidenum">
              <a:rPr b="1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4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4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4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4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4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4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4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4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4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4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4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4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4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4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4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4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4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4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4674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70c0"/>
                </a:solidFill>
                <a:latin typeface="Century Schoolbook"/>
                <a:ea typeface="Times New Roman"/>
              </a:rPr>
              <a:t>LEADERSHIP &amp; MANAGEMENT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457200" y="1371600"/>
            <a:ext cx="81532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Leadership is a process of social influence in which one person is able to enlist the aid and support of others in the accomplishment of a common task” --Chemers, M. M. (2002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Management is a kind of leadership in which th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chievement of organizational goals is paramount.“-- Zaleznik, A. (1977)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Management involves power by position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Leadership involves power by influence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2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0A0BB-7ADA-40BD-B490-CD56EDEF57DC}" type="slidenum">
              <a:rPr b="1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70c0"/>
                </a:solidFill>
                <a:latin typeface="Century Schoolbook"/>
                <a:ea typeface="Times New Roman"/>
              </a:rPr>
              <a:t>TELLING &amp; SELLING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 salesperson can’t sell a product to a customer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ithout information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e same salesperson won’t sell anything by only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giving the customer product information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e information must accompany a sales pitch explaining the benefits of the product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r trainers, the product is knowledge and/or skills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5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005D3-B52C-4DBD-A49C-F421479C2C26}" type="slidenum">
              <a:rPr b="1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70c0"/>
                </a:solidFill>
                <a:latin typeface="Century Schoolbook"/>
                <a:ea typeface="Times New Roman"/>
              </a:rPr>
              <a:t>GUIDING AND DIRECTING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7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D97A9-B934-4A08-AD86-EC58DFDA3DCA}" type="slidenum">
              <a:rPr b="1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38" name="Picture 6" descr=""/>
          <p:cNvPicPr/>
          <p:nvPr/>
        </p:nvPicPr>
        <p:blipFill>
          <a:blip r:embed="rId1"/>
          <a:stretch/>
        </p:blipFill>
        <p:spPr>
          <a:xfrm>
            <a:off x="2438280" y="2743200"/>
            <a:ext cx="4191120" cy="1371600"/>
          </a:xfrm>
          <a:prstGeom prst="rect">
            <a:avLst/>
          </a:prstGeom>
          <a:ln w="0">
            <a:noFill/>
          </a:ln>
        </p:spPr>
      </p:pic>
      <p:pic>
        <p:nvPicPr>
          <p:cNvPr id="439" name="Picture 8" descr=""/>
          <p:cNvPicPr/>
          <p:nvPr/>
        </p:nvPicPr>
        <p:blipFill>
          <a:blip r:embed="rId2"/>
          <a:stretch/>
        </p:blipFill>
        <p:spPr>
          <a:xfrm>
            <a:off x="2438280" y="4114800"/>
            <a:ext cx="4191120" cy="1495440"/>
          </a:xfrm>
          <a:prstGeom prst="rect">
            <a:avLst/>
          </a:prstGeom>
          <a:ln w="0">
            <a:noFill/>
          </a:ln>
        </p:spPr>
      </p:pic>
      <p:sp>
        <p:nvSpPr>
          <p:cNvPr id="440" name="Rectangle 10"/>
          <p:cNvSpPr/>
          <p:nvPr/>
        </p:nvSpPr>
        <p:spPr>
          <a:xfrm>
            <a:off x="838080" y="1676520"/>
            <a:ext cx="7086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like telling and selling, guiding and directing 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lar oppo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70c0"/>
                </a:solidFill>
                <a:latin typeface="Century Schoolbook"/>
                <a:ea typeface="Times New Roman"/>
              </a:rPr>
              <a:t>FEARS IN GROUP MANAGEMENT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533520" y="1295280"/>
            <a:ext cx="807696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hallenging to move from directing to guiding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ere is a fear of losing control that drives many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lks to direct the clas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e trick to classroom management is learning to balance the flexibility required to meet learners’ needs with the ability to refocus the class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3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68353-EC77-4A68-8799-5A39B4BC0F38}" type="slidenum">
              <a:rPr b="1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533160" y="228600"/>
            <a:ext cx="74674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70c0"/>
                </a:solidFill>
                <a:latin typeface="Century Schoolbook"/>
                <a:ea typeface="Times New Roman"/>
              </a:rPr>
              <a:t>ORAL COMMUNICATION SKILL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533520" y="1295280"/>
            <a:ext cx="807696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Your voice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000000"/>
                </a:solidFill>
                <a:latin typeface="Century Schoolbook"/>
              </a:rPr>
              <a:t>How you say it, is as important as what you say</a:t>
            </a:r>
            <a:endParaRPr b="0" lang="en-US" sz="2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Body language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entury Schoolbook"/>
              </a:rPr>
              <a:t>Your body movements express what your attitudes and thoughts </a:t>
            </a:r>
            <a:r>
              <a:rPr b="0" i="1" lang="en-US" sz="2500" spc="-1" strike="noStrike">
                <a:solidFill>
                  <a:srgbClr val="000000"/>
                </a:solidFill>
                <a:latin typeface="Century Schoolbook"/>
              </a:rPr>
              <a:t>really are</a:t>
            </a:r>
            <a:endParaRPr b="0" lang="en-US" sz="2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Appearance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Century Schoolbook"/>
              </a:rPr>
              <a:t>First impressions influence the audience's attitudes to you</a:t>
            </a:r>
            <a:endParaRPr b="0" lang="en-US" sz="25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6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C01B4-A461-42FB-A331-CDF6CD36AC51}" type="slidenum">
              <a:rPr b="1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70c0"/>
                </a:solidFill>
                <a:latin typeface="Century Schoolbook"/>
                <a:ea typeface="Times New Roman"/>
              </a:rPr>
              <a:t>ORAL COMMUNICATION SKILLS – MAKING A PRESENTATIO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Human attention is the scarcest resource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entury Schoolbook"/>
              </a:rPr>
              <a:t>-- Herbert Simon [Nobel 1972, Turing 1975]</a:t>
            </a:r>
            <a:endParaRPr b="0" lang="en-US" sz="2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Short-term memory: ~ 7 simple thing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Audience may get 1 or 2 from your talk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entury Schoolbook"/>
              </a:rPr>
              <a:t>reinforce the core message, not details</a:t>
            </a:r>
            <a:endParaRPr b="0" lang="en-US" sz="2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Build a thread to help comprehension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9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F612B-EBB8-46AA-B0A3-C222357072B8}" type="slidenum">
              <a:rPr b="1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70c0"/>
                </a:solidFill>
                <a:latin typeface="Century Schoolbook"/>
                <a:ea typeface="Times New Roman"/>
              </a:rPr>
              <a:t>MAKING A PRESENTATIO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228240" y="838080"/>
            <a:ext cx="853452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1. Strategy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26760" indent="-267120">
              <a:spcBef>
                <a:spcPts val="6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entury Schoolbook"/>
              </a:rPr>
              <a:t>Understand your purpose and role</a:t>
            </a:r>
            <a:endParaRPr b="0" lang="en-US" sz="25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26760" indent="-267120">
              <a:spcBef>
                <a:spcPts val="6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entury Schoolbook"/>
              </a:rPr>
              <a:t>Tailor your message to the audience</a:t>
            </a:r>
            <a:endParaRPr b="0" lang="en-US" sz="25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26760" indent="-267120">
              <a:spcBef>
                <a:spcPts val="6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entury Schoolbook"/>
              </a:rPr>
              <a:t>Develop a logically compelling case for your plan</a:t>
            </a:r>
            <a:endParaRPr b="0" lang="en-US" sz="25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2. Structure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26760" indent="-267120">
              <a:spcBef>
                <a:spcPts val="6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entury Schoolbook"/>
              </a:rPr>
              <a:t>Clear introduction</a:t>
            </a:r>
            <a:endParaRPr b="0" lang="en-US" sz="25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26760" indent="-267120">
              <a:spcBef>
                <a:spcPts val="6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entury Schoolbook"/>
              </a:rPr>
              <a:t>Use only one idea per slide</a:t>
            </a:r>
            <a:endParaRPr b="0" lang="en-US" sz="25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26760" indent="-267120">
              <a:spcBef>
                <a:spcPts val="6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entury Schoolbook"/>
              </a:rPr>
              <a:t>Good conclusions slide</a:t>
            </a:r>
            <a:endParaRPr b="0" lang="en-US" sz="25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3. Style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26760" indent="-267120">
              <a:spcBef>
                <a:spcPts val="6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entury Schoolbook"/>
              </a:rPr>
              <a:t>Keeping your audience's interest</a:t>
            </a:r>
            <a:endParaRPr b="0" lang="en-US" sz="25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4. Supplement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26760" indent="-267120">
              <a:spcBef>
                <a:spcPts val="6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Century Schoolbook"/>
              </a:rPr>
              <a:t>Use Exemples, Questions, Visual Aids etc</a:t>
            </a:r>
            <a:endParaRPr b="0" lang="en-US" sz="25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2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54C5A-109F-48AC-8FD0-4ECB161C92C3}" type="slidenum">
              <a:rPr b="1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70c0"/>
                </a:solidFill>
                <a:latin typeface="Century Schoolbook"/>
                <a:ea typeface="Times New Roman"/>
              </a:rPr>
              <a:t>DELIVERING A PRESENTATIO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Greet the audience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entury Schoolbook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Century Schoolbook"/>
              </a:rPr>
              <a:t>Tell the audience what you are going to tell them, then tell them, at the end tell them what you have told them” -- Zuchermann W. [1979]</a:t>
            </a:r>
            <a:endParaRPr b="0" lang="en-US" sz="2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Nervousness &amp; Comfort Zone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70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entury Schoolbook"/>
              </a:rPr>
              <a:t>Humor is very useful; prepare a couple of puns and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jokes beforehand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Introduction to the topic &amp; yourself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entury Schoolbook"/>
              </a:rPr>
              <a:t>Begin with a slow, well-prepared introduction</a:t>
            </a:r>
            <a:endParaRPr b="0" lang="en-US" sz="25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5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D480D-B6E0-46F9-A02D-2E4161F757A0}" type="slidenum">
              <a:rPr b="1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70c0"/>
                </a:solidFill>
                <a:latin typeface="Century Schoolbook"/>
                <a:ea typeface="Times New Roman"/>
              </a:rPr>
              <a:t>DELIVERING A PRESENTATIO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Speak clearly. Don't shout or whisper - judge the acoustics of the room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Don't rush, or talk deliberately slowly. Be natural - although not conversational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Deliberately pause at key point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Never read from a script / slide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Keep to the time allowed. If you can, keep it short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It's better to under-run than over-run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8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9C4F1-1788-497F-AAC1-FF487A813745}" type="slidenum">
              <a:rPr b="1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70c0"/>
                </a:solidFill>
                <a:latin typeface="Century Schoolbook"/>
                <a:ea typeface="Times New Roman"/>
              </a:rPr>
              <a:t>DELIVERING A PRESENTATIO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To make the presentation interesting, change your delivery: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entury Schoolbook"/>
              </a:rPr>
              <a:t>speed </a:t>
            </a:r>
            <a:endParaRPr b="0" lang="en-US" sz="25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entury Schoolbook"/>
              </a:rPr>
              <a:t>pitch of voice</a:t>
            </a:r>
            <a:endParaRPr b="0" lang="en-US" sz="2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Use your hands to emphasize point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Look at the audience as much as possible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Don't fix on an individual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Use Illustrations, Graphs, Numbers to explain complex idea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700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entury Schoolbook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Century Schoolbook"/>
              </a:rPr>
              <a:t>A picture is worth 1000 words”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1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35D94-DD34-4043-B911-9A76941D25BB}" type="slidenum">
              <a:rPr b="1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70c0"/>
                </a:solidFill>
                <a:latin typeface="Century Schoolbook"/>
                <a:ea typeface="Times New Roman"/>
              </a:rPr>
              <a:t>DELIVERING A PRESENTATIO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456840" y="1219320"/>
            <a:ext cx="7467480" cy="525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Strong Conclusion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Question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entury Schoolbook"/>
              </a:rPr>
              <a:t>Listen very carefully</a:t>
            </a:r>
            <a:endParaRPr b="0" lang="en-US" sz="25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entury Schoolbook"/>
              </a:rPr>
              <a:t>Repeat the question and make sure you got it right </a:t>
            </a:r>
            <a:endParaRPr b="0" lang="en-US" sz="25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entury Schoolbook"/>
              </a:rPr>
              <a:t>Answer clearly</a:t>
            </a:r>
            <a:endParaRPr b="0" lang="en-US" sz="25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entury Schoolbook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Century Schoolbook"/>
              </a:rPr>
              <a:t>Most people answer different questions than asked!”</a:t>
            </a:r>
            <a:endParaRPr b="0" lang="en-US" sz="25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BDEA0-9AA5-4B5D-89E5-926D4F93279B}" type="slidenum">
              <a:rPr b="1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19T14:38:34Z</dcterms:created>
  <dc:creator>Admin</dc:creator>
  <dc:description/>
  <dc:language>en-US</dc:language>
  <cp:lastModifiedBy>Admin</cp:lastModifiedBy>
  <dcterms:modified xsi:type="dcterms:W3CDTF">2011-08-24T21:22:58Z</dcterms:modified>
  <cp:revision>153</cp:revision>
  <dc:subject/>
  <dc:title>Table 8-1: Abbreviations and Acronyms Pertaining to Copyright</dc:title>
</cp:coreProperties>
</file>