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FB16-8063-4C87-AEC1-58D74AE8AFA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1872-1041-4C13-BBF3-EB7946CFB0C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214F-DB9B-478C-B4B6-59BCD44E269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999B-9358-4F83-98E2-CABA52007EC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BB8F-0BEE-49D7-AE23-75B2324EC1A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4486-DEB6-4E03-B5AA-7F9E83C4B0D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EB29-E2CA-4997-8EF1-DB19789716F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28D-4D38-44AE-998C-822FFF661C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AE67-483D-4493-9312-0D38A133F49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7EEA-4728-4797-A5BB-7A6533017A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8613-988A-4BAA-9EBB-EFD7E88FA22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4B37-F29E-4477-B8CA-027436B0036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CEF1-DC3B-4C83-935A-F03B0F3287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09C5-3351-4823-B070-75DC2C28FCE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7011-199F-4D48-84C1-9E7A62BD8A2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8109-3D7B-4B39-B3C8-882E89DCDDE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E67-E685-47B9-A4DC-60484318C8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B06D-1662-4B2E-8E14-4EF3C6ED78F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26E0-14C9-49EF-B914-38C147AC0AA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1D93-7A06-44A0-A68B-95D8FB2AB7A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56B9-795E-4EFC-AFB8-6E295D71E0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EE05-47D4-4F88-9769-8ABBB5ECAB9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BF55-1D34-4002-827E-1BEBAA2CBAF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7B37-6EEC-4C84-AD48-CED6353EC75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5067-7AE1-4F2C-B821-C35B8DA6352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E85-D6D9-4ED4-83FD-D6B6E46385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F1DD-514B-485D-8EB8-21B93728C66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B985-1A14-4FEA-98FA-BB22AF49BFE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F033-1A54-45D9-AAE8-482C0B9FB3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971-432C-493A-A6C9-F9E1E358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F94-4E51-4938-99D7-74B62A3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178-1758-4FD3-946A-A006C3B1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7DA-8CB0-4E59-9367-AF6FDF3E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EA1B-B4D0-41BA-BE23-A596D714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5460-E613-4AFE-80BE-72C7ED03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A345-7BCF-41EB-85FE-07F0C480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DC38-C6BA-422E-A521-7C0B80A4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7D7D-840B-4621-98F7-D66EC5C9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ABEB-336E-4B1B-8713-006DEB62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CF55-7165-4464-AA3F-8EE9002E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1A4-64FA-4876-AB55-F3F93AA3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4DD0-C539-4AF1-B77E-42B8C79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231E-A8ED-4DB2-9C6F-D678D279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CD38-983A-4CC3-93B7-1083DB54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51B2-4BAE-40DC-8874-229CF430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7E4-CD90-42C1-ADFE-42104ABC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99BC1-98CC-4ECF-8842-22964D35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656B5-A806-493E-A92D-E7FBA26C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8818C-17D1-4657-8B1A-F9024649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035AF-E458-4AB7-A7BC-9A53E518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E9594-544D-4C10-B6FD-79D708B8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61A-7176-4869-A7C8-7E44DEB4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3C3BC-5306-4AFC-B24B-A1B5A657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594E8-2004-4B80-B62C-03388FF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B3BBC-6817-472E-91C2-B7034C4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3EA04-5184-4867-8195-768E844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EF75E-18C3-4369-A075-FB9F999A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EFDB2-16D1-4BA5-B5F0-3E1964CC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199A3-FAE3-4217-88F1-46DF424F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81108-7023-42B6-8D9C-EC76B411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B021-F0F2-418C-97BE-4E1FE686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D482B-518A-4394-BF68-35B3DDD1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FE0-741A-444A-84E4-2E7C6E17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BC7C2-671A-4559-9653-61F6603F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3620-2909-41C2-BB06-816C6A0F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04A10-A380-4AF8-BB45-6B18E1DA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87B9-A685-467C-8534-8E45407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98BE-1787-40C3-A847-29941384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CD074-A0F1-4B75-A33C-B50D5846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596B9-15B2-42AE-8D0C-C71CEB3F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02259-F9A9-405E-8FB7-3DB52000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4CED-6627-4C27-9926-F9509888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196E2-3B24-41C2-B6D8-43D0B2BE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1FA-0FFD-4F43-A1E2-59907C43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780EB-1ED4-44A8-AC58-B9C22C1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138D9-5A91-4C04-9F2B-B6BC2F7F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E79FA7-A679-48A2-89F2-450EE066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AD78C-0456-4660-AA80-C73FCD0E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16962-502F-4599-9CAA-F9310641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006A6-42FB-4F17-8001-11E93B4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F7D82-7298-4106-9B54-4F25131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7D806-10AB-4CB9-8740-6F51F59F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F4774-2A3F-4AD7-BCA4-9B883159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03AC8-D1D5-4EF5-9CFF-0003E9F5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A2C-AE12-4764-818D-9B55CDC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4C284-4D11-44DC-9F39-C2E15491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382D6-DC81-4DF2-940D-0A56F7AF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098AA-93AD-4756-94A7-E87054A8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6FE9F8-190B-4947-A2F3-7DE047A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5D49B-B709-4F43-AEFC-0EFEA9DE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3BD2E-F807-4FA1-B659-71AB90D1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EEA99-0570-4177-91D8-CAAF213B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056565-C43C-418E-BDBE-A50AE12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DE177-40B9-4306-9AA6-E75BD154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AFEC4-D747-4B9B-915D-BDB3147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DB5A-8027-439E-B193-4542187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E979B-8EE3-450C-AB1C-8429E4C3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D4129-A135-405C-B931-63D9451F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91EEF-91EE-4C82-8578-1B57B707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50175-F585-4B94-9725-96594908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536ED5-CA56-4C7E-B784-2BB2FDB2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5BFCC-C936-4306-9B09-BB6DC757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95082-93E3-405D-A5CF-A0E8AF17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9B263-70EA-4B5E-898E-2FF18E1D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6FBF7-57F2-4025-B09E-1208EB6E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88249-0FFB-4CAA-BF8F-C34CE980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A39-06D0-49A9-9E62-BF668AD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E46E1-18C7-49F6-A84C-AAF0144D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773FA9-FEAC-4A69-B3CC-5964272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47BD8-75DF-458B-B411-A8BA1DE5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1F8F1-2E79-40EA-BCFA-A7A172F7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41788-367F-4F7B-91A6-CE8F092F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8CD-53B4-4199-A189-7142F30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F1E0-3D48-454F-A28D-310422B344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DC1-34B0-4B57-AACD-0D763BBDCF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2603-C409-4E14-A630-7774A4DF34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1876-B823-498E-AA68-2F62895D12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D41C-A773-4DD9-93DA-496AD28D25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D906-318D-4A77-9D38-BAA4BDAA95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C25F-B013-4F36-84A0-25EE587B8F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2590560" y="3962520"/>
            <a:ext cx="510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</a:rPr>
              <a:t>Dr. Hassan Abdall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46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Calibri"/>
              </a:rPr>
              <a:t>COMMUNICATION SKILL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CD3B-2CFF-44E4-A7C7-7EBF47BED9E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ESENTATION: COMM. MISTAK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8600" y="129528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acing the display screen behind you and talking to i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and in a position where you obscure the scre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ve about too muc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lides are not clear, text too small to rea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o much text on a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appropriate colors on the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noying animations, sound effects or pictur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oom Light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1405-F3E5-4B50-9237-A312DA398AAA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&amp; REFERENC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294920"/>
            <a:ext cx="74674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Written communication is the ability to communicate effectively in writing with a range of audiences”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 a variety of mod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.g., persuasion, argument, exposi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ing a number of different mea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e.g., graphical, statistical, audio-visual and technological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0F09-8380-443A-8146-A9F98343247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&amp; REFERENC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219320"/>
            <a:ext cx="8001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wo objectives of Writing to a reader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ust convey a clear and unambiguous messag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Must produce goodwill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o achieve these two objectives, the writer must writ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lear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herent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ncise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rrectly; wit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urtesy; and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nfiden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3389-1F73-44F8-81B6-2F8B5DFA887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WRITING BACKGROUND SKILL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ten communication requires background skills such a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ademic 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vision and ed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itical read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entation of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B746-BD0C-4513-B564-C68722DA9EF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ACADEMIC WRITING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14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riting in order 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nalyze a topic closel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velop a point of view in relation to that topic through research and though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ersuade your reader that the point of view you have developed is well supported by the ideas and information you pres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eate a clearly structured document that presents an account of what has happened in a practical session or as part of an experi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an essay, poster, paper or thesis and technical repor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8669-3075-4AB2-9024-31C501AB251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REVISION AND EDIT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lying techniques to impro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esenta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ofreading fo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ell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mm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yl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9DA2-F7F2-4ED0-83D7-D30C7566064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CRITICAL READ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wareness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content of the mess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style and method of communication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nderstanding of how the content and method combine to create the meaning of the mess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results published in a scientific paper may be given more credibility than results presented at a departmental semina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ively listening, reading or viewing information to gain a complete and accurate understanding of the communicated mess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: extracting specific detail from an academic pap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59D5-3E3F-4591-B26D-24E106C747E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esentation of Data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295280"/>
            <a:ext cx="807732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understanding of the use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ag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aph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ther method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, using appropriate graphing techniques in a scientific report, or well-chosen graphics to convey a concept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DFA9-6895-4FF6-9F41-11DF1A893E5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EXAMPLES OF “BAD WRITING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143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Teaching is like a disease; those of you who have it are lucky, you are blessed,”(From the New York Times, Jan 18, 198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ar Fellow Resident: Washington is a city that only cares about one thing: money, power and politics (The Washington Weekly, Oct 3, 200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DAY'S QUESTION: Efforts to make English the official language is gaining strength  throughout the U.S. What is your reaction? (N.Y. Daily New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 processors are replacing the steno pad and ballpoint for many secretaries. Several thousandare to convene in Kansas City. (Kansas City Tim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E55B-3405-45EF-82D5-FFEE12DAA23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0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INCEN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6840" y="1523880"/>
            <a:ext cx="74674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group is two or more persons who are interacting with one another in such a manner that each person influences and is influenced by each other person” (Shaw M E 1976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wo heads are better than one”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61FE-FE88-4966-814D-0E96A130CF00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AGEN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8381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neral Communication Skil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ral Communication Skills (Presentation in clas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Writing &amp; Referenc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oup Interac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eadership &amp;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04C1-C369-4FF4-B8A6-6AC0D752BC5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BENEFIT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294920"/>
            <a:ext cx="80773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’s viewpoint, some of the real positives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ackling a problem in a group include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nding out someone else’s viewpoint, approach, idea or perspectiv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reading the workload amongst the group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bining talents and using people’s particular strengths to the best advant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lping individuals to discover what they know and what they have yet to discover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B0F1-3EAA-460F-8178-902DBB962F3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ROUP INTERACTIONS - 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  <a:ea typeface="Times New Roman"/>
              </a:rPr>
              <a:t>BENEFIT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990360"/>
            <a:ext cx="830592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Educational perspective, working in groups is valued because i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ives opportunities for students to develop generic skills such as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Negoti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Cooper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omotes collaborative lear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llows a topic to be explored in greater breadth and dept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ables the construction of authentic  workplace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ncourages deep, higher level think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E282-0059-452B-86A8-8020FD4A10B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PROBLEMS IN GROUP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oup members not contribut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ry quiet group memb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ver-talkative group memb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individual who domina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ople missing meeting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isinterpreting the ta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tting off tas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86C7-D867-46AD-91AA-7E7044FBCE17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INTERPERSONAL SKIL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9140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e appreciativ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y attention to othe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ractice active liste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ring people togeth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Resolve confl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mmunicate clearl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e it from their s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compl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93D-E407-4C61-86DC-A6964C05F2E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IDEAL GROUP RO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0520" y="7617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sponsible for chairing meetings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imekeep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akes sure the meeting runs to time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corder/note-tak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akes and distributes the minutes of the meeting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evil’s advoca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omeone who argues against the group’s position, to help determine the validity of that position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eam play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ives support to other roles by enthusiastic following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D49B-0FA8-4F57-88F4-8A8E7295993B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LEADERSHIP &amp; MANAGE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371600"/>
            <a:ext cx="81532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adership is a process of social influence in which one person is able to enlist the aid and support of others in the accomplishment of a common task” --Chemers, M. M. (200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agement is a kind of leadership in which t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hievement of organizational goals is paramount.“-- Zaleznik, A. (1977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nagement involves power by position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eadership involves power by influence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0A1B-6EF2-45E3-9D06-BAF6C32142B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TELLING &amp; SELL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salesperson can’t sell a product to a custom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out inform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ame salesperson won’t sell anything by o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ing the customer product inform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information must accompany a sales pitch explaining the benefits of the produc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trainers, the product is knowledge and/or skil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575C-CB12-432C-9991-F22C349C362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GUIDING AND DIRECTING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C77A-E5A1-48D9-8D3B-F53098618B06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8" name="Picture 6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191120" cy="1371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2"/>
          <a:stretch/>
        </p:blipFill>
        <p:spPr>
          <a:xfrm>
            <a:off x="2438280" y="4114800"/>
            <a:ext cx="4191120" cy="14954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10"/>
          <p:cNvSpPr/>
          <p:nvPr/>
        </p:nvSpPr>
        <p:spPr>
          <a:xfrm>
            <a:off x="838080" y="16765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ike telling and selling, guiding and directing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ar oppo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FEARS IN GROUP MANAGE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33520" y="1295280"/>
            <a:ext cx="8076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llenging to move from directing to guid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re is a fear of losing control that drives man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lks to direct the clas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rick to classroom management is learning to balance the flexibility required to meet learners’ needs with the ability to refocus the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5428-2F4A-4C81-831C-855B1A3BF93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ORAL COMMUNICATION SKIL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3520" y="1295280"/>
            <a:ext cx="8076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Your voi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entury Schoolbook"/>
              </a:rPr>
              <a:t>How you say it, is as important as what you sa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Your body movements express what your attitudes and thoughts </a:t>
            </a:r>
            <a:r>
              <a:rPr b="0" i="1" lang="en-US" sz="2500" spc="-1" strike="noStrike">
                <a:solidFill>
                  <a:srgbClr val="000000"/>
                </a:solidFill>
                <a:latin typeface="Century Schoolbook"/>
              </a:rPr>
              <a:t>really ar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First impressions influence the audience's attitudes to you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6B6A-BCB9-4C2A-BA0B-46D2A45724E8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ORAL COMMUNICATION SKILLS – MAK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uman attention is the scarcest resour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-- Herbert Simon [Nobel 1972, Turing 1975]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hort-term memory: ~ 7 simple thing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udience may get 1 or 2 from your tal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inforce the core message, not details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uild a thread to help comprehen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F094-A8D5-464F-908B-A27D753D58E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MAK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2824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1. Strateg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Understand your purpose and rol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ailor your message to the audien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Develop a logically compelling case for your pla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2. Structur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Clear introduc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Use only one idea per slid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Good conclusions slid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3. Sty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Keeping your audience's interest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. Supple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6760" indent="-26712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entury Schoolbook"/>
              </a:rPr>
              <a:t>Use Exemples, Questions, Visual Aids etc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68F6-D8F5-46D3-A658-F01347AC9F3F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Greet the audienc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Tell the audience what you are going to tell them, then tell them, at the end tell them what you have told them” -- Zuchermann W. [1979]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ervousness &amp; Comfort Zon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Humor is very useful; prepare a couple of puns and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jokes beforehan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ntroduction to the topic &amp; yourself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Begin with a slow, well-prepared introduc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7F5D-D466-4ED0-B04C-79ABF996A4AC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peak clearly. Don't shout or whisper - judge the acoustics of the roo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rush, or talk deliberately slowly. Be natural - although not conversational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liberately pause at key 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ever read from a script / sli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eep to the time allowed. If you can, keep it shor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t's better to under-run than over-ru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09EC-BC0F-4602-87CB-A822B979D57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make the presentation interesting, change your deliver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speed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pitch of voice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your hands to emphasize poin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ook at the audience as much as possibl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on't fix on an individu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Use Illustrations, Graphs, Numbers to explain complex ide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A picture is worth 1000 words”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B538-DC4C-4079-9C81-26DEADBF6FA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entury Schoolbook"/>
                <a:ea typeface="Times New Roman"/>
              </a:rPr>
              <a:t>DELIVERING A PRESENT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219320"/>
            <a:ext cx="74674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trong Conclus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Listen very careful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Repeat the question and make sure you got it right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Answer clearly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Century Schoolbook"/>
              </a:rPr>
              <a:t>Most people answer different questions than asked!”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F4FD-AE76-4493-8024-EC4E795A455D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4:38:34Z</dcterms:created>
  <dc:creator>Admin</dc:creator>
  <dc:description/>
  <dc:language>en-US</dc:language>
  <cp:lastModifiedBy>Admin</cp:lastModifiedBy>
  <dcterms:modified xsi:type="dcterms:W3CDTF">2011-08-24T21:22:58Z</dcterms:modified>
  <cp:revision>153</cp:revision>
  <dc:subject/>
  <dc:title>Table 8-1: Abbreviations and Acronyms Pertaining to Copyright</dc:title>
</cp:coreProperties>
</file>