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AAF4-AC9B-4015-8B95-2185D7CCA5D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04EC-35B1-4259-A5D4-7CDFB116357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1996-747D-4380-9BB1-986C0C8675C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CB1C-175A-426D-A556-574DB856AE3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947D-A070-41BC-AF4A-5B3512D81AC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9769-D7BF-4F4C-B728-FACCC7FC19D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81C7-907A-4429-834C-AA040E155A8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B4A4-5541-4345-8940-A2E220656F0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387B-FFA5-4E44-BFA1-2FD7BDE87E9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A2C7-67AE-4FCE-9F57-0F71E522E49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F1CB-0BA6-4579-B127-987D79828EC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2D5D-26AE-4B08-94F9-237193099CF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893F-0D8E-4C53-9656-9EDD992037E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CF16-E62E-4A53-BD01-86B6D212279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0594-E105-4905-A0EC-92C31B41F2C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C1ED-73A8-4F95-8453-61FFC3C1440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3662-183C-4C70-BA6B-C4EC0761FC9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333A-3C71-4610-9FFC-C7EF6ED8FFD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D065-EFAA-4C0D-9CA7-45CF526F6A0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7D95-3291-4A2D-AE38-26FCED99CC1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6F6E-7384-4863-BC6B-02DFBBA6467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D456-6C21-48F9-8B27-2606E13FD44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8C6E-2C2B-453F-894F-1CEF90491C1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07F3-9355-4FCF-AAF2-3106D4506AA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DAEB-3515-4367-B6F8-7F418CCFD94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6B59-4A9B-45CD-8C50-993EC382D6C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D53F-3C2A-43EE-96FE-A7E8F98FAD4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ADDC-710A-4231-9D2C-2209A595B13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C416-7B89-4D9B-A00C-046D556A136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B17F-1F67-451B-A0D7-2B4E9AFF4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5B44-98AD-4038-8B30-1DAD77BE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319E-15B6-4CF9-8899-FA59AF49A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9AF1-CDFE-4976-90FC-900B8714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7349-9CC3-4A00-89C2-CB97B8C00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78F8-0C2F-4986-8047-4664248A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5B6A-3798-424D-A15B-F79EF33D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AB54-8F86-4885-9E7A-55C8912E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D70C-9863-4695-B4EC-6D8BBE9A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3B97-1082-477E-B0FD-15340CF0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34FF-0B39-4BF3-A0A2-6273C445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951C-5123-4409-9FBF-3B4545FB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C337-4D03-4140-9231-F48F27C3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0A7E-7972-4B50-A62C-1BC79A1F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FDE9-06B8-40F1-96A4-3B58C573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A325-CFC2-4508-9FEA-298333B2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F6F2-E74C-4CAC-A799-E9AAFF8D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9D2477-0E6B-4D57-B62E-C0A5DF7F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7C81E0-B874-44E1-A3F6-BDA49ECA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C9E150-D44D-4A34-8462-7D157DEB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944EDE-6E81-44F4-9044-350802E3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9C733D-42C8-4909-9D19-72389F7F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B73B-C4FE-41A1-9B99-A9EE4338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F10B35-394C-4DFC-A54F-1D99132D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D374BA-E8F7-4790-82A5-DA9DB547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4D10D5-9773-4993-A54F-50028A3F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E31BE8-5E11-48B1-B54B-D79E0831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09AA1A-3A68-4826-8738-C1162BBE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F867CD-75D4-4C2A-8001-EEA85E5A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B2C3B8-FD46-4351-8BCD-1719DBD45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1CAC1-BA98-4906-BC30-70F7A1B6E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81D96-1B44-4EB9-9BDA-5506DCB3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61880-77F5-4E55-9615-ECD267A2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A14C-B323-4A7C-975F-801902B6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D24C5-A8F1-4F0A-A900-CF6D6E20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20A4D-DC62-430F-9651-D740D23F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92532-E860-4712-B0AF-95B67697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753EE-BFB9-4418-B543-131C7604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5BACB-1A52-42B6-AE0C-C9A90AD1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AC18A-B2E1-4A77-BC59-E4B3EBCD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54D04-446D-4EF4-9D8F-DD08CB47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D93C6-60EC-40A9-B170-4892C02D3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C3AA7-2C86-4BC2-A6A9-986BFDD8B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B5B2EF-C9F5-47CF-BEA9-968E7813F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5D9A-98B4-459D-989D-B141295F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31DB53-B8A2-4124-BDDC-8BDD1C15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9335A5-4273-44EB-8110-5ADF96A0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603D2A-8CE1-4BA8-89F4-1DBDB9C5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8C7C2F-55F8-40BF-96D6-9DE0D9C4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F0C6E4-5D1F-4639-AA1B-0FAA2305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375A32-0E52-453A-A90E-EC647734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3006DA-2323-4330-B727-3F01E7D8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BDF61A-88F8-42FB-B703-4B99E980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783B52-216B-4757-A56A-2D3D8D2F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D4B129-9E5B-431F-9B05-A1186D09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65E8-8081-45D5-BA01-A6B7E080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20E3F0-5F9C-4413-8509-28E3597D3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BFFB7B-425E-4715-BDC3-9853479A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DA03D7-9AA8-45C6-9A11-6A99F15F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C3445E-BA84-4F71-B9E0-A418B716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B8390E-F634-4842-BF23-7AA5AD62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832CFE-C1AF-4E6A-B80F-89588857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A1CA91-3B5B-484C-8C01-BD190160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B56D1D-7A25-4707-BAA3-FE6688DD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87865C-BBF8-4DC3-8DE6-150250B3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BB9FCC-D1D0-41CC-9325-3C308C0C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462B-DAA3-46AE-BBE2-45597C39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D38A76-7404-40AE-AD3A-9D237F33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DA421C-C6E1-47A5-8B84-25110EE66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D84D27-6C48-4AF4-A7B8-46C0861B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E47A61-9007-4B9E-9E3A-6CB98ED7A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A4CAA9-24CE-406A-8550-3E9CB49F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F124E4-7053-4583-8BA0-9040F0E7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F319C8-9DFA-4414-8F25-5ED6F5A5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71221E-4BF9-470A-9B76-AD89463D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4ED5FB-7EB7-4786-B86A-0EC41D28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1C00C9-EBCA-40B3-9B15-8DC423CE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A9D3-D39E-427A-94A1-AD4CADA0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813189-3141-40C6-BFBF-F657BE2C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5AD566-11E0-4EB6-9813-DD987A6C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310016-6677-406C-B921-53735783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5C840E-5EE6-4709-AC95-337C8AE82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020345-F0E8-495A-82D6-0AE0FF556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6B7C-8EEA-4221-AACB-0BED2C13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7E22-6D73-4EBA-A2CA-B8077E766E5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9A59-FE28-4D02-B6C9-48370E4D586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25ED-553D-4DA2-BF43-439C61227A4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6B78-F40F-403D-9894-2D167CA6940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6D2B-D0A5-4EA3-A106-7F823A9C2F3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2B6D-681D-43C1-B330-3DD6958B5A9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EB98-0163-4F06-96A5-CEDD09325B6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2590560" y="3962520"/>
            <a:ext cx="5105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Calibri"/>
              </a:rPr>
              <a:t>Dr. Hassan Abdall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1066680" y="1447560"/>
            <a:ext cx="7467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en-US" sz="5400" spc="-1" strike="noStrike">
                <a:solidFill>
                  <a:srgbClr val="575f6d"/>
                </a:solidFill>
                <a:latin typeface="Calibri"/>
              </a:rPr>
              <a:t>COMMUNICATION SKILLS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7232-EA33-4BFE-B0F3-50CE5D05789D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PRESENTATION: COMM. MISTAK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28600" y="1295280"/>
            <a:ext cx="8686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acing the display screen behind you and talking to i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tand in a position where you obscure the scree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Move about too much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lides are not clear, text too small to rea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o much text on a slid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nappropriate colors on the slid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nnoying animations, sound effects or pictur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Room Lightin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B9BA-B11E-4B2E-91E2-A86EEBDEEB0E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WRITING &amp; REFERENC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294920"/>
            <a:ext cx="746748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ritten communication is the ability to communicate effectively in writing with a range of audiences” 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n a variety of mod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e.g., persuasion, argument, exposition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using a number of different mea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e.g., graphical, statistical, audio-visual and technological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93F8-FFAC-40BC-8D61-9F20A0A9337E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WRITING &amp; REFERENC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219320"/>
            <a:ext cx="8001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Two objectives of Writing to a reader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Must convey a clear and unambiguous message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Must produce goodwill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To achieve these two objectives, the writer must write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Clearly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Coherently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Concisely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Correctly; with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Courtesy; and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Confidence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812E-AEE1-4214-9531-F44DF5FC4581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WRITING BACKGROUND SKILL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4479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ritten communication requires background skills such a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cademic writ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vision and edit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ritical read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resentation of dat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ED4D-52D9-4461-9B8C-9B40FF0E5FD2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ACADEMIC WRITING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80880" y="114300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riting in order 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nalyze a topic closel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evelop a point of view in relation to that topic through research and though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ersuade your reader that the point of view you have developed is well supported by the ideas and information you presen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reate a clearly structured document that presents an account of what has happened in a practical session or as part of an experimen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xample: an essay, poster, paper or thesis and technical repor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E8EE-31CB-4046-857F-C52CA65C6434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REVISION AND EDIT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pplying techniques to impro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rit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resent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roofreading fo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pell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ramma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tyle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6D45-6DB1-4961-B9C5-5622A0FFB799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24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CRITICAL READ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 awareness o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content of the messag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style and method of communication,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understanding of how the content and method combine to create the meaning of the messag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xample: results published in a scientific paper may be given more credibility than results presented at a departmental semina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ctively listening, reading or viewing information to gain a complete and accurate understanding of the communicated mess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ample: extracting specific detail from an academic pap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8F4F-3054-4462-B5E1-52DB2897538D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Presentation of Data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6840" y="1295280"/>
            <a:ext cx="8077320" cy="502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 understanding of the use o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mag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raph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ther method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ample, using appropriate graphing techniques in a scientific report, or well-chosen graphics to convey a concept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2752-8BD8-4C6C-A6BE-86C12E3DA14C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EXAMPLES OF “BAD WRITING”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143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"Teaching is like a disease; those of you who have it are lucky, you are blessed,”(From the New York Times, Jan 18, 1989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ar Fellow Resident: Washington is a city that only cares about one thing: money, power and politics (The Washington Weekly, Oct 3, 2007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DAY'S QUESTION: Efforts to make English the official language is gaining strength  throughout the U.S. What is your reaction? (N.Y. Daily New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 processors are replacing the steno pad and ballpoint for many secretaries. Several thousandare to convene in Kansas City. (Kansas City Time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B715-E2E1-480F-825C-A10E4EA06ADF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GROUP INTERACTIONS -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Times New Roman"/>
              </a:rPr>
              <a:t>INCENTIV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6840" y="1523880"/>
            <a:ext cx="746748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group is two or more persons who are interacting with one another in such a manner that each person influences and is influenced by each other person” (Shaw M E 1976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wo heads are better than one”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4D7D-7563-4CFC-AA8C-6F1392974B1A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AGEND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8381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eneral Communication Skil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4040" indent="-457200"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ral Communication Skills (Presentation in clas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4040" indent="-457200"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riting &amp; Referenc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4040" indent="-457200"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roup Interaction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4040" indent="-457200"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eadership &amp; Managemen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2A5D-2496-43FF-B835-899186EEAC1E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GROUP INTERACTIONS -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Times New Roman"/>
              </a:rPr>
              <a:t>BENEFIT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6840" y="1294920"/>
            <a:ext cx="807732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udent’s viewpoint, some of the real positives o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ackling a problem in a group include: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inding out someone else’s viewpoint, approach, idea or perspectiv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preading the workload amongst the group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mbining talents and using people’s particular strengths to the best advantag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helping individuals to discover what they know and what they have yet to discover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A8F1-297A-4A93-9EE9-0A786A019935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GROUP INTERACTIONS -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Times New Roman"/>
              </a:rPr>
              <a:t>BENEFIT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990360"/>
            <a:ext cx="830592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Educational perspective, working in groups is valued because it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gives opportunities for students to develop generic skills such a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3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Team work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3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Negotiation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3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Cooperation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3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romotes collaborative learnin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llows a topic to be explored in greater breadth and depth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nables the construction of authentic  workplace problem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ncourages deep, higher level thinkin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61FB-5445-4207-BAD7-A84837499C0C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PROBLEMS IN GROUP WOR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6840" y="1371240"/>
            <a:ext cx="74674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roup members not contribut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ery quiet group memb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ver-talkative group memb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 individual who domina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ople missing meeting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isinterpreting the tas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etting off tas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27BA-E8CE-4553-A077-233B5664D63B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INTERPERSONAL SKILL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914040"/>
            <a:ext cx="74674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mil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e appreciativ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ay attention to other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ractice active listenin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ring people togeth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Resolve conflic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ommunicate clearl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umo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e it from their sid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on't complai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182E-99A7-4BA6-8152-6D89216022B2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4674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IDEAL GROUP ROL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80520" y="761760"/>
            <a:ext cx="85345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Facilitato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Responsible for chairing meetings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imekeep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Makes sure the meeting runs to time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corder/note-tak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Takes and distributes the minutes of the meeting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Devil’s advoca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Someone who argues against the group’s position, to help determine the validity of that position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eam play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Gives support to other roles by enthusiastic following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9A80-7E4D-4304-9187-7FCF5EA3F5C5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LEADERSHIP &amp; MANAGEMENT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371600"/>
            <a:ext cx="81532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adership is a process of social influence in which one person is able to enlist the aid and support of others in the accomplishment of a common task” --Chemers, M. M. (200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nagement is a kind of leadership in which th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chievement of organizational goals is paramount.“-- Zaleznik, A. (1977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nagement involves power by position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eadership involves power by influence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AC16-3F03-4852-B669-506FAC230F1B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TELLING &amp; SELL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salesperson can’t sell a product to a custom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thout informa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same salesperson won’t sell anything by onl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iving the customer product informa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information must accompany a sales pitch explaining the benefits of the produc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r trainers, the product is knowledge and/or skill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6AA5-FD5D-4237-AC7D-000F6293FBD8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GUIDING AND DIRECTING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61B7-A289-4A8C-A7C2-FCAC539E3BAE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8" name="Picture 6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4191120" cy="13716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8" descr=""/>
          <p:cNvPicPr/>
          <p:nvPr/>
        </p:nvPicPr>
        <p:blipFill>
          <a:blip r:embed="rId2"/>
          <a:stretch/>
        </p:blipFill>
        <p:spPr>
          <a:xfrm>
            <a:off x="2438280" y="4114800"/>
            <a:ext cx="4191120" cy="149544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10"/>
          <p:cNvSpPr/>
          <p:nvPr/>
        </p:nvSpPr>
        <p:spPr>
          <a:xfrm>
            <a:off x="838080" y="16765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ike telling and selling, guiding and directing 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ar oppo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FEARS IN GROUP MANAGEMENT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533520" y="1295280"/>
            <a:ext cx="80769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allenging to move from directing to guid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re is a fear of losing control that drives man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lks to direct the cla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trick to classroom management is learning to balance the flexibility required to meet learners’ needs with the ability to refocus the clas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6753-F0DB-4AE3-89CC-781AAC02705C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ORAL COMMUNICATION SKILL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33520" y="1295280"/>
            <a:ext cx="80769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Your voic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entury Schoolbook"/>
              </a:rPr>
              <a:t>How you say it, is as important as what you say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Body languag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Your body movements express what your attitudes and thoughts </a:t>
            </a:r>
            <a:r>
              <a:rPr b="0" i="1" lang="en-US" sz="2500" spc="-1" strike="noStrike">
                <a:solidFill>
                  <a:srgbClr val="000000"/>
                </a:solidFill>
                <a:latin typeface="Century Schoolbook"/>
              </a:rPr>
              <a:t>really are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ppearanc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First impressions influence the audience's attitudes to you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C3C8-9928-4382-B46A-C5092C8C16D3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ORAL COMMUNICATION SKILLS – MAKING A PRESENT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uman attention is the scarcest resourc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-- Herbert Simon [Nobel 1972, Turing 1975]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hort-term memory: ~ 7 simple thing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udience may get 1 or 2 from your talk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reinforce the core message, not details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uild a thread to help comprehens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1E05-5B9B-4552-BEE4-89A0E7E3D5C7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MAKING A PRESENT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28240" y="838080"/>
            <a:ext cx="85345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1. Strateg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Understand your purpose and role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Tailor your message to the audience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Develop a logically compelling case for your plan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2. Structur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Clear introduction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Use only one idea per slide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Good conclusions slide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3. Styl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Keeping your audience's interest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4. Supplemen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entury Schoolbook"/>
              </a:rPr>
              <a:t>Use Exemples, Questions, Visual Aids etc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C639-74E5-4402-ADD1-684ADD0BD4E3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DELIVERING A PRESENT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Greet the audienc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Tell the audience what you are going to tell them, then tell them, at the end tell them what you have told them” -- Zuchermann W. [1979]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ervousness &amp; Comfort Zon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Humor is very useful; prepare a couple of puns and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jokes beforehan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ntroduction to the topic &amp; yourself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Begin with a slow, well-prepared introduction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BA72-627B-4E57-B078-70E832405E59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DELIVERING A PRESENT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peak clearly. Don't shout or whisper - judge the acoustics of the room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on't rush, or talk deliberately slowly. Be natural - although not conversational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eliberately pause at key poin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Never read from a script / slid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Keep to the time allowed. If you can, keep it short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t's better to under-run than over-ru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80E6-24E9-4C5D-AA2E-2B6252BCD549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DELIVERING A PRESENT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 make the presentation interesting, change your delivery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speed 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pitch of voice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Use your hands to emphasize poin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Look at the audience as much as possibl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on't fix on an individua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Use Illustrations, Graphs, Numbers to explain complex idea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7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A picture is worth 1000 words”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7B92-2D46-4AA8-A104-BC75E255E8A5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DELIVERING A PRESENT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219320"/>
            <a:ext cx="746748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trong Conclus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Listen very carefully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Repeat the question and make sure you got it right 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Answer clearly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Most people answer different questions than asked!”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D269-7C87-4861-AFA1-3B24BC2966B9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4:38:34Z</dcterms:created>
  <dc:creator>Admin</dc:creator>
  <dc:description/>
  <dc:language>en-US</dc:language>
  <cp:lastModifiedBy>Admin</cp:lastModifiedBy>
  <dcterms:modified xsi:type="dcterms:W3CDTF">2011-08-24T21:22:58Z</dcterms:modified>
  <cp:revision>153</cp:revision>
  <dc:subject/>
  <dc:title>Table 8-1: Abbreviations and Acronyms Pertaining to Copyright</dc:title>
</cp:coreProperties>
</file>