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915-C1CD-473D-BB88-C0AA2BA2FB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69B-2436-4BC6-ADA8-557A44870C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3CAF-684F-4A0C-BA98-C076834EB3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5CF-02BF-4EB8-B2AA-BFB0C74F3A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0B6D-F0CD-41FB-BBB2-9ACECF61079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08EF-B8DF-476C-8190-836D55A3F3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C839-13DD-4367-BF3B-F2C0C49EA57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14E-B9D8-49FE-95B6-32B98B6B13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6C7-E902-4136-A943-589F618862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A49-6F5D-4A5D-8FA2-5AEAD52359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CBD-6DAD-441F-AC32-5B4F76F8E48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7F7-4FB9-4E1B-921E-C8685BA98F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4434-A8B8-4D68-8F82-F62CBE376C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4C2C-2694-4D13-9F23-BE084508DE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424-46A1-41B0-80AE-28BEAF2CD8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3685-8A4B-4E4A-ADA2-3B101C53BF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0EF-D6D4-41ED-A2C7-D17603DC63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31D-1E32-490F-96C6-27098E39B3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1EE-1627-4A8A-B718-E20DA60088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6B8-B3A1-400B-B580-0680AA2B05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1B3-EDC9-49D2-B275-924C71A2AD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8AB8-9EAC-4CC6-AAE9-80827F1643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D16-28FA-4D1B-B450-A8967EAD24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0C20-A09C-443A-9127-174F61E5FF4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006-C292-4FB9-86F3-54A21E7494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E4D-7D3B-4CDE-B917-7A13A1276A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918-F25E-4695-B5D3-380EB268C0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B43B-82CD-4CB3-993E-427C9FF303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08C-3C10-48EA-BFFB-03C724E264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5F5-C1C8-4240-B11B-7FD8D478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13A-4812-455F-8DD3-54507C4E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EE8-DC0C-4D0E-AC77-FB51B758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961-C034-4754-83A6-6646E04F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C7E-53E6-4E49-A166-D09C15E1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B26-3665-42AB-BB6C-DAB06DC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50BB-75F3-4478-B16B-A5C544EB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DFE3-5ECA-4423-9BAB-565D3CF8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FF64-D9DE-4097-A29D-2A22517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7D00-9F56-408C-9824-EDB18F2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FA4-1C6B-413F-80A6-FD733BF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D73-98CE-45AB-BAE5-4EB56840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FA62-2EDF-4E96-85F1-8F4EB642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5CD8-CA57-4BCD-BA83-35BF0E1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9DAF-C4EC-4658-9593-6F96D284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4F36-402A-48E2-8D55-226C4A95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706C-95BD-47D2-B487-F21545CF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A6F89-1DB7-43EA-894F-34C31AF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6A64A-00C2-41CD-96E5-87A9161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9E3EE-31AE-4EB7-8340-9E792C4D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BF357-8AA4-49B2-8886-72A01BB0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E035C-28F1-43F2-9D58-837F01F0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4BD-8022-4D22-8B65-5CBE364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AB61F-8C2C-4DBD-961E-B7F6C4F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B11FD-81E6-42C8-A366-BD47C97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4790C-B452-4284-8B39-980CCE2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A9672-06DE-4D89-A70F-81FDFA9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2721D-6229-4596-AE0D-A45B36CE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3C1AE-3441-4FB7-9D4D-89D31B79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F898B-90DB-443E-A720-2F05F3BC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835A-4604-40CD-AB25-A57DC4E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5E8B-6A01-4460-B0EE-FE1B3CBE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7409-288F-492A-B469-F6AAB254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B12-012A-4689-AC1A-F2E3E6DC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F7C0-2835-4568-A231-86B510F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0AF3-A976-45D6-96A5-31EF2BF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C3B6-2F2C-4A1B-922B-729F66E6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3FE4-AA98-4C31-B626-E43E4CE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72AD-01E7-4301-A7ED-86BB996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8FB8-4DE9-439C-83FF-2A514F8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FAC0-529B-4BC9-90DF-B2A41370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CDA5-AEBE-47E1-861D-685AB362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3F2C-B196-44DB-9D8E-91BF7C86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8E40E-8D22-4207-BB35-20E6A0DE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100-04CE-4E3B-92A1-DE62C10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1BDDA-3BF1-497E-A86A-B750B210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8236C-41F7-49BB-B434-D35D9BC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BAAF3-60B7-4602-81A8-4BC22787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45DA5-53B3-4AE6-ACF6-0DCEF60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D98A3-29CD-434D-A083-0351E365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C9D8A-0E10-4BB2-90E5-11F4C459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D2110-3E20-4CF1-A67B-01B896D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C8CE8-3140-45E7-AD9A-C6E3F4D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D2F14-8E46-44FD-85F8-9EA9F4C3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95304-131D-4AA5-B2F5-53F39BAC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FC4-9838-4C94-8B6B-458F947D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9061A-0C4A-41E4-A226-CC31459C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D069F-C903-448F-92A4-B8A4470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E4535-F51D-48A2-A1E8-42F99262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AD8DB-D32C-486A-BE17-643CD11C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FF2FF-EB0E-4C5D-9CE2-9DC1203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20665-BFAD-46A6-B1FF-A1F75C7B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C66C4-A5BF-482A-BB47-2C93F788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AAA76-5B24-4307-A22E-C47B197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43E26-8543-4360-950A-26D0298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DCB39-A91D-4717-8D08-9919135C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5F0-E4A9-4629-90A0-5049134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6EB35-E173-4FB3-91F2-39178AF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C5287-C206-4D95-91A2-757B060C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40061-E74E-4395-8029-5204636F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AAAF2-C71E-416C-B604-6BA18B08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6B2AF-B503-497D-8A30-BBD055A1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54C76-9E6F-41CE-99E5-1FC9FA7E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B4C2D-B1D1-4880-AADC-02A2FD4B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CA97B4-0792-42EE-ADF3-DBD21961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F8BB6-F9D5-47D1-BF78-96DB55E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D0A15-A469-4AB7-92C5-2BEC23F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58C-58D6-4BF1-A92E-C942792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7FE6B-3D6D-442D-9ABA-ED19717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DB8BB-1E1E-4E7A-B269-699DD77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2FC3F-0DA7-45AE-8F7F-1657FE39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68D78-76E6-4E04-BCE3-C6BC37B9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46435-C57C-4B8B-B714-B3962376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0BF-ABB4-4958-90E0-7CDFA37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713-B5FE-49CA-B5D2-017BF327EE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EF3-488D-4D8F-9E2E-D82117ED2F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33EF-92AB-470A-9813-8810F8E66F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E86F-3059-4F15-8032-25AD68CFBE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203-9831-41DB-8119-A768FEA1BC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A11-E80A-4ABA-8D87-05ADB3C9FE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54A9-DBAC-4E9B-846D-B9B41797EB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590560" y="396252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</a:rPr>
              <a:t>Dr. Hassan Abdall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Calibri"/>
              </a:rPr>
              <a:t>COMMUNICATION SKI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463E-5E3D-45DC-88B7-0B5A594C117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: COMM. MISTAK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29528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ing the display screen behind you and talking to 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and in a position where you obscure the scre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ve about too mu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lides are not clear, text too small to rea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much text on a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appropriate colors on the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noying animations, sound effects or pict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om Ligh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9F9-5B65-4D3E-A078-DB5F0E604AA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ritten communication is the ability to communicate effectively in writing with a range of audiences”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 variety of m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persuasion, argument, exposi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ing a number of different mea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graphical, statistical, audio-visual and technological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4EB-1C6D-4819-A9C1-2DA6C3CE4B5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93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wo objectives of Writing to a read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convey a clear and unambiguous messag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produce goodwill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o achieve these two objectives, the writer must wr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herent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cise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rrectly; wit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urtesy; and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fid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FC98-BC1F-4524-87C6-89A5788E174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BACKGROUND SKI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ten communication requires background skills such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ademic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vision and ed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itical read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 of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5B7-A74D-4D69-8A56-BDABBC0CBAF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CADEMIC WRI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in order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e a topic close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 a point of view in relation to that topic through research and thou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uade your reader that the point of view you have developed is well supported by the ideas and information you pres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eate a clearly structured document that presents an account of what has happened in a practical session or as part of an experi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an essay, poster, paper or thesis and technical repo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FEB-613A-4C14-9939-C24A566256C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REVISION AND ED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ing techniques to impro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ofreading f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l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mm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y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B72-7979-47D0-BD9E-C770CEE845F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CRITICAL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warenes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ontent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tyle and method of communication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standing of how the content and method combine to create the meaning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results published in a scientific paper may be given more credibility than results presented at a departmental semin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ely listening, reading or viewing information to gain a complete and accurate understanding of the communicated mes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extracting specific detail from an academic p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E7F-5F0F-4E0C-8468-E9FF4040E7E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 of Dat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295280"/>
            <a:ext cx="807732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understanding of the use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a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p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metho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, using appropriate graphing techniques in a scientific report, or well-chosen graphics to convey a concep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D6E-AE63-4476-AE6A-0D97AE1178E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EXAMPLES OF “BAD WRITING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143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Teaching is like a disease; those of you who have it are lucky, you are blessed,”(From the New York Times, Jan 18, 198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ar Fellow Resident: Washington is a city that only cares about one thing: money, power and politics (The Washington Weekly, Oct 3, 200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DAY'S QUESTION: Efforts to make English the official language is gaining strength  throughout the U.S. What is your reaction? (N.Y. Daily New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processors are replacing the steno pad and ballpoint for many secretaries. Several thousandare to convene in Kansas City. (Kansas City Tim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273-E988-4C50-9289-B1986BB67A0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INCEN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roup is two or more persons who are interacting with one another in such a manner that each person influences and is influenced by each other person” (Shaw M E 197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wo heads are better than one”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F037-F1CB-4A00-8071-F7FDE80A351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8381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eral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al Communication Skills (Presentation in clas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&amp; Referenc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 Inter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&amp;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95C-6F73-44CE-8EC6-36A57A8E8F5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’s viewpoint, some of the real positive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ckling a problem in a group includ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ding out someone else’s viewpoint, approach, idea or perspe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reading the workload amongst the gro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bining talents and using people’s particular strengths to the best advant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ing individuals to discover what they know and what they have yet to discov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453A-1269-494A-94C6-0C52B8C440A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990360"/>
            <a:ext cx="8305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ducational perspective, working in groups is valued because i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s opportunities for students to develop generic skills such 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Negoti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oper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motes collaborative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ows a topic to be explored in greater breadth and dep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ables the construction of authentic  workplace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ourages deep, higher level think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8EBF-BCDD-4A31-A086-7E0467F737F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OBLEMS IN GROUP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 members not contribu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ry quiet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-talkative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individual who domin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 missing meet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sinterpreting the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ting off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911-96C0-4CCE-94CB-530A8E2B174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NTERPERSONAL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9140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apprecia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y attention to oth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actice active liste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ing people toge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olve confl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municate clear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e it from their s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compl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FE0-2669-4D8F-B05B-F9EC4117C46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DEAL GROUP RO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52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sponsible for chairing meeting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kes sure the meeting runs to time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corder/note-ta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kes and distributes the minutes of the meet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evil’s advoc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omeone who argues against the group’s position, to help determine the validity of that positio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eam play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ives support to other roles by enthusiastic following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9CAC-EFEF-4F83-A701-54E189660D9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LEADERSHIP &amp;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3716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hip is a process of social influence in which one person is able to enlist the aid and support of others in the accomplishment of a common task” --Chemers, M. M. (200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agement is a kind of leadership in which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hievement of organizational goals is paramount.“-- Zaleznik, A. (1977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ment involves power by posi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involves power by influen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452E-4519-42EF-B655-EC97ED99737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TELLING &amp; SELL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alesperson can’t sell a product to a custo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ou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ame salesperson won’t sell anything by o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ing the customer produc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formation must accompany a sales pitch explaining the benefits of the produ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rainers, the product is knowledge and/or ski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A99C-2BA5-40DC-AB5B-A48D4DFECF6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UIDING AND DIREC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EF5E-2B54-4ADB-B37C-64BBAF5EBF5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1911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4191120" cy="14954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0"/>
          <p:cNvSpPr/>
          <p:nvPr/>
        </p:nvSpPr>
        <p:spPr>
          <a:xfrm>
            <a:off x="838080" y="1676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telling and selling, guiding and directing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ar oppo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FEARS IN GROUP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llenging to move from directing to gui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is a fear of losing control that drives ma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ks to direct the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rick to classroom management is learning to balance the flexibility required to meet learners’ needs with the ability to refocus th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E6CE-39BD-4939-82FA-4854DDC8AF3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Your voi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How you say it, is as important as what you sa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Your body movements express what your attitudes and thoughts </a:t>
            </a: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really ar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First impressions influence the audience's attitudes to you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311-FB57-4E56-BF73-1FB9A718766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 – 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attention is the scarcest resour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-- Herbert Simon [Nobel 1972, Turing 1975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ort-term memory: ~ 7 simple th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dience may get 1 or 2 from your tal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inforce the core message, not detai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uild a thread to help compreh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5996-E013-4A83-8BB0-3EE25CDD56D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Strate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nderstand your purpose and ro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ilor your message to the audi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Develop a logically compelling case for your pla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lear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se only one idea per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ood conclusions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Sty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Keeping your audience's interest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 Suppl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entury Schoolbook"/>
              </a:rPr>
              <a:t>Use Exemples, Questions, Visual Aids etc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413B-023C-481C-AC37-B505D06E4F4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reet the audie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ell the audience what you are going to tell them, then tell them, at the end tell them what you have told them” -- Zuchermann W. [1979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rvousness &amp; Comfort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Humor is very useful; prepare a couple of puns a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jokes beforeha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roduction to the topic &amp; yourself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egin with a slow, well-prepared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F64A-0C7A-4244-8BEF-5359B14C414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ak clearly. Don't shout or whisper - judge the acoustics of the roo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rush, or talk deliberately slowly. Be natural - although not conversatio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liberately pause at key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ever read from a script /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ep to the time allowed. If you can, keep it sho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's better to under-run than over-ru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5F80-3510-402F-A249-B8BF9C94269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make the presentation interesting, change your deliver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peed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itch of voi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your hands to emphasize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ook at the audience as much as possi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fix on an individu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Illustrations, Graphs, Numbers to explain complex ide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A picture is worth 1000 word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E25-4BD9-4829-A437-2C85F372279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rong Conclu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Listen very careful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peat the question and make sure you got it right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nswer 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st people answer different questions than asked!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1013-A4BC-4C15-87E2-8604701139F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8-24T21:22:58Z</dcterms:modified>
  <cp:revision>153</cp:revision>
  <dc:subject/>
  <dc:title>Table 8-1: Abbreviations and Acronyms Pertaining to Copyright</dc:title>
</cp:coreProperties>
</file>