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0551-BD07-417D-8628-69CE923D0DA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75B3-F1A2-4CE9-B662-56490BAB5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895C-24E8-43E5-B9AE-A09901D4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FC345-2ACF-4588-8C67-E4B70AF00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0FB4A-7728-4F04-9082-54B6C1BFE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DF620-8ECD-439F-A3E7-F984DCA10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64980-3601-4CBC-8188-D4890DDD0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7B45B-2F61-49C5-A26C-896855919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76099-B4F9-4BFA-9EA1-F2502A9A1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89659-5A24-44F9-90D5-A2A22B6B1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AB8C-3DAD-40C0-B818-BE3D8CE3D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0E6E9-BD55-4977-BB93-4E113FD37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A8830-F66F-4A42-982C-F92FB10D9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AFB64-130A-4819-8D08-9E0D0E349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3A633-B3A7-4716-A9B8-93350874A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150CD-9941-4A76-9219-D36D12F0F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20299-26CF-4EDF-9AD7-EE9D34215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DF794-286F-4928-A369-2477DBA35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B5ABC-E42D-41A5-9BCE-D1D026838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0A035D8-FD90-4C62-B5F4-92B261BA28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D44473-7848-4639-8041-F9793CBC5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AA9BF1-1AEA-441A-AC61-ED2312AE1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03F36E-3643-4BFF-AC63-97F142D73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30932F-FED1-44EC-86B0-9BB2955B6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AA694-EF34-415E-9377-0928E172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5A4626-12AD-4EC2-870B-8984860EA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2BB652-A699-446E-BCCF-B03E07B82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CEBE67-E413-4209-82FB-51BE8980D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3CD616-0BE7-4A4A-A2BB-FA6D9233C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301839-0A3A-4176-AE35-9FB3B6E606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97E99E-5FB0-4F47-A521-D084FC31D8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2C99F49-7723-4C5F-9C72-C0E7ECBCC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9B932B-D6B3-4F1A-BCF9-BA0636F6A6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40E995-474E-4D7D-B055-086CA76D8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D3F0A7-4FE1-447A-96DC-4F8827375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9BE52-430E-4883-B1A8-51CE6585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F36598-CBF9-4223-BE70-FCF20187E2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EA1B5C-DF0A-405A-893B-6440E1FB8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5BA843-1FD7-437A-8EC6-B4E9CB674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B60ECD-87EB-4AC1-BE51-FDCC8C1A0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13E9F5-19D7-4E59-9ED7-D903629D8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3B2BE9-A6E9-42C5-809F-C71BCACF7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993E47-286B-41A4-958A-55DF07BE8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8C81421-07A5-4933-B11F-A4CDD4751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ACA1B67-AD71-45D1-BAE0-B22F870939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197A21-21AF-4F7F-8BFE-C322369EC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BABF1-04B9-4B5F-8B56-B58D72A06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EFCDC5-35D9-4FF3-A5D7-0A8DD7689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49E1B0-C6E7-45CD-A5D1-F060A7C22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D45A4C-735B-4E4E-8611-A31FF3170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3D730B-AF44-4D63-BAF0-416481083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650170-5B32-4EB7-8024-8F4FDFC78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2482FF-E953-48B4-9CD1-298B58F1B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F79FC0-DFF2-4945-AB01-9B6BF7D46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E626CA-E85C-426F-BED6-621D957E5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B0450C-BF6B-4F3B-A4C5-CB97A9C1D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58069E-5BD4-47D3-AFA6-F51123C2DA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8505-2555-483A-9B05-48D0EAD73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249C26C-DFCB-4EE6-9E06-BFD68ED3BF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9D91CA-9FCC-4EC8-949F-C5FD34692B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4666A-FD81-4D6D-8538-D626C7D24F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03AB6-9B6C-4CEF-93EF-EE3ABB407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15555-8E7B-4EFA-A8F5-FAAADC212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BD85BE-5A71-496D-A414-276CBB3415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73891-21F5-43A3-9C53-51123382A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49CE44-006B-46A5-B7AF-A1101E1D9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B9A6E-63E8-4643-B3D5-3E40F1636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9C4FD-B417-4327-9020-1094BE8CF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A6E0-11F4-42BA-B637-AD19F1FB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0ADD2-AAFC-40E5-9C96-585FFF563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B5EA10-EF95-4D3C-8166-F66C145B50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0C08B2-DC13-4817-93A7-4FB31A59F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8DFC995-4C18-4FB9-A789-5E8A4500DC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4C599B-9104-4EB7-AE13-097A75B98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3E54765-8B2C-40EE-B744-951405C75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147E37-5124-4330-9A99-185C661E1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75C6BB6-691F-49AD-9C0E-CAD1C5C7A4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C4DFAE-5A30-473B-B6D1-79E579724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731677-B909-4C11-A296-F4F7C8661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81E8-D1F4-488D-9B0B-47749A27B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0EC974-8C67-4C05-B2C0-F37AF8264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6185E2-BF2F-4548-8A2F-EC6AFAB93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A814799-59DD-430F-BFA3-76FAC2431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B2ADA07-1B0D-4FD6-B759-71B4A3FD9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0786819-2516-4F9C-8EB6-2107403482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1B06AA-1FD1-4AC4-B6A2-FCD223B7D0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98ADA7-5A00-4A9B-A184-05A0A07312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7E024F-2E03-400B-9D3E-AAF9F58C53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CE60D-64E4-4A2E-940E-99ACEA499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5CF78C-B3DA-4962-BC46-D9019AA09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4FAA-FFD4-495E-9B6F-A3AB2E5E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F3FE4-6C48-4837-999B-7844C1DDC0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6DE3A-7BFD-4476-93C5-A8653CFC2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084221-DFBC-4EF9-B809-29DEE13E8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B4AE4-77B4-4C0F-B8BC-8079D51DF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763AAF-428D-45F0-81E6-03F3D8C85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63903C-C9CA-40C4-88C7-3DAD28E443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FE8B98-0E8C-412F-8F36-14D3D26A12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B36E-7E92-4C60-B039-254992ACB0A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117C-1D8F-4477-A872-C20C7E5E7619}" type="slidenum">
              <a:rPr b="1" lang="ar-S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A650-E82E-4B30-BC7F-4714D30C0163}" type="slidenum">
              <a:rPr b="1"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BC33-473C-46A7-B7FD-DD82D0CBDE9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980D-836C-4155-B5B6-166BAA5009E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DA70-EC59-48F6-8D80-9D38F58DC296}" type="slidenum">
              <a:rPr b="1" lang="ar-S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029E-6576-4BC5-AC43-EA1B64DDFA96}" type="slidenum">
              <a:rPr b="1" lang="ar-S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90CD-82FF-4547-96A6-71C0757DBC9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14720" y="3857760"/>
            <a:ext cx="8905680" cy="18288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dc3"/>
                </a:solidFill>
                <a:latin typeface="Tw Cen MT"/>
                <a:ea typeface="Times New Roman"/>
              </a:rPr>
              <a:t>ANALYSIS AND IDENTIFICATION</a:t>
            </a:r>
            <a:br>
              <a:rPr sz="3600"/>
            </a:br>
            <a:r>
              <a:rPr b="0" lang="en-US" sz="3600" spc="-1" strike="noStrike">
                <a:solidFill>
                  <a:srgbClr val="ebddc3"/>
                </a:solidFill>
                <a:latin typeface="Tw Cen MT"/>
                <a:ea typeface="Times New Roman"/>
              </a:rPr>
              <a:t> OF ABNORMAL METABOLITES IN</a:t>
            </a:r>
            <a:br>
              <a:rPr sz="3600"/>
            </a:br>
            <a:r>
              <a:rPr b="0" lang="en-US" sz="3600" spc="-1" strike="noStrike">
                <a:solidFill>
                  <a:srgbClr val="ebddc3"/>
                </a:solidFill>
                <a:latin typeface="Tw Cen MT"/>
                <a:ea typeface="Times New Roman"/>
              </a:rPr>
              <a:t> URINE USING</a:t>
            </a:r>
            <a:r>
              <a:rPr b="0" lang="en-US" sz="4300" spc="-1" strike="noStrike">
                <a:solidFill>
                  <a:srgbClr val="ebddc3"/>
                </a:solidFill>
                <a:latin typeface="Tw Cen MT"/>
                <a:ea typeface="Times New Roman"/>
              </a:rPr>
              <a:t>: </a:t>
            </a:r>
            <a:br>
              <a:rPr sz="4300"/>
            </a:br>
            <a:br>
              <a:rPr sz="4300"/>
            </a:br>
            <a:r>
              <a:rPr b="0" lang="en-US" sz="4300" spc="-1" strike="noStrike">
                <a:solidFill>
                  <a:srgbClr val="ebddc3"/>
                </a:solidFill>
                <a:latin typeface="Tw Cen MT"/>
                <a:ea typeface="Times New Roman"/>
              </a:rPr>
              <a:t>CHROMATOGRAPHY</a:t>
            </a:r>
            <a:endParaRPr b="0" lang="en-US" sz="43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Paper and Thin layer Chromatograph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ea typeface="Times New Roman"/>
              </a:rPr>
              <a:t>Experimental procedure for paper chromatography</a:t>
            </a:r>
            <a:endParaRPr b="0" lang="en-US" sz="40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mall volume of a solution of a mixture to be separated or identified is placed at a marked spot (origin) on a sheet or strip of paper and allowed to dr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aper is then placed in a closed chamber and one end is immersed in a suitable solv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olvent is drawn (moved) through the paper by capillary a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the solvent passes the origin, it dissolves the sample and moves the components in the direction of flow.</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the solvent front has reached a point near the other end of the paper, the sheet or strip is removed and dri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pots are then detected and their positions mark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ratio of the distance moved by a solute to the distance moved by the solvent = R</a:t>
            </a:r>
            <a:r>
              <a:rPr b="0" lang="en-US" sz="2900" spc="-1" strike="noStrike" baseline="-25000">
                <a:solidFill>
                  <a:srgbClr val="000000"/>
                </a:solidFill>
                <a:latin typeface="Tw Cen MT"/>
              </a:rPr>
              <a:t>f.</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R</a:t>
            </a:r>
            <a:r>
              <a:rPr b="0" lang="en-US" sz="2900" spc="-1" strike="noStrike" baseline="-25000">
                <a:solidFill>
                  <a:srgbClr val="000000"/>
                </a:solidFill>
                <a:latin typeface="Tw Cen MT"/>
              </a:rPr>
              <a:t>f.  </a:t>
            </a:r>
            <a:r>
              <a:rPr b="0" lang="en-US" sz="2900" spc="-1" strike="noStrike">
                <a:solidFill>
                  <a:srgbClr val="000000"/>
                </a:solidFill>
                <a:latin typeface="Tw Cen MT"/>
              </a:rPr>
              <a:t> is always less than on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hromatogram</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ce a sample is applied on TLC or paper, it’s called chromatogram.</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per chromatogram can be developed either by ascending or descending solvent  flow.</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scending chromatography is faster because gravity helps the solvent flow.</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dvantages : it’s difficult to set the apparatus.</a:t>
            </a:r>
            <a:endParaRPr b="0" lang="en-US" sz="2900" spc="-1" strike="noStrike">
              <a:solidFill>
                <a:srgbClr val="000000"/>
              </a:solidFill>
              <a:latin typeface="Tw Cen MT"/>
            </a:endParaRPr>
          </a:p>
          <a:p>
            <a:pPr marL="290160" indent="-290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cending is simple and inexpensive compared with descending and usually gives more uniform migration with less diffusion of the sample "spot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Detection of spots</a:t>
            </a:r>
            <a:endParaRPr b="0" lang="en-US" sz="44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ots in paper chromatograms can be detected in 4 different way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their natural colo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their fluorescence</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their chemical reactions that take place after the paper has been sprayed with various reagents for example: during paper chromatography of amino acids, the chromatograms are sprayed with ninhydrin.</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y radioactivity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Identification of spots</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pots are usually identified by comparing of standards of known Rf valu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Thin layer chromatography</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per chromatography uses paper which can be prepared from cellulose products only.</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TLC, any substance that can be finely divided and formed into a uniform layer can be used.</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oth organic and inorganic substances can be used to form a uniform layer for TLC.</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rganic substances include: cellulose, polyamide, polyethylen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organic: silica gel, aluminum oxide and magnesium silica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TLC</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tationary phase is the solvent used to form a layer of sorbent spread uniformly over the surface of a glass or plastic pla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ea typeface="Times New Roman"/>
              </a:rPr>
              <a:t>Advantages of TLC over paper chromatography</a:t>
            </a:r>
            <a:endParaRPr b="0" lang="en-US" sz="40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eater resolving power because there is less diffusion of spot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eater speed of sepa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de choice of materials as sorbe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7200" y="356760"/>
            <a:ext cx="8229600" cy="5769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The separation of compounds by chromatography depends on several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 of a solute between a moving solvent phase and a stationary aqueous phase. The solute moves in the direction of a solvent flow at a rate determined by the solubility of the solute in the moving phase. Thus a compound with high mobility is more attracted to the moving organic phase than to the stationary phas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 To analyse and identify different amino acids (abnormal metabolites in urine) by paper and TL chromatography.</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 to study the difference between paper and TL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on exchange effect: any ionized impurities in the support medium will tend to bind or attract oppositely charged ions (solutes) and will therefore reduce the mobility of these solu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mperature: Since temperature can effect the solubility of the solute in a given solvent temperature is also an important facto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molecular weight of a solute also affects the solubility and hence chromatographic performanc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sorption of compound (solute) onto support medium: Although the support medium(silica gel) is theoretically inert, this isn't always the case. If a solute tends to bind to the support medium this will slow down its mobility in the solvent syst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omposition of the solvent: since some compounds are more soluble in one solvent than in the other, the mixture of solvents used will affect the separation of compounds. </a:t>
            </a:r>
            <a:endParaRPr b="0" lang="en-US" sz="29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775f55"/>
                </a:solidFill>
                <a:uFillTx/>
                <a:latin typeface="Tw Cen MT"/>
                <a:ea typeface="Times New Roman"/>
              </a:rPr>
              <a:t> </a:t>
            </a:r>
            <a:r>
              <a:rPr b="0" lang="en-US" sz="4000" spc="-1" strike="noStrike" u="sng">
                <a:solidFill>
                  <a:srgbClr val="775f55"/>
                </a:solidFill>
                <a:uFillTx/>
                <a:latin typeface="Tw Cen MT"/>
                <a:ea typeface="Times New Roman"/>
              </a:rPr>
              <a:t>Expression of the results</a:t>
            </a:r>
            <a:br>
              <a:rPr sz="4000"/>
            </a:br>
            <a:endParaRPr b="0" lang="en-US" sz="4000" spc="-1" strike="noStrike">
              <a:solidFill>
                <a:srgbClr val="775f55"/>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term "Rf" (relative flow) is used to express the performance of a solute in a given solvent system /support medium. The term Rf value may be defined as the ratio of the distance the compound migrates to the distance the solvent migrates. Rf value is constant for a particular compound, solvent system and insoluble matrix.</a:t>
            </a:r>
            <a:endParaRPr b="0" lang="en-US" sz="2900" spc="-1" strike="noStrike">
              <a:solidFill>
                <a:srgbClr val="000000"/>
              </a:solidFill>
              <a:latin typeface="Tw Cen MT"/>
            </a:endParaRPr>
          </a:p>
          <a:p>
            <a:pPr marL="302760" indent="-302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f=  </a:t>
            </a:r>
            <a:r>
              <a:rPr b="0" lang="en-US" sz="2900" spc="-1" strike="noStrike" u="sng" baseline="30000">
                <a:solidFill>
                  <a:srgbClr val="000000"/>
                </a:solidFill>
                <a:uFillTx/>
                <a:latin typeface="Tw Cen MT"/>
              </a:rPr>
              <a:t>Distance of migration of solute</a:t>
            </a:r>
            <a:endParaRPr b="0" lang="en-US" sz="2900" spc="-1" strike="noStrike">
              <a:solidFill>
                <a:srgbClr val="000000"/>
              </a:solidFill>
              <a:latin typeface="Tw Cen MT"/>
            </a:endParaRPr>
          </a:p>
          <a:p>
            <a:pPr marL="302760" indent="-3027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baseline="30000">
                <a:solidFill>
                  <a:srgbClr val="000000"/>
                </a:solidFill>
                <a:latin typeface="Tw Cen MT"/>
              </a:rPr>
              <a:t>Distance moved by solvent </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inhydrin and amino acid reacti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04" name="Picture 4" descr="ninhydrx.gif"/>
          <p:cNvPicPr/>
          <p:nvPr/>
        </p:nvPicPr>
        <p:blipFill>
          <a:blip r:embed="rId1"/>
          <a:stretch/>
        </p:blipFill>
        <p:spPr>
          <a:xfrm>
            <a:off x="1428840" y="2714760"/>
            <a:ext cx="6357960" cy="292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775f55"/>
                </a:solidFill>
                <a:latin typeface="Tw Cen MT"/>
              </a:rPr>
              <a:t>In this Experiment</a:t>
            </a:r>
            <a:r>
              <a:rPr b="0" lang="en-US" sz="4000" spc="-1" strike="noStrike">
                <a:solidFill>
                  <a:srgbClr val="775f55"/>
                </a:solidFill>
                <a:latin typeface="Tw Cen MT"/>
              </a:rPr>
              <a:t>: </a:t>
            </a:r>
            <a:br>
              <a:rPr sz="4000"/>
            </a:br>
            <a:endParaRPr b="0" lang="en-US" sz="40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You will examin two urine samples, one of them is normal and the second one refer to a pateint suffering from an inborn metabolism. ( patient with either phenylketonuria or cystinuria) using two standared solutions A1( L-Pha.) and A2 (L- Cys.) </a:t>
            </a:r>
            <a:endParaRPr b="0" lang="en-US" sz="27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 a number of inborn metabolic disorders the concentration of som amino acids may be high in the plasma or urine or both. These are often caused by genetically controlled deficiencies in certain enzymes concerned with the metabolism of those particular amino acids. This is examplified by phenylketonuria or PKU which was the first genetic defects of metabolism recognised in human.</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terial and apparatus</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 Equipment for paper an TL  chromatography.</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u="sng">
                <a:solidFill>
                  <a:srgbClr val="000000"/>
                </a:solidFill>
                <a:uFillTx/>
                <a:latin typeface="Tw Cen MT"/>
              </a:rPr>
              <a:t>TLC </a:t>
            </a:r>
            <a:r>
              <a:rPr b="0" lang="en-US" sz="2200" spc="-1" strike="noStrike">
                <a:solidFill>
                  <a:srgbClr val="000000"/>
                </a:solidFill>
                <a:latin typeface="Tw Cen MT"/>
              </a:rPr>
              <a:t>: Thin layer plate of silica gel ( prepared aslurry of silica gel G in 0.02 M sodiume acetate and pour it onto the plate evenly. Dry the plate and activate it before use by heating at 105 o`C for 30 </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minutes.)</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u="sng">
                <a:solidFill>
                  <a:srgbClr val="000000"/>
                </a:solidFill>
                <a:uFillTx/>
                <a:latin typeface="Tw Cen MT"/>
              </a:rPr>
              <a:t>PC </a:t>
            </a:r>
            <a:r>
              <a:rPr b="0" lang="en-US" sz="2200" spc="-1" strike="noStrike">
                <a:solidFill>
                  <a:srgbClr val="000000"/>
                </a:solidFill>
                <a:latin typeface="Tw Cen MT"/>
              </a:rPr>
              <a:t> : Whatman No.1 chromatography paper.</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2- Chromatography solvent ( Butanol : acetic acid: water, 60:15:25 by volume)</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Standared solutions ( prepared small volumes of 1% solutions of phenylalanine and cystine).</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3- Urine samples A1 and A2. ( which are diluted 1 to 10 with dis.H2O)</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4- Ninhydrin ( dissolve 0.2 gm in 100 ml of acetone just befor use)</a:t>
            </a:r>
            <a:endParaRPr b="0" lang="en-US" sz="22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5- Oven at 105 o`C. </a:t>
            </a:r>
            <a:endParaRPr b="0" lang="en-US" sz="22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ethod</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91000"/>
          </a:bodyPr>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1</a:t>
            </a:r>
            <a:r>
              <a:rPr b="0" lang="en-US" sz="2500" spc="-1" strike="noStrike">
                <a:solidFill>
                  <a:srgbClr val="000000"/>
                </a:solidFill>
                <a:latin typeface="Tw Cen MT"/>
              </a:rPr>
              <a:t>- </a:t>
            </a:r>
            <a:r>
              <a:rPr b="0" lang="en-US" sz="2500" spc="-1" strike="noStrike">
                <a:solidFill>
                  <a:srgbClr val="000000"/>
                </a:solidFill>
                <a:latin typeface="Tw Cen MT"/>
              </a:rPr>
              <a:t>You are provided with two samples of diluted urine</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1-10</a:t>
            </a:r>
            <a:r>
              <a:rPr b="0" lang="en-US" sz="2500" spc="-1" strike="noStrike">
                <a:solidFill>
                  <a:srgbClr val="000000"/>
                </a:solidFill>
                <a:latin typeface="Tw Cen MT"/>
              </a:rPr>
              <a:t>) </a:t>
            </a:r>
            <a:r>
              <a:rPr b="0" lang="en-US" sz="2500" spc="-1" strike="noStrike">
                <a:solidFill>
                  <a:srgbClr val="000000"/>
                </a:solidFill>
                <a:latin typeface="Tw Cen MT"/>
              </a:rPr>
              <a:t>from apatients with phenylketonuria or</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cystinuria (U1 and U2), and two standard solutions A1(L</a:t>
            </a:r>
            <a:r>
              <a:rPr b="0" lang="en-US" sz="2500" spc="-1" strike="noStrike">
                <a:solidFill>
                  <a:srgbClr val="000000"/>
                </a:solidFill>
                <a:latin typeface="Tw Cen MT"/>
              </a:rPr>
              <a:t>-</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phenylalanine solution) and A2 (L-cystine solution)</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2</a:t>
            </a:r>
            <a:r>
              <a:rPr b="0" lang="en-US" sz="2500" spc="-1" strike="noStrike">
                <a:solidFill>
                  <a:srgbClr val="000000"/>
                </a:solidFill>
                <a:latin typeface="Tw Cen MT"/>
              </a:rPr>
              <a:t>- </a:t>
            </a:r>
            <a:r>
              <a:rPr b="0" lang="en-US" sz="2500" spc="-1" strike="noStrike">
                <a:solidFill>
                  <a:srgbClr val="000000"/>
                </a:solidFill>
                <a:latin typeface="Tw Cen MT"/>
              </a:rPr>
              <a:t>Take a sheet of paper or TL chromatography and</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draw a pencil line about 3 cm from the end</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3</a:t>
            </a:r>
            <a:r>
              <a:rPr b="0" lang="en-US" sz="2500" spc="-1" strike="noStrike">
                <a:solidFill>
                  <a:srgbClr val="000000"/>
                </a:solidFill>
                <a:latin typeface="Tw Cen MT"/>
              </a:rPr>
              <a:t>- </a:t>
            </a:r>
            <a:r>
              <a:rPr b="0" lang="en-US" sz="2500" spc="-1" strike="noStrike">
                <a:solidFill>
                  <a:srgbClr val="000000"/>
                </a:solidFill>
                <a:latin typeface="Tw Cen MT"/>
              </a:rPr>
              <a:t>Determine 4 separate points as possiple you can</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with pencil, and label it from the right as following:Cys</a:t>
            </a:r>
            <a:r>
              <a:rPr b="0" lang="en-US" sz="2500" spc="-1" strike="noStrike">
                <a:solidFill>
                  <a:srgbClr val="000000"/>
                </a:solidFill>
                <a:latin typeface="Tw Cen MT"/>
              </a:rPr>
              <a:t>. ,</a:t>
            </a:r>
            <a:endParaRPr b="0" lang="en-US" sz="2500" spc="-1" strike="noStrike">
              <a:solidFill>
                <a:srgbClr val="000000"/>
              </a:solidFill>
              <a:latin typeface="Tw Cen MT"/>
            </a:endParaRPr>
          </a:p>
          <a:p>
            <a:pPr marL="2901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Phy. , U1, U2</a:t>
            </a:r>
            <a:r>
              <a:rPr b="0" lang="en-US" sz="2500" spc="-1" strike="noStrike">
                <a:solidFill>
                  <a:srgbClr val="000000"/>
                </a:solidFill>
                <a:latin typeface="Tw Cen MT"/>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fontScale="89000"/>
          </a:bodyPr>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4</a:t>
            </a:r>
            <a:r>
              <a:rPr b="0" lang="en-US" sz="2500" spc="-1" strike="noStrike">
                <a:solidFill>
                  <a:srgbClr val="000000"/>
                </a:solidFill>
                <a:latin typeface="Tw Cen MT"/>
              </a:rPr>
              <a:t>- </a:t>
            </a:r>
            <a:r>
              <a:rPr b="0" lang="en-US" sz="2500" spc="-1" strike="noStrike">
                <a:solidFill>
                  <a:srgbClr val="000000"/>
                </a:solidFill>
                <a:latin typeface="Tw Cen MT"/>
              </a:rPr>
              <a:t>Mix very well each solution and Put a one small drop from each to its points</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let it to dry and repeat the drops to be  concentrate it</a:t>
            </a:r>
            <a:r>
              <a:rPr b="0" lang="en-US" sz="2500" spc="-1" strike="noStrike">
                <a:solidFill>
                  <a:srgbClr val="000000"/>
                </a:solidFill>
                <a:latin typeface="Tw Cen MT"/>
              </a:rPr>
              <a:t>.</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5</a:t>
            </a:r>
            <a:r>
              <a:rPr b="0" lang="en-US" sz="2500" spc="-1" strike="noStrike">
                <a:solidFill>
                  <a:srgbClr val="000000"/>
                </a:solidFill>
                <a:latin typeface="Tw Cen MT"/>
              </a:rPr>
              <a:t>- </a:t>
            </a:r>
            <a:r>
              <a:rPr b="0" lang="en-US" sz="2500" spc="-1" strike="noStrike">
                <a:solidFill>
                  <a:srgbClr val="000000"/>
                </a:solidFill>
                <a:latin typeface="Tw Cen MT"/>
              </a:rPr>
              <a:t>After you finish, let it to dry in a current of air for a</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moment. Then insert the TLC slide and     the Paper C. sheet     (the Chromatograms ) in the solvent inside the tank, be</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shore from the samples line to be up to the solvent surface</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 </a:t>
            </a:r>
            <a:r>
              <a:rPr b="0" lang="en-US" sz="2500" spc="-1" strike="noStrike">
                <a:solidFill>
                  <a:srgbClr val="000000"/>
                </a:solidFill>
                <a:latin typeface="Tw Cen MT"/>
              </a:rPr>
              <a:t>not in touch</a:t>
            </a:r>
            <a:r>
              <a:rPr b="0" lang="en-US" sz="2500" spc="-1" strike="noStrike">
                <a:solidFill>
                  <a:srgbClr val="000000"/>
                </a:solidFill>
                <a:latin typeface="Tw Cen MT"/>
              </a:rPr>
              <a:t>), </a:t>
            </a:r>
            <a:r>
              <a:rPr b="0" lang="en-US" sz="2500" spc="-1" strike="noStrike">
                <a:solidFill>
                  <a:srgbClr val="000000"/>
                </a:solidFill>
                <a:latin typeface="Tw Cen MT"/>
              </a:rPr>
              <a:t>if it inserted inside the solvent it will not</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separated in right way, so you have to repeated</a:t>
            </a:r>
            <a:r>
              <a:rPr b="0" lang="en-US" sz="2500" spc="-1" strike="noStrike">
                <a:solidFill>
                  <a:srgbClr val="000000"/>
                </a:solidFill>
                <a:latin typeface="Tw Cen MT"/>
              </a:rPr>
              <a:t>.      </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6</a:t>
            </a:r>
            <a:r>
              <a:rPr b="0" lang="en-US" sz="2500" spc="-1" strike="noStrike">
                <a:solidFill>
                  <a:srgbClr val="000000"/>
                </a:solidFill>
                <a:latin typeface="Tw Cen MT"/>
              </a:rPr>
              <a:t>- </a:t>
            </a:r>
            <a:r>
              <a:rPr b="0" lang="en-US" sz="2500" spc="-1" strike="noStrike">
                <a:solidFill>
                  <a:srgbClr val="000000"/>
                </a:solidFill>
                <a:latin typeface="Tw Cen MT"/>
              </a:rPr>
              <a:t>Cover the tank with aluminum foil and glass cover, and let it</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to stand form 30 – 45 minutes</a:t>
            </a:r>
            <a:r>
              <a:rPr b="0" lang="en-US" sz="2500" spc="-1" strike="noStrike">
                <a:solidFill>
                  <a:srgbClr val="000000"/>
                </a:solidFill>
                <a:latin typeface="Tw Cen MT"/>
              </a:rPr>
              <a:t>.</a:t>
            </a:r>
            <a:endParaRPr b="0" lang="en-US" sz="2500" spc="-1" strike="noStrike">
              <a:solidFill>
                <a:srgbClr val="000000"/>
              </a:solidFill>
              <a:latin typeface="Tw Cen MT"/>
            </a:endParaRPr>
          </a:p>
          <a:p>
            <a:pPr marL="2836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7</a:t>
            </a:r>
            <a:r>
              <a:rPr b="0" lang="en-US" sz="2100" spc="-1" strike="noStrike">
                <a:solidFill>
                  <a:srgbClr val="000000"/>
                </a:solidFill>
                <a:latin typeface="Tw Cen MT"/>
              </a:rPr>
              <a:t>- </a:t>
            </a:r>
            <a:r>
              <a:rPr b="0" lang="en-US" sz="2100" spc="-1" strike="noStrike">
                <a:solidFill>
                  <a:srgbClr val="000000"/>
                </a:solidFill>
                <a:latin typeface="Tw Cen MT"/>
              </a:rPr>
              <a:t>Remove the Chromatograms from the solvent tank</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and directly mark the position of solvent with pencil</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line, and allow to dry in the current air ( if it</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possible in hot air</a:t>
            </a:r>
            <a:r>
              <a:rPr b="0" lang="en-US" sz="2100" spc="-1" strike="noStrike">
                <a:solidFill>
                  <a:srgbClr val="000000"/>
                </a:solidFill>
                <a:latin typeface="Tw Cen MT"/>
              </a:rPr>
              <a:t>).</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8</a:t>
            </a:r>
            <a:r>
              <a:rPr b="0" lang="en-US" sz="2100" spc="-1" strike="noStrike">
                <a:solidFill>
                  <a:srgbClr val="000000"/>
                </a:solidFill>
                <a:latin typeface="Tw Cen MT"/>
              </a:rPr>
              <a:t>- </a:t>
            </a:r>
            <a:r>
              <a:rPr b="0" lang="en-US" sz="2100" spc="-1" strike="noStrike">
                <a:solidFill>
                  <a:srgbClr val="000000"/>
                </a:solidFill>
                <a:latin typeface="Tw Cen MT"/>
              </a:rPr>
              <a:t>Apply (spry) ninhydrin in acetone to the dry chromatograms</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completely. ( care should be taken in handling ninhydrin</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solution as it is carcinogenic</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9</a:t>
            </a:r>
            <a:r>
              <a:rPr b="0" lang="en-US" sz="2100" spc="-1" strike="noStrike">
                <a:solidFill>
                  <a:srgbClr val="000000"/>
                </a:solidFill>
                <a:latin typeface="Tw Cen MT"/>
              </a:rPr>
              <a:t>- </a:t>
            </a:r>
            <a:r>
              <a:rPr b="0" lang="en-US" sz="2100" spc="-1" strike="noStrike">
                <a:solidFill>
                  <a:srgbClr val="000000"/>
                </a:solidFill>
                <a:latin typeface="Tw Cen MT"/>
              </a:rPr>
              <a:t>Put the chromatograms in an oven ( 105 oC), until the amino</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acid colure spots are develop</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10</a:t>
            </a:r>
            <a:r>
              <a:rPr b="0" lang="en-US" sz="2100" spc="-1" strike="noStrike">
                <a:solidFill>
                  <a:srgbClr val="000000"/>
                </a:solidFill>
                <a:latin typeface="Tw Cen MT"/>
              </a:rPr>
              <a:t>- </a:t>
            </a:r>
            <a:r>
              <a:rPr b="0" lang="en-US" sz="2100" spc="-1" strike="noStrike">
                <a:solidFill>
                  <a:srgbClr val="000000"/>
                </a:solidFill>
                <a:latin typeface="Tw Cen MT"/>
              </a:rPr>
              <a:t>Mark the spots with a pencil(in the middle of spots) soon after</a:t>
            </a:r>
            <a:r>
              <a:rPr b="0" lang="en-US" sz="2100" spc="-1" strike="noStrike">
                <a:solidFill>
                  <a:srgbClr val="000000"/>
                </a:solidFill>
                <a:latin typeface="Tw Cen MT"/>
              </a:rPr>
              <a:t> </a:t>
            </a:r>
            <a:endParaRPr b="0" lang="en-US" sz="2100" spc="-1" strike="noStrike">
              <a:solidFill>
                <a:srgbClr val="000000"/>
              </a:solidFill>
              <a:latin typeface="Tw Cen MT"/>
            </a:endParaRPr>
          </a:p>
          <a:p>
            <a:pPr marL="3189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development asthe colors gradually fade</a:t>
            </a:r>
            <a:r>
              <a:rPr b="0" lang="en-US" sz="2100" spc="-1" strike="noStrike">
                <a:solidFill>
                  <a:srgbClr val="000000"/>
                </a:solidFill>
                <a:latin typeface="Tw Cen MT"/>
              </a:rPr>
              <a:t>.</a:t>
            </a: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hromatography</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hromatography is a method of separating a mixture of molecules depending on their distribution between a mobile phase and a stationary phase.</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mobile phase (also known as solvent) may be either liquid or gas.</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tationary phase (also known as sorbent) can be either a solid or liquid, a liquid stationary phase is held stationary by a solid.</a:t>
            </a:r>
            <a:endParaRPr b="0" lang="en-US" sz="29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olid holding the liquid stationary phase is the support or matrix.</a:t>
            </a:r>
            <a:endParaRPr b="0" lang="en-US" sz="29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ults</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16" name="PlaceHolder 2"/>
          <p:cNvSpPr>
            <a:spLocks noGrp="1"/>
          </p:cNvSpPr>
          <p:nvPr>
            <p:ph/>
          </p:nvPr>
        </p:nvSpPr>
        <p:spPr>
          <a:xfrm>
            <a:off x="612360" y="1600200"/>
            <a:ext cx="8062920" cy="5068800"/>
          </a:xfrm>
          <a:prstGeom prst="rect">
            <a:avLst/>
          </a:prstGeom>
          <a:noFill/>
          <a:ln w="0">
            <a:noFill/>
          </a:ln>
        </p:spPr>
        <p:txBody>
          <a:bodyPr lIns="90000" rIns="90000" tIns="46800" bIns="46800" anchor="t">
            <a:normAutofit/>
          </a:bodyPr>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500" spc="-1" strike="noStrike">
                <a:solidFill>
                  <a:srgbClr val="000000"/>
                </a:solidFill>
                <a:latin typeface="Tw Cen MT"/>
              </a:rPr>
              <a:t>Describe the chromatograms by filling the following. Calculate the Rf value for each spot and under ‘comments’ state the approximate size and color of each spot</a:t>
            </a:r>
            <a:r>
              <a:rPr b="0" lang="en-US" sz="2500" spc="-1" strike="noStrike">
                <a:solidFill>
                  <a:srgbClr val="000000"/>
                </a:solidFill>
                <a:latin typeface="Tw Cen MT"/>
              </a:rPr>
              <a:t>.</a:t>
            </a: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Distance migrated by solvent front in TLC=     /in paper</a:t>
            </a:r>
            <a:r>
              <a:rPr b="0" lang="en-US" sz="2500" spc="-1" strike="noStrike">
                <a:solidFill>
                  <a:srgbClr val="000000"/>
                </a:solidFill>
                <a:latin typeface="Tw Cen MT"/>
              </a:rPr>
              <a:t>=</a:t>
            </a: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graphicFrame>
        <p:nvGraphicFramePr>
          <p:cNvPr id="417" name=""/>
          <p:cNvGraphicFramePr/>
          <p:nvPr/>
        </p:nvGraphicFramePr>
        <p:xfrm>
          <a:off x="755640" y="3429000"/>
          <a:ext cx="6985080" cy="3117960"/>
        </p:xfrm>
        <a:graphic>
          <a:graphicData uri="http://schemas.openxmlformats.org/drawingml/2006/table">
            <a:tbl>
              <a:tblPr/>
              <a:tblGrid>
                <a:gridCol w="1397160"/>
                <a:gridCol w="1396800"/>
                <a:gridCol w="1397160"/>
                <a:gridCol w="1396800"/>
                <a:gridCol w="1397160"/>
              </a:tblGrid>
              <a:tr h="64260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ample</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tance in TLC</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tance in paper</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f in TLC</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f in paper</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ys standard</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he standar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1</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2</a:t>
                      </a:r>
                      <a:r>
                        <a:rPr b="0" lang="en-US" sz="1800" spc="-1" strike="noStrike">
                          <a:solidFill>
                            <a:srgbClr val="000000"/>
                          </a:solidFill>
                          <a:latin typeface="Tw Cen MT"/>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 and Conclusion</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41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onclusion can you make about the amino acid composition of each Urine samples</a:t>
            </a:r>
            <a:r>
              <a:rPr b="0" lang="en-U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molecules in the mixture to be separated are the solut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Types of chromatography</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 chromatograph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sorption chromatograph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el filt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on exchange chromatograph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Partition chromatography</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distribution of solutes between two immiscible pha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solute will distribute it self between the two phases according to its solubility in each phase, this is called partitioning.</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ea typeface="Times New Roman"/>
              </a:rPr>
              <a:t>Examples of partition chromatography</a:t>
            </a:r>
            <a:endParaRPr b="0" lang="en-US" sz="40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two most common types of partition chromatography are thin layer chromatography and paper chromatograph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both cases the stationary phase is a liquid bound to a matri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paper chromatography the stationary phase are water molecules bound to a cellulose matri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Cont</a:t>
            </a:r>
            <a:r>
              <a:rPr b="0" lang="en-US" sz="4400" spc="-1" strike="noStrike">
                <a:solidFill>
                  <a:srgbClr val="775f55"/>
                </a:solidFill>
                <a:latin typeface="Tw Cen MT"/>
                <a:ea typeface="Times New Roman"/>
              </a:rPr>
              <a:t>…</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TLC, the stationary phase is the solvent added to the support to form the  thin layer so the solvent gets bound to the matrix (suppor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 chromatography is mainly used for separation of molecules of small molecular weigh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Times New Roman"/>
              </a:rPr>
              <a:t>Paper chromatography</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ellulose support contains a large amount of bound wat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tioning occurs between the bound water which is the stationary phase and the solvent which is the mobile pha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1:03:31Z</dcterms:created>
  <dc:creator>Nouf</dc:creator>
  <dc:description/>
  <dc:language>en-US</dc:language>
  <cp:lastModifiedBy>*****</cp:lastModifiedBy>
  <dcterms:modified xsi:type="dcterms:W3CDTF">2010-04-06T14:57:59Z</dcterms:modified>
  <cp:revision>57</cp:revision>
  <dc:subject/>
  <dc:title>Chromat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