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12.wmf" ContentType="image/x-wmf"/>
  <Override PartName="/ppt/media/image36.png" ContentType="image/png"/>
  <Override PartName="/ppt/media/image37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5.png" ContentType="image/png"/>
  <Override PartName="/ppt/media/image46.wmf" ContentType="image/x-wmf"/>
  <Override PartName="/ppt/media/image11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3.wmf" ContentType="image/x-wmf"/>
  <Override PartName="/ppt/media/image33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2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6858000" cy="9144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40C-2BF1-4211-BF07-D5064BD9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069520"/>
            <a:ext cx="6172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963-2704-4F2F-A3D8-FEAF5B49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144756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06952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506952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252-46C4-46C4-8BF6-5A86E28F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1987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1447560"/>
            <a:ext cx="1987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1447560"/>
            <a:ext cx="1987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069520"/>
            <a:ext cx="1987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5069520"/>
            <a:ext cx="1987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5069520"/>
            <a:ext cx="1987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9E0-EF6B-4864-AE8A-D7EF3052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B0C-BC49-47CA-8E88-EAA3373E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03E-2857-4638-AA3E-6EA7F27E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301176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1447560"/>
            <a:ext cx="301176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DF9-891D-43C2-B075-A52048F3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D1C-5BF7-482E-A1DA-11425F30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66840"/>
            <a:ext cx="586728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619-1EA9-413F-AF8A-91427986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1447560"/>
            <a:ext cx="301176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06952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C0A-985D-4C33-9A31-5AD751B2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301176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144756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506952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5B4-16FF-4980-9743-C53D5665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144756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069520"/>
            <a:ext cx="6172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E34-8972-45F9-AE7C-CF645493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610120"/>
            <a:ext cx="16002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57240" y="8610120"/>
            <a:ext cx="4695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 6336: Reliability 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610120"/>
            <a:ext cx="16002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CC74-86D8-4B53-9FAB-E96679F26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57200" y="1219320"/>
            <a:ext cx="594360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F148-3B2D-445B-AA7F-D8728941A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66840"/>
            <a:ext cx="61722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61722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Reliability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is the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</a:rPr>
              <a:t>probability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that a component or system will perform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</a:rPr>
              <a:t>a required function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for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</a:rPr>
              <a:t>a given period of time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when used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</a:rPr>
              <a:t>under stated operating conditions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Reliability is concerned with the life of a system from a success/failure point of vie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Reliability is a “time” oriented quality character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Reliability is a probability which is a function of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The random variable used to measure reliability is the “time”-to-failure random variable, </a:t>
            </a:r>
            <a:r>
              <a:rPr b="0" i="1" lang="en-US" sz="22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x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measure relia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DE9F-3FD9-44EA-8D8C-196D3400F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iven the probability density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ere t is time-to-failure in hours and the pdf is shown be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raph the cdf and the reliability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1676520" y="2095560"/>
          <a:ext cx="274320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95560"/>
                    <a:ext cx="27432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7"/>
          <p:cNvSpPr/>
          <p:nvPr/>
        </p:nvSpPr>
        <p:spPr>
          <a:xfrm>
            <a:off x="0" y="3338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609480" y="3429000"/>
          <a:ext cx="5105520" cy="301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429000"/>
                    <a:ext cx="510552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990720" y="7010280"/>
                <a:ext cx="419076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00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 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</m:t>
                            </m:r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TextBox 10"/>
          <p:cNvSpPr/>
          <p:nvPr/>
        </p:nvSpPr>
        <p:spPr>
          <a:xfrm>
            <a:off x="990720" y="6629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DCC5-BAEA-4CD9-92E2-C79574ACC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the reliability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ere t is time-to-failure in 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 the 200 hr relia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 the 500 hr relia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f this item has been working for 200 hrs, What is the reliability of 500 h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2209680" y="2243160"/>
          <a:ext cx="221004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43160"/>
                    <a:ext cx="22100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7"/>
          <p:cNvSpPr/>
          <p:nvPr/>
        </p:nvSpPr>
        <p:spPr>
          <a:xfrm>
            <a:off x="690840" y="472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560600" y="5562720"/>
                <a:ext cx="417672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0/20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1B32-D66B-4D6A-98FF-93741A16B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iven the following time to failure probability density function (pd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ere t is time-to-failure in hours.  What is the reliability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676520" y="2590920"/>
          <a:ext cx="27432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2743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914400" y="4724280"/>
                <a:ext cx="21337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6AE8-5AFE-475F-AF2A-4A5B678DF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iven the cumulative distribution function (cd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ere t is time-to-failure in hou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 the reliability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 the probability that a device will survive for 70 h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1676520" y="2209680"/>
          <a:ext cx="25905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09680"/>
                    <a:ext cx="2590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F460-BDF8-4E1A-A176-8BA516260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Hazard 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ivation for Hazar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t is often more meaningful to normalize with respect to the reliability at time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since this indicates the failure rate for those surviving units.  If we add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R(t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the denominator, we have the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azard function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“instantaneous” failure rate function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609480" y="2209680"/>
          <a:ext cx="5410440" cy="7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541044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1219320" y="5910120"/>
          <a:ext cx="4098960" cy="277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5910120"/>
                    <a:ext cx="409896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D436-D961-447C-B288-FD18FFBD0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Hazard 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Δt valu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 conditional probability of failure in the time interval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+ Δ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n that the system has survived to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4024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523880" y="2890800"/>
          <a:ext cx="375156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890800"/>
                    <a:ext cx="37515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8AA9-0E45-4E41-9476-4DCDFAC7A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Hazard 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tes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shape of the hazard function indicates how population of units is aging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Failure Rat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CF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creasing Failure Rat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IF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creasing Failure Rat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DF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me reliability engineers think of modeling in terms of h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ther Names for Hazar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liability: hazard function/hazard rate/failur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tuarial science: force of mortality/force of dec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ital statistics: age-specific death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4024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F26A-3AB0-4925-8A0C-5EDB2735B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Hazard 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09480" y="145224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Various Shapes of Hazard Functions and Thei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280" y="2362320"/>
          <a:ext cx="6629400" cy="5486400"/>
        </p:xfrm>
        <a:graphic>
          <a:graphicData uri="http://schemas.openxmlformats.org/drawingml/2006/table">
            <a:tbl>
              <a:tblPr/>
              <a:tblGrid>
                <a:gridCol w="2568600"/>
                <a:gridCol w="406080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apes of Hazard Func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Applic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Constant Failure Rate 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CF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99"/>
                        </a:buClr>
                        <a:buSzPct val="90000"/>
                        <a:buFont typeface="Arial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Failures due to completely random or chance ev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99"/>
                        </a:buClr>
                        <a:buSzPct val="90000"/>
                        <a:buFont typeface="Arial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t should dominate during the useful life peri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ncreasing Failure Rate 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IF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99"/>
                        </a:buClr>
                        <a:buSzPct val="90000"/>
                        <a:buFont typeface="Arial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The most likely situ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99"/>
                        </a:buClr>
                        <a:buSzPct val="90000"/>
                        <a:buFont typeface="Arial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tems wear out or degrade with ti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Decreasing Failure Rate 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DF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99"/>
                        </a:buClr>
                        <a:buSzPct val="90000"/>
                        <a:buFont typeface="Arial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Less common situ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99"/>
                        </a:buClr>
                        <a:buSzPct val="90000"/>
                        <a:buFont typeface="Arial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Burn-in period of a new produ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Bathtub-shape Failure Rate 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B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99"/>
                        </a:buClr>
                        <a:buSzPct val="90000"/>
                        <a:buFont typeface="Arial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Typical shape of many produc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370D-5AF6-447B-A6EA-1A9710CEC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lots of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R(t), F(t), f(t), h(t)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 the normal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2720" y="1419120"/>
            <a:ext cx="61722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(t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(t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6320" y="2058840"/>
            <a:ext cx="3314520" cy="2436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3422520" y="2058840"/>
            <a:ext cx="3314880" cy="2436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3"/>
          <a:stretch/>
        </p:blipFill>
        <p:spPr>
          <a:xfrm>
            <a:off x="76320" y="5411880"/>
            <a:ext cx="3314520" cy="2436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"/>
          <p:cNvPicPr/>
          <p:nvPr/>
        </p:nvPicPr>
        <p:blipFill>
          <a:blip r:embed="rId4"/>
          <a:stretch/>
        </p:blipFill>
        <p:spPr>
          <a:xfrm>
            <a:off x="3422520" y="5411880"/>
            <a:ext cx="33148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2712-912A-4699-ADC2-76FB16D0A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Relationships Among </a:t>
            </a:r>
            <a:br>
              <a:rPr sz="2800"/>
            </a:b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R(t), F(t), f(t)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and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h(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651528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219320" y="1523880"/>
          <a:ext cx="4125960" cy="30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412596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Box 6"/>
          <p:cNvSpPr/>
          <p:nvPr/>
        </p:nvSpPr>
        <p:spPr>
          <a:xfrm>
            <a:off x="4572000" y="265896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7A0B-8F8E-412D-9E98-1E19CCE50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943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ailure Distributions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-- Reliability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21036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bability Functions Representing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.1 Reliability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.2 Cumulative Distribution Function (CD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.3 Probability Density Function (PD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.4 Hazar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.5 Relationships Among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R(t), F(t), f(t),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h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. Bathtub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- How population of units ag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. Summary Statistics of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1 Expected Life (Mean time to fail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2 Median Life and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99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3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4 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1E85-0CF5-4A71-93CC-09E822F57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Relationships Among </a:t>
            </a:r>
            <a:br>
              <a:rPr sz="2800"/>
            </a:b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R(t), F(t), f(t)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and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h(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6400800" cy="73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e-to-One 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tween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matrix shows that any of the three other probability functions (given by the columns) can by found if one of the functions (given by the rows) is kn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10"/>
          <p:cNvSpPr/>
          <p:nvPr/>
        </p:nvSpPr>
        <p:spPr>
          <a:xfrm>
            <a:off x="390600" y="358632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12"/>
          <p:cNvSpPr/>
          <p:nvPr/>
        </p:nvSpPr>
        <p:spPr>
          <a:xfrm>
            <a:off x="390600" y="3586320"/>
            <a:ext cx="138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14"/>
          <p:cNvSpPr/>
          <p:nvPr/>
        </p:nvSpPr>
        <p:spPr>
          <a:xfrm>
            <a:off x="390600" y="3586320"/>
            <a:ext cx="111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7"/>
          <p:cNvSpPr/>
          <p:nvPr/>
        </p:nvSpPr>
        <p:spPr>
          <a:xfrm>
            <a:off x="390600" y="3586320"/>
            <a:ext cx="14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20"/>
          <p:cNvSpPr/>
          <p:nvPr/>
        </p:nvSpPr>
        <p:spPr>
          <a:xfrm>
            <a:off x="390600" y="3586320"/>
            <a:ext cx="138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22"/>
          <p:cNvSpPr/>
          <p:nvPr/>
        </p:nvSpPr>
        <p:spPr>
          <a:xfrm>
            <a:off x="390600" y="3586320"/>
            <a:ext cx="111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5"/>
          <p:cNvSpPr/>
          <p:nvPr/>
        </p:nvSpPr>
        <p:spPr>
          <a:xfrm>
            <a:off x="390600" y="3586320"/>
            <a:ext cx="14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7"/>
          <p:cNvSpPr/>
          <p:nvPr/>
        </p:nvSpPr>
        <p:spPr>
          <a:xfrm>
            <a:off x="390600" y="358632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390600" y="3586320"/>
            <a:ext cx="111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33"/>
          <p:cNvSpPr/>
          <p:nvPr/>
        </p:nvSpPr>
        <p:spPr>
          <a:xfrm>
            <a:off x="390600" y="3586320"/>
            <a:ext cx="14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5"/>
          <p:cNvSpPr/>
          <p:nvPr/>
        </p:nvSpPr>
        <p:spPr>
          <a:xfrm>
            <a:off x="390600" y="358632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37"/>
          <p:cNvSpPr/>
          <p:nvPr/>
        </p:nvSpPr>
        <p:spPr>
          <a:xfrm>
            <a:off x="390600" y="3586320"/>
            <a:ext cx="138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7360" y="2509920"/>
          <a:ext cx="6629400" cy="4576680"/>
        </p:xfrm>
        <a:graphic>
          <a:graphicData uri="http://schemas.openxmlformats.org/drawingml/2006/table">
            <a:tbl>
              <a:tblPr/>
              <a:tblGrid>
                <a:gridCol w="609840"/>
                <a:gridCol w="1635120"/>
                <a:gridCol w="1371600"/>
                <a:gridCol w="1608120"/>
                <a:gridCol w="14047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h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h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Object 382"/>
          <p:cNvGraphicFramePr/>
          <p:nvPr/>
        </p:nvGraphicFramePr>
        <p:xfrm>
          <a:off x="2514600" y="3200400"/>
          <a:ext cx="1087560" cy="8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00400"/>
                    <a:ext cx="10875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391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390"/>
          <p:cNvGraphicFramePr/>
          <p:nvPr/>
        </p:nvGraphicFramePr>
        <p:xfrm>
          <a:off x="4038480" y="3208320"/>
          <a:ext cx="1087560" cy="84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39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3208320"/>
                    <a:ext cx="10875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392"/>
          <p:cNvGraphicFramePr/>
          <p:nvPr/>
        </p:nvGraphicFramePr>
        <p:xfrm>
          <a:off x="5529240" y="3075120"/>
          <a:ext cx="1100160" cy="11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Object 39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29240" y="3075120"/>
                    <a:ext cx="110016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394"/>
          <p:cNvGraphicFramePr/>
          <p:nvPr/>
        </p:nvGraphicFramePr>
        <p:xfrm>
          <a:off x="1146240" y="4361040"/>
          <a:ext cx="911160" cy="70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Object 39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6240" y="4361040"/>
                    <a:ext cx="91116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396"/>
          <p:cNvGraphicFramePr/>
          <p:nvPr/>
        </p:nvGraphicFramePr>
        <p:xfrm>
          <a:off x="4191120" y="4572000"/>
          <a:ext cx="879480" cy="36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Object 39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4572000"/>
                    <a:ext cx="8794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398"/>
          <p:cNvGraphicFramePr/>
          <p:nvPr/>
        </p:nvGraphicFramePr>
        <p:xfrm>
          <a:off x="5614920" y="4343400"/>
          <a:ext cx="1014480" cy="76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4" name="Object 39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14920" y="4343400"/>
                    <a:ext cx="10144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00"/>
          <p:cNvGraphicFramePr/>
          <p:nvPr/>
        </p:nvGraphicFramePr>
        <p:xfrm>
          <a:off x="1219320" y="5334120"/>
          <a:ext cx="741240" cy="706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6" name="Object 40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19320" y="5334120"/>
                    <a:ext cx="74124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403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02"/>
          <p:cNvGraphicFramePr/>
          <p:nvPr/>
        </p:nvGraphicFramePr>
        <p:xfrm>
          <a:off x="2666880" y="5553000"/>
          <a:ext cx="897120" cy="36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9" name="Object 40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66880" y="5553000"/>
                    <a:ext cx="8971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404"/>
          <p:cNvGraphicFramePr/>
          <p:nvPr/>
        </p:nvGraphicFramePr>
        <p:xfrm>
          <a:off x="5369040" y="5257800"/>
          <a:ext cx="1436400" cy="811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1" name="Object 40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69040" y="5257800"/>
                    <a:ext cx="143640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406"/>
          <p:cNvGraphicFramePr/>
          <p:nvPr/>
        </p:nvGraphicFramePr>
        <p:xfrm>
          <a:off x="762120" y="6283440"/>
          <a:ext cx="1541520" cy="657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3" name="Object 40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2120" y="6283440"/>
                    <a:ext cx="15415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408"/>
          <p:cNvGraphicFramePr/>
          <p:nvPr/>
        </p:nvGraphicFramePr>
        <p:xfrm>
          <a:off x="2552760" y="6283440"/>
          <a:ext cx="1138320" cy="650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5" name="Object 40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52760" y="6283440"/>
                    <a:ext cx="11383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410"/>
          <p:cNvGraphicFramePr/>
          <p:nvPr/>
        </p:nvGraphicFramePr>
        <p:xfrm>
          <a:off x="3786120" y="6248520"/>
          <a:ext cx="1548000" cy="660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7" name="Object 41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86120" y="6248520"/>
                    <a:ext cx="15480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5165-C7BD-4483-9C3D-ABDBE7785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ider the pdf used in Example 2 given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lculate the hazard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4376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1752480" y="2209680"/>
          <a:ext cx="289584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28958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1600200" y="4229280"/>
                <a:ext cx="25527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69B7-3BB0-4CF8-80B6-0E41E9735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iven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h(t)=18t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find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R(t), F(t),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d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 f(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4253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7"/>
              <p:cNvSpPr txBox="1"/>
              <p:nvPr/>
            </p:nvSpPr>
            <p:spPr>
              <a:xfrm>
                <a:off x="990720" y="3352680"/>
                <a:ext cx="2819160" cy="30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tdt</m:t>
                                </m:r>
                              </m:e>
                            </m:nary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7F1F-E09E-422F-A59D-F21576D9B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Bathtub Cur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failure of a population of fielded products is du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blems due to inherent design weak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anufacturing and quality control related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variability due to the customer 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aintenance policies actually practiced by the customer and improper use or abuse of th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E5E6-82A7-40FF-8E62-D374426CC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Bathtub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 many years, and across a wide variety of mechanical and electronic components and systems, people have calculated empirical population failure rates as units age over time and repeatedly obtained a bathtub sh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ant mortality (burn-in) period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ecreasing failure rate early in the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stant failure rate (useful life) perio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nearly constant failur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ear-out period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the failure rate begins to increase as materials wear out and degradation failures occur at an ever increasing r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079F-60F8-4F3C-9F9C-49BDDDF7F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Bathtub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152280" y="2617920"/>
            <a:ext cx="6553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343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D3C0-65C3-40E6-9E2C-60B71F4E3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Bathtub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 Example: Accident Rates and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9"/>
          <p:cNvGrpSpPr/>
          <p:nvPr/>
        </p:nvGrpSpPr>
        <p:grpSpPr>
          <a:xfrm>
            <a:off x="-838080" y="1905120"/>
            <a:ext cx="8305560" cy="6094440"/>
            <a:chOff x="-838080" y="1905120"/>
            <a:chExt cx="8305560" cy="6094440"/>
          </a:xfrm>
        </p:grpSpPr>
        <p:pic>
          <p:nvPicPr>
            <p:cNvPr id="254" name="Picture 12" descr="chapter02"/>
            <p:cNvPicPr/>
            <p:nvPr/>
          </p:nvPicPr>
          <p:blipFill>
            <a:blip r:embed="rId1"/>
            <a:stretch/>
          </p:blipFill>
          <p:spPr>
            <a:xfrm>
              <a:off x="-838080" y="1905120"/>
              <a:ext cx="8305560" cy="609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13"/>
            <p:cNvSpPr/>
            <p:nvPr/>
          </p:nvSpPr>
          <p:spPr>
            <a:xfrm>
              <a:off x="914040" y="6399360"/>
              <a:ext cx="60195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6-19       20-24        25-29                                 60-64 65-69 70-74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4"/>
            <p:cNvSpPr/>
            <p:nvPr/>
          </p:nvSpPr>
          <p:spPr>
            <a:xfrm>
              <a:off x="304560" y="3092760"/>
              <a:ext cx="84564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nnual Rate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ccid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5"/>
            <p:cNvSpPr/>
            <p:nvPr/>
          </p:nvSpPr>
          <p:spPr>
            <a:xfrm>
              <a:off x="1371240" y="4265640"/>
              <a:ext cx="11426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Young driv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6"/>
            <p:cNvSpPr/>
            <p:nvPr/>
          </p:nvSpPr>
          <p:spPr>
            <a:xfrm>
              <a:off x="4986000" y="4284720"/>
              <a:ext cx="133812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eni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7"/>
            <p:cNvSpPr/>
            <p:nvPr/>
          </p:nvSpPr>
          <p:spPr>
            <a:xfrm>
              <a:off x="3124080" y="4265640"/>
              <a:ext cx="137124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8"/>
            <p:cNvSpPr/>
            <p:nvPr/>
          </p:nvSpPr>
          <p:spPr>
            <a:xfrm>
              <a:off x="5562360" y="7466040"/>
              <a:ext cx="137124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1D60-6919-4DD7-B6A0-AAA3F49A4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Bathtub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2720" y="1295280"/>
            <a:ext cx="61722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SimSun"/>
              </a:rPr>
              <a:t>Typical information for components of a PC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2280" y="1862280"/>
          <a:ext cx="6477120" cy="6672240"/>
        </p:xfrm>
        <a:graphic>
          <a:graphicData uri="http://schemas.openxmlformats.org/drawingml/2006/table">
            <a:tbl>
              <a:tblPr/>
              <a:tblGrid>
                <a:gridCol w="1592280"/>
                <a:gridCol w="1244880"/>
                <a:gridCol w="1481040"/>
                <a:gridCol w="2158920"/>
              </a:tblGrid>
              <a:tr h="89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fant Mortality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ypical useful life period (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ikelihood of Failure Before Wear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wer Supp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ther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ystem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 to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ideo C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 to 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n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 to 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-7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 to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Hard Disk Dr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 to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 to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loppy Disk Dr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D-ROM Dr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-7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ey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 to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3E7B-BEB6-43A4-B0E9-A65BC67A8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Summary Statistics of Reliabilit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51528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ected Life (Mean time to fail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dian Life and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Arial"/>
              </a:rPr>
              <a:t>α</a:t>
            </a:r>
            <a:r>
              <a:rPr b="0" lang="en-US" sz="28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A0F2-9831-4D69-A6D3-C78DE270E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[T] is also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ean Tim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o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ailure (MTTF)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nrepairable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ean Tim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between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Failure (MTBF)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airable items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at can be completely renewed by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[T] is a measure of the central tendency or average value of the failure distribution, and it is known as the center of gravity in phys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4338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600200" y="1752480"/>
          <a:ext cx="373392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37339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DF8C-357B-4E3E-B0F3-B00F59D08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Probability Functions Representing Reli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175212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liabilit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mulative Distribution Function (C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bability Density Function (P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azar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lationships Among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R(t), F(t), f(t),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h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D810-BEA2-443A-9769-FCA96897E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lationship between E[T] and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R(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ow that E(T) can be re-express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metimes, one expression is easier to integrate than the other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exponential example,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1600200" y="2590920"/>
          <a:ext cx="320040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90920"/>
                    <a:ext cx="32004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5BF1-AF6A-4A5A-869F-5091C47A4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iven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 the MTT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1828800" y="2209680"/>
          <a:ext cx="297180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29718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5" name="Object 8"/>
              <p:cNvSpPr txBox="1"/>
              <p:nvPr/>
            </p:nvSpPr>
            <p:spPr>
              <a:xfrm>
                <a:off x="1523880" y="4038480"/>
                <a:ext cx="29275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A7E1-155A-4C75-95CF-30B3A4210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iven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 the MTT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4"/>
          <p:cNvGraphicFramePr/>
          <p:nvPr/>
        </p:nvGraphicFramePr>
        <p:xfrm>
          <a:off x="1828800" y="2151000"/>
          <a:ext cx="251460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51000"/>
                    <a:ext cx="25146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503D-4C6A-46DA-9E9A-927C60008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Median Life and B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Arial"/>
                <a:ea typeface="SimSun"/>
              </a:rPr>
              <a:t>α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median lif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ivides the distribution into two equal halves, with 50% of the failure occurring before and after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i="1" lang="en-US" sz="2400" spc="-1" strike="noStrike" baseline="-25000">
                <a:solidFill>
                  <a:srgbClr val="000099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i="1" lang="en-US" sz="2400" spc="-1" strike="noStrike" baseline="-25000">
                <a:solidFill>
                  <a:srgbClr val="000099"/>
                </a:solidFill>
                <a:latin typeface="Arial"/>
              </a:rPr>
              <a:t>α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Lif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is the time by which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percent of the items f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exampl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99"/>
                </a:solidFill>
                <a:latin typeface="Arial"/>
              </a:rPr>
              <a:t>10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ife can be calcula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Object 4"/>
          <p:cNvGraphicFramePr/>
          <p:nvPr/>
        </p:nvGraphicFramePr>
        <p:xfrm>
          <a:off x="1828800" y="3429000"/>
          <a:ext cx="342900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34290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7"/>
          <p:cNvSpPr/>
          <p:nvPr/>
        </p:nvSpPr>
        <p:spPr>
          <a:xfrm>
            <a:off x="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6"/>
          <p:cNvGraphicFramePr/>
          <p:nvPr/>
        </p:nvGraphicFramePr>
        <p:xfrm>
          <a:off x="1600200" y="5438880"/>
          <a:ext cx="4216320" cy="49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438880"/>
                    <a:ext cx="421632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9"/>
          <p:cNvSpPr/>
          <p:nvPr/>
        </p:nvSpPr>
        <p:spPr>
          <a:xfrm>
            <a:off x="0" y="4343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8"/>
          <p:cNvGraphicFramePr/>
          <p:nvPr/>
        </p:nvGraphicFramePr>
        <p:xfrm>
          <a:off x="1828800" y="6927840"/>
          <a:ext cx="2658960" cy="99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6927840"/>
                    <a:ext cx="265896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B236-E90B-4A0B-8607-D640040E5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 and Vari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d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s the time value at which the probability density function achieves a maxi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ode is the most likely observed failur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443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1981080" y="2906640"/>
          <a:ext cx="289584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906640"/>
                    <a:ext cx="28958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7"/>
          <p:cNvSpPr/>
          <p:nvPr/>
        </p:nvSpPr>
        <p:spPr>
          <a:xfrm>
            <a:off x="0" y="4338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Object 6"/>
          <p:cNvGraphicFramePr/>
          <p:nvPr/>
        </p:nvGraphicFramePr>
        <p:xfrm>
          <a:off x="990720" y="5562720"/>
          <a:ext cx="434340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562720"/>
                    <a:ext cx="43434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9"/>
          <p:cNvSpPr/>
          <p:nvPr/>
        </p:nvSpPr>
        <p:spPr>
          <a:xfrm>
            <a:off x="0" y="443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Object 8"/>
          <p:cNvGraphicFramePr/>
          <p:nvPr/>
        </p:nvGraphicFramePr>
        <p:xfrm>
          <a:off x="1503360" y="6553080"/>
          <a:ext cx="291636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03360" y="6553080"/>
                    <a:ext cx="29163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825C-838C-4618-8F3B-33C68C46B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pdf used in Example 2 (triangle distribution) given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MTTF,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fe (the median life), and the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0" y="4376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905120" y="2590920"/>
          <a:ext cx="289548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90920"/>
                    <a:ext cx="28954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C970-9D22-4E6E-9E3C-9B6A0732F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the exponential distribution with mean=100, calculate the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99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life (the median life), and the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9421-9D6E-4E15-B772-0AFF440B3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liability 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Reliability function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is the probability that an item is functioning at any time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= “time”-to-failure random variable, reliability at time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 example, reliability at time t=100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R(100) = P(T &gt;=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4471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1600200" y="3878280"/>
          <a:ext cx="327672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78280"/>
                    <a:ext cx="32767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8"/>
          <p:cNvSpPr/>
          <p:nvPr/>
        </p:nvSpPr>
        <p:spPr>
          <a:xfrm>
            <a:off x="0" y="443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7"/>
          <p:cNvGraphicFramePr/>
          <p:nvPr/>
        </p:nvGraphicFramePr>
        <p:xfrm>
          <a:off x="990720" y="6629400"/>
          <a:ext cx="494028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6629400"/>
                    <a:ext cx="49402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8173-24D1-4F26-BAD4-E2004965A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liability 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interpre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R(t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is the probability that an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individual item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is functioning at time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R(t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is the expected fraction of the population that is functioning at time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for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a large population of item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ther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rvivor Function --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plementary C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59CF-8A5C-4343-8098-4200DBF0C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Arial"/>
                <a:ea typeface="SimSun"/>
              </a:rPr>
              <a:t>CDF and PD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61722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  <a:ea typeface="SimSun"/>
              </a:rPr>
              <a:t>Cumulative Distribution Function, </a:t>
            </a:r>
            <a:r>
              <a:rPr b="1" i="1" lang="fr-FR" sz="2400" spc="-1" strike="noStrike">
                <a:solidFill>
                  <a:srgbClr val="ff0000"/>
                </a:solidFill>
                <a:latin typeface="Arial"/>
                <a:ea typeface="SimSun"/>
              </a:rPr>
              <a:t>F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F(t)= P(T&lt;t) =1-R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pre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F(t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is the probability that an item fails before time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Probability Density Function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f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rpre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f(t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indicates the likelihood of failure for any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and it describes the shape of the failure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443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1219320" y="2819520"/>
          <a:ext cx="46479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19520"/>
                    <a:ext cx="46479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6"/>
          <p:cNvGraphicFramePr/>
          <p:nvPr/>
        </p:nvGraphicFramePr>
        <p:xfrm>
          <a:off x="2057400" y="5340240"/>
          <a:ext cx="306216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340240"/>
                    <a:ext cx="306216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7"/>
          <p:cNvGraphicFramePr/>
          <p:nvPr/>
        </p:nvGraphicFramePr>
        <p:xfrm>
          <a:off x="2133720" y="6377040"/>
          <a:ext cx="289548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6377040"/>
                    <a:ext cx="28954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B585-643C-424D-A099-9DA1896A3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lationships Among </a:t>
            </a:r>
            <a:br>
              <a:rPr sz="2800"/>
            </a:b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R(t), F(t),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and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f(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0" y="4471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6"/>
          <p:cNvGraphicFramePr/>
          <p:nvPr/>
        </p:nvGraphicFramePr>
        <p:xfrm>
          <a:off x="914400" y="7192800"/>
          <a:ext cx="50292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192800"/>
                    <a:ext cx="5029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Group 12"/>
          <p:cNvGrpSpPr/>
          <p:nvPr/>
        </p:nvGrpSpPr>
        <p:grpSpPr>
          <a:xfrm>
            <a:off x="457200" y="1981080"/>
            <a:ext cx="5943600" cy="4192560"/>
            <a:chOff x="457200" y="1981080"/>
            <a:chExt cx="5943600" cy="4192560"/>
          </a:xfrm>
        </p:grpSpPr>
        <p:pic>
          <p:nvPicPr>
            <p:cNvPr id="79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1981080"/>
              <a:ext cx="5943600" cy="419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8"/>
            <p:cNvSpPr/>
            <p:nvPr/>
          </p:nvSpPr>
          <p:spPr>
            <a:xfrm>
              <a:off x="2819520" y="5791320"/>
              <a:ext cx="380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9"/>
            <p:cNvSpPr/>
            <p:nvPr/>
          </p:nvSpPr>
          <p:spPr>
            <a:xfrm>
              <a:off x="4835520" y="5562720"/>
              <a:ext cx="1522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0"/>
            <p:cNvSpPr/>
            <p:nvPr/>
          </p:nvSpPr>
          <p:spPr>
            <a:xfrm>
              <a:off x="3124080" y="49528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(T&gt;=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1"/>
            <p:cNvSpPr/>
            <p:nvPr/>
          </p:nvSpPr>
          <p:spPr>
            <a:xfrm>
              <a:off x="2022480" y="4967280"/>
              <a:ext cx="838080" cy="3682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(T&lt;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EFF8-4713-4E44-BEA8-AE38295ED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lationships Among </a:t>
            </a:r>
            <a:br>
              <a:rPr sz="2800"/>
            </a:b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R(t), F(t),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and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f(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4338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1600200" y="3505320"/>
          <a:ext cx="2449440" cy="24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505320"/>
                    <a:ext cx="244944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6"/>
          <p:cNvGraphicFramePr/>
          <p:nvPr/>
        </p:nvGraphicFramePr>
        <p:xfrm>
          <a:off x="1600200" y="2133720"/>
          <a:ext cx="3062160" cy="83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133720"/>
                    <a:ext cx="30621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D5FF-3677-4B99-A800-1F7A6C67A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ider the pdf for the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uniform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random variable given be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s time-to-failure in hours.  Draw the pdf, cdf and the reliability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4376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905120" y="2286000"/>
          <a:ext cx="266688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286000"/>
                    <a:ext cx="26668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Box 7"/>
          <p:cNvSpPr/>
          <p:nvPr/>
        </p:nvSpPr>
        <p:spPr>
          <a:xfrm>
            <a:off x="914400" y="38098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32767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5"/>
          <p:cNvGrpSpPr/>
          <p:nvPr/>
        </p:nvGrpSpPr>
        <p:grpSpPr>
          <a:xfrm>
            <a:off x="380880" y="4267080"/>
            <a:ext cx="2971800" cy="1675800"/>
            <a:chOff x="380880" y="4267080"/>
            <a:chExt cx="2971800" cy="1675800"/>
          </a:xfrm>
        </p:grpSpPr>
        <p:cxnSp>
          <p:nvCxnSpPr>
            <p:cNvPr id="101" name="Straight Arrow Connector 12"/>
            <p:cNvCxnSpPr/>
            <p:nvPr/>
          </p:nvCxnSpPr>
          <p:spPr>
            <a:xfrm flipV="1">
              <a:off x="1065960" y="4267080"/>
              <a:ext cx="2160" cy="137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2" name="Straight Arrow Connector 14"/>
            <p:cNvCxnSpPr/>
            <p:nvPr/>
          </p:nvCxnSpPr>
          <p:spPr>
            <a:xfrm>
              <a:off x="1066320" y="5639040"/>
              <a:ext cx="22107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3" name="Straight Connector 16"/>
            <p:cNvSpPr/>
            <p:nvPr/>
          </p:nvSpPr>
          <p:spPr>
            <a:xfrm>
              <a:off x="1066680" y="5181480"/>
              <a:ext cx="1905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7"/>
            <p:cNvSpPr/>
            <p:nvPr/>
          </p:nvSpPr>
          <p:spPr>
            <a:xfrm>
              <a:off x="533160" y="4267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20"/>
            <p:cNvSpPr/>
            <p:nvPr/>
          </p:nvSpPr>
          <p:spPr>
            <a:xfrm flipH="1">
              <a:off x="2970360" y="5182200"/>
              <a:ext cx="1440" cy="457200"/>
            </a:xfrm>
            <a:prstGeom prst="line">
              <a:avLst/>
            </a:prstGeom>
            <a:ln w="15840">
              <a:solidFill>
                <a:srgbClr val="c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21"/>
            <p:cNvSpPr/>
            <p:nvPr/>
          </p:nvSpPr>
          <p:spPr>
            <a:xfrm>
              <a:off x="380880" y="50292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/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22"/>
            <p:cNvSpPr/>
            <p:nvPr/>
          </p:nvSpPr>
          <p:spPr>
            <a:xfrm>
              <a:off x="2666880" y="56358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3"/>
            <p:cNvSpPr/>
            <p:nvPr/>
          </p:nvSpPr>
          <p:spPr>
            <a:xfrm>
              <a:off x="1676160" y="4267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3505320" y="6324480"/>
                <a:ext cx="30477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110" name="Straight Arrow Connector 27"/>
          <p:cNvCxnSpPr/>
          <p:nvPr/>
        </p:nvCxnSpPr>
        <p:spPr>
          <a:xfrm flipV="1">
            <a:off x="1216440" y="594468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28"/>
          <p:cNvCxnSpPr/>
          <p:nvPr/>
        </p:nvCxnSpPr>
        <p:spPr>
          <a:xfrm>
            <a:off x="1219320" y="7315200"/>
            <a:ext cx="2210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Straight Connector 29"/>
          <p:cNvSpPr/>
          <p:nvPr/>
        </p:nvSpPr>
        <p:spPr>
          <a:xfrm flipV="1">
            <a:off x="1219320" y="64008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0"/>
          <p:cNvSpPr/>
          <p:nvPr/>
        </p:nvSpPr>
        <p:spPr>
          <a:xfrm>
            <a:off x="685800" y="5943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31"/>
          <p:cNvSpPr/>
          <p:nvPr/>
        </p:nvSpPr>
        <p:spPr>
          <a:xfrm flipH="1">
            <a:off x="3122640" y="6400800"/>
            <a:ext cx="1440" cy="915840"/>
          </a:xfrm>
          <a:prstGeom prst="line">
            <a:avLst/>
          </a:prstGeom>
          <a:ln w="158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2"/>
          <p:cNvSpPr/>
          <p:nvPr/>
        </p:nvSpPr>
        <p:spPr>
          <a:xfrm>
            <a:off x="38088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3"/>
          <p:cNvSpPr/>
          <p:nvPr/>
        </p:nvSpPr>
        <p:spPr>
          <a:xfrm>
            <a:off x="2819520" y="7311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4"/>
          <p:cNvSpPr/>
          <p:nvPr/>
        </p:nvSpPr>
        <p:spPr>
          <a:xfrm>
            <a:off x="1600200" y="5943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f  &amp; R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4114800" y="7772400"/>
                <a:ext cx="235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Straight Connector 40"/>
          <p:cNvSpPr/>
          <p:nvPr/>
        </p:nvSpPr>
        <p:spPr>
          <a:xfrm>
            <a:off x="1219320" y="6553080"/>
            <a:ext cx="194292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04:40:27Z</dcterms:created>
  <dc:creator>Qianmei Feng</dc:creator>
  <dc:description/>
  <dc:language>en-US</dc:language>
  <cp:lastModifiedBy>Emad</cp:lastModifiedBy>
  <dcterms:modified xsi:type="dcterms:W3CDTF">2013-09-13T18:37:52Z</dcterms:modified>
  <cp:revision>266</cp:revision>
  <dc:subject/>
  <dc:title>Slide 1</dc:title>
</cp:coreProperties>
</file>