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4EE-6912-4C1F-850D-AF1BDEBEF839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6D9-EAB5-4716-9E16-95E5CFC3C566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36F-1F20-4742-A535-12BA11C0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097-C3B6-47D9-A85D-6CAACE0A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B6B-5458-4628-8A46-E143C12C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4F5-F379-43F4-AA13-DF9CAEE6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7E0-F8BC-468C-9258-152A3BA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C7D-5A61-493C-BF90-624712C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35-F87F-4494-8381-C8C5151D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6D2-13E1-4FC2-AA91-EFD27EDD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B7A-2059-43BB-8FC0-16077D9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06E-3F95-4C8F-BE00-F3E6955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775-14F0-4106-9A45-E8FDA17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F25-1626-46D0-AEFB-EB9CA50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7C9D-2AB6-4EAF-9EA0-9BE2480509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Scheduling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Engineering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57200" y="457200"/>
            <a:ext cx="8381880" cy="609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peteultra.ksu.edu.sa/courses.nsf/ksu.jpg?OpenImageResource"/>
          <p:cNvPicPr/>
          <p:nvPr/>
        </p:nvPicPr>
        <p:blipFill>
          <a:blip r:embed="rId1"/>
          <a:stretch/>
        </p:blipFill>
        <p:spPr>
          <a:xfrm>
            <a:off x="1295280" y="15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500720" y="6324480"/>
            <a:ext cx="350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Engineer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Procedur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safety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iorities for all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cost acc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work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backlog and develop plans for controll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maintenance load using effective forecast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Basic Levels of Planning Process (Depend on The Planning Horizon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ng-rang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t covers a period of 3 to 5 years and sets plans for future activities and long-range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edium-range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covers a period of 1 month to 1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hort-rang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covers a period of 1 day to 1 week. It focuses on the determination of all the elements required to perform maintenance task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ng and Medium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utiliz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nd forecasting techniques to estimate the maintenanc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job standards times to estimate staffing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planning tools such as linear programming to determine resourc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ng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plans for future activities and long-range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38080" y="3124080"/>
            <a:ext cx="7696440" cy="1828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um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how the maintenance workers will ope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details of major overhauls, construction jobs, preventive maintenance plans, and plant shutdow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the need for staffing over the period cov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required spare parts and material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hort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focuses on the determination of all the elements required to perform maintenance task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38080" y="3124080"/>
            <a:ext cx="7696440" cy="1828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jobs are matched with resources and sequenced to be executed at a certain points 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 deals with the specific time and phasing of planned jobs together with the orders to perform the work, monitoring the work, controlling it, and reporting on job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planning needs a feedback from schedu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Reliable Schedule Must Take Into Consideratio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b priority ranking reflecting the criticality of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ailability of all materials needed for the work order in the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duction master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tic estimates and what is likely to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 in the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Elements of Sound 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for effective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work orders that are derived from a well-conceived planning process. (Work to be done, methods to be followed, crafts needed, spare parts needed, and priori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craft availability for each sh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s of spare parts and information on rest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INTENANCE PLANNING AND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lanning and scheduling contribute significantly t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aintenance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utilization of the maintenance workforce by reducing delays and interru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quality of maintenance work by adopting the best methods and procedures and assigning the most qualified workers for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Elements of Sound 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for effective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the availability of special equipment and tools necessary for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he plant production schedule and knowledge about when the facilities will be available for service without interrupting production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 priorities for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jobs already scheduled that are behind the schedule (backlo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aintenance Schedule Can be Prepared at Three Levels (Depend on The Time Horizo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ng-range (master)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eekl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Dail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Long-Range (master)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a period of 3 months to 1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isting maintenance work orders (blanket work order, backlog, PM, anticipated 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ing long-term demand for maintenance work with avail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e parts and material could be identified and ordered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revision and updating to reflect changes in the plans and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Weekly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1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 the master schedu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to account current operations schedules and economic consid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10% to 15% of the workforce to be available for emergenc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hedule prepared for the current week and the following one in order to consider the available back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orders scheduled in this week are sequenced based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M and integer programming techniques can be used to generate a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Daily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1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 weekly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the day bef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ed to perform 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 are used to schedule the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Procedures (Steps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 backlog work orders by craf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orders by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 list of completed and carry ove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job duration, location, travel distance, and the possibility of combining jobs in the sam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multi-craft jobs to start at the beginning of every sh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a daily schedule (not for shutdown mainten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uthorize a supervisor to make work assignments (dispatching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Maintenance Job Priority System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 are established to ensure that the most critical work is scheduled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veloped under coordination with operations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dyna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updated periodically to reflect changes in operation and maintenanc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ypically includes three to ten levels of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 algn="ctr"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orities of Maintenanc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69960" y="1600200"/>
            <a:ext cx="780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Techniqu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the scheduling techniques is to construct a time chart sh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t and finish for each jo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dependencies amo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ritical jobs that require special attention and effective moni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Techniqu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echniq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odified Gantt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ger and stochastic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and Scheduling Objectiv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the idle time of maintenance wo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the efficient use of work time, material, and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the operating equipment at a responsive level to the need of production in terms of delivery schedule and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15F-264B-49A7-8DE9-545ECE9EA5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730520" y="173160"/>
            <a:ext cx="62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816200" y="1009800"/>
            <a:ext cx="68198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179280"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1520" y="1531800"/>
            <a:ext cx="15130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e6e6ff"/>
                </a:solidFill>
                <a:latin typeface="Arial"/>
              </a:rPr>
              <a:t>Maintenanc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 flipV="1">
            <a:off x="162000" y="825840"/>
            <a:ext cx="8982000" cy="111240"/>
          </a:xfrm>
          <a:prstGeom prst="rect">
            <a:avLst/>
          </a:prstGeom>
          <a:gradFill rotWithShape="0">
            <a:gsLst>
              <a:gs pos="0">
                <a:srgbClr val="ffffff">
                  <a:alpha val="36078"/>
                </a:srgbClr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8974080" y="3745080"/>
            <a:ext cx="169920" cy="3112920"/>
          </a:xfrm>
          <a:custGeom>
            <a:avLst/>
            <a:gdLst>
              <a:gd name="textAreaLeft" fmla="*/ 360 w 169920"/>
              <a:gd name="textAreaRight" fmla="*/ 169560 w 169920"/>
              <a:gd name="textAreaTop" fmla="*/ 360 h 3112920"/>
              <a:gd name="textAreaBottom" fmla="*/ 3112560 h 3112920"/>
            </a:gdLst>
            <a:ahLst/>
            <a:rect l="textAreaLeft" t="textAreaTop" r="textAreaRight" b="textAreaBottom"/>
            <a:pathLst>
              <a:path w="21600" h="394919">
                <a:moveTo>
                  <a:pt x="189" y="0"/>
                </a:moveTo>
                <a:arcTo wR="189" hR="189" stAng="16200000" swAng="-5400000"/>
                <a:lnTo>
                  <a:pt x="0" y="394730"/>
                </a:lnTo>
                <a:arcTo wR="189" hR="189" stAng="10800000" swAng="-5400000"/>
                <a:lnTo>
                  <a:pt x="21411" y="394919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8805960" y="4611600"/>
            <a:ext cx="171360" cy="224640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2246400"/>
              <a:gd name="textAreaBottom" fmla="*/ 2246040 h 2246400"/>
            </a:gdLst>
            <a:ahLst/>
            <a:rect l="textAreaLeft" t="textAreaTop" r="textAreaRight" b="textAreaBottom"/>
            <a:pathLst>
              <a:path w="21600" h="282611">
                <a:moveTo>
                  <a:pt x="189" y="0"/>
                </a:moveTo>
                <a:arcTo wR="189" hR="189" stAng="16200000" swAng="-5400000"/>
                <a:lnTo>
                  <a:pt x="0" y="282422"/>
                </a:lnTo>
                <a:arcTo wR="189" hR="189" stAng="10800000" swAng="-5400000"/>
                <a:lnTo>
                  <a:pt x="21411" y="282611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8658360" y="5448240"/>
            <a:ext cx="171360" cy="143028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1430280"/>
              <a:gd name="textAreaBottom" fmla="*/ 1429920 h 1430280"/>
            </a:gdLst>
            <a:ahLst/>
            <a:rect l="textAreaLeft" t="textAreaTop" r="textAreaRight" b="textAreaBottom"/>
            <a:pathLst>
              <a:path w="21600" h="179955">
                <a:moveTo>
                  <a:pt x="189" y="0"/>
                </a:moveTo>
                <a:arcTo wR="189" hR="189" stAng="16200000" swAng="-5400000"/>
                <a:lnTo>
                  <a:pt x="0" y="179766"/>
                </a:lnTo>
                <a:arcTo wR="189" hR="189" stAng="10800000" swAng="-5400000"/>
                <a:lnTo>
                  <a:pt x="21411" y="17995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1614600" y="858960"/>
            <a:ext cx="88920" cy="5808600"/>
          </a:xfrm>
          <a:custGeom>
            <a:avLst/>
            <a:gdLst>
              <a:gd name="textAreaLeft" fmla="*/ 360 w 88920"/>
              <a:gd name="textAreaRight" fmla="*/ 88560 w 88920"/>
              <a:gd name="textAreaTop" fmla="*/ 360 h 5808600"/>
              <a:gd name="textAreaBottom" fmla="*/ 5808240 h 5808600"/>
            </a:gdLst>
            <a:ahLst/>
            <a:rect l="textAreaLeft" t="textAreaTop" r="textAreaRight" b="textAreaBottom"/>
            <a:pathLst>
              <a:path w="21600" h="1405394">
                <a:moveTo>
                  <a:pt x="300" y="0"/>
                </a:moveTo>
                <a:arcTo wR="300" hR="300" stAng="16200000" swAng="-5400000"/>
                <a:lnTo>
                  <a:pt x="0" y="1405094"/>
                </a:lnTo>
                <a:arcTo wR="300" hR="300" stAng="10800000" swAng="-5400000"/>
                <a:lnTo>
                  <a:pt x="21300" y="1405394"/>
                </a:lnTo>
                <a:arcTo wR="300" hR="300" stAng="5400000" swAng="-5400000"/>
                <a:lnTo>
                  <a:pt x="21600" y="300"/>
                </a:lnTo>
                <a:arcTo wR="300" hR="3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36440" y="2975040"/>
            <a:ext cx="1478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e6e6ff"/>
                </a:solidFill>
                <a:latin typeface="Arial"/>
              </a:rPr>
              <a:t>Scheduling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36440" y="4871880"/>
            <a:ext cx="147816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a8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1"/>
          <a:srcRect l="0" t="6103" r="0" b="7680"/>
          <a:stretch/>
        </p:blipFill>
        <p:spPr>
          <a:xfrm>
            <a:off x="160200" y="52560"/>
            <a:ext cx="2025720" cy="77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1290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3"/>
          <p:cNvSpPr/>
          <p:nvPr/>
        </p:nvSpPr>
        <p:spPr>
          <a:xfrm>
            <a:off x="741240" y="555480"/>
            <a:ext cx="1532160" cy="192240"/>
          </a:xfrm>
          <a:prstGeom prst="roundRect">
            <a:avLst>
              <a:gd name="adj" fmla="val 1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Aharoni"/>
                <a:ea typeface="Aharoni"/>
              </a:rPr>
              <a:t>Industrial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3"/>
          <a:stretch/>
        </p:blipFill>
        <p:spPr>
          <a:xfrm>
            <a:off x="1862280" y="1523880"/>
            <a:ext cx="6422760" cy="3195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6"/>
          <p:cNvSpPr/>
          <p:nvPr/>
        </p:nvSpPr>
        <p:spPr>
          <a:xfrm>
            <a:off x="3701520" y="5105520"/>
            <a:ext cx="24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2232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Gantt 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Classification of Maintenance Work According to Planning and Scheduling Purpos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e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aintenance operations of a periodic nature. They are planned and scheduled and in advance. They are covered by blanket 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mergency or breakdown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rupt maintenance schedules in order to be performed. They are planned and scheduled as they happe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sign modification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lanned and scheduled and they depend on eliminating the cause of repeated breakdow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cheduled overhaul and shutdowns of the pla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ned and scheduled in adva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verhaul, general repairs, and replaceme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ned and scheduled in adva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SimSun"/>
              </a:rPr>
              <a:t>Preventive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SimSu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planned and scheduled in advan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 essential part of planning and scheduling is to forecast future work and to balance the workload between these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maintenance management system should aim to have over 90% of the maintenance work planned and schedul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is the process by which the elements required to perform a task are determined in advance of the job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mprises all the functions related to the prepar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e re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planning sheet including standar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ata needed prior to scheduling and releasing the work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lanning is a prerequisite for sound schedu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Procedur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job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work plan. This entails the sequence of the activities in the job and establishing the best methods and procedures to accomplish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crew size for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and order parts and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special tools and equipment are needed and obta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ssign workers with appropriate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9:43Z</dcterms:created>
  <dc:creator>user</dc:creator>
  <dc:description/>
  <dc:language>en-US</dc:language>
  <cp:lastModifiedBy>Emad</cp:lastModifiedBy>
  <dcterms:modified xsi:type="dcterms:W3CDTF">2013-11-23T08:39:18Z</dcterms:modified>
  <cp:revision>10</cp:revision>
  <dc:subject/>
  <dc:title>Maintenance planning and scheduling</dc:title>
</cp:coreProperties>
</file>