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39A0-31CF-40B0-A709-FEA23BCDD605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3F86-890D-4316-AEA2-5FC6E8DC9E52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535-C449-4BD0-9B96-FE5DA7B0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9F6-F13B-4768-85DC-3CB317A9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FF9-F3E7-41EC-83C6-DBD64152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FC1-43EE-411C-BA66-ACB52DE3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71A-9C83-4FBE-BFF1-04910150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933-2CA0-4FAE-AECB-48AC9661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EAC-2A72-4200-A619-FB4871EE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ADF-AB6B-4411-86F3-418C0A68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D72-AB2E-48E5-8DC2-82FEF77F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D90-D6E9-40EC-A790-5F194A50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B6B-DE34-4967-BD19-F276008E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CEE-BAF5-4EC5-BEEC-9E7001B7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14D1-C908-428E-9599-501478364A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tenance Scheduling</a:t>
            </a:r>
            <a:r>
              <a:rPr b="1" lang="ar-SA" sz="36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al Engineering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57200" y="457200"/>
            <a:ext cx="8381880" cy="6095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://peteultra.ksu.edu.sa/courses.nsf/ksu.jpg?OpenImageResource"/>
          <p:cNvPicPr/>
          <p:nvPr/>
        </p:nvPicPr>
        <p:blipFill>
          <a:blip r:embed="rId1"/>
          <a:stretch/>
        </p:blipFill>
        <p:spPr>
          <a:xfrm>
            <a:off x="1295280" y="152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500720" y="6324480"/>
            <a:ext cx="3500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al Engineering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Planning Procedure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safety proced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priorities for all maintenance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 cost accou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the work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backlog and develop plans for controlling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t the maintenance load using effective forecasting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Basic Levels of Planning Process (Depend on The Planning Horizon)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ong-rang planning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t covers a period of 3 to 5 years and sets plans for future activities and long-range impro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Medium-range planning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covers a period of 1 month to 1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Short-rang planning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covers a period of 1 day to 1 week. It focuses on the determination of all the elements required to perform maintenance task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ong and Medium-Range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utiliz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nd forecasting techniques to estimate the maintenance 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le job standards times to estimate staffing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 planning tools such as linear programming to determine resource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ong-Range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plans for future activities and long-range impro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838080" y="3124080"/>
            <a:ext cx="7696440" cy="1828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dium-Range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how the maintenance workers will ope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details of major overhauls, construction jobs, preventive maintenance plans, and plant shutdow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s the need for staffing over the period cov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s required spare parts and material acqui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hort-Range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focuses on the determination of all the elements required to perform maintenance task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838080" y="3124080"/>
            <a:ext cx="7696440" cy="1828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Schedulin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rocess by which jobs are matched with resources and sequenced to be executed at a certain points i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Schedulin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ing deals with the specific time and phasing of planned jobs together with the orders to perform the work, monitoring the work, controlling it, and reporting on job pro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planning needs a feedback from schedu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Reliable Schedule Must Take Into Consideratio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ob priority ranking reflecting the criticality of the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vailability of all materials needed for the work order in the pl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duction master sched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stic estimates and what is likely to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ility in the sched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Elements of Sound Schedulin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for effective schedu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ten work orders that are derived from a well-conceived planning process. (Work to be done, methods to be followed, crafts needed, spare parts needed, and priorit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about craft availability for each shi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s of spare parts and information on resto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AINTENANCE PLANNING AND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planning and scheduling contribute significantly t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maintenance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utilization of the maintenance workforce by reducing delays and interru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quality of maintenance work by adopting the best methods and procedures and assigning the most qualified workers for the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Elements of Sound Schedulin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for effective schedu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n the availability of special equipment and tools necessary for maintenance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he plant production schedule and knowledge about when the facilities will be available for service without interrupting production sched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define priorities for maintenance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about jobs already scheduled that are behind the schedule (backlo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Maintenance Schedule Can be Prepared at Three Levels (Depend on The Time Horizon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ong-range (master)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Weekly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Daily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Long-Range (master) Schedul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ing a period of 3 months to 1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isting maintenance work orders (blanket work order, backlog, PM, anticipated E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ing long-term demand for maintenance work with available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re parts and material could be identified and ordered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to revision and updating to reflect changes in the plans and maintenance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Weekly Schedul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ing 1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d from the master schedu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into account current operations schedules and economic consid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10% to 15% of the workforce to be available for emergenc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hedule prepared for the current week and the following one in order to consider the available back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 orders scheduled in this week are sequenced based in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M and integer programming techniques can be used to generate a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Daily Schedul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ing 1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d from weekly sched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the day bef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rupted to perform 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ies are used to schedule the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Scheduling Procedures (Steps)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t backlog work orders by craf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orders by prio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 list of completed and carry over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job duration, location, travel distance, and the possibility of combining jobs in the sam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multi-craft jobs to start at the beginning of every shi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a daily schedule (not for shutdown maintena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uthorize a supervisor to make work assignments (dispatching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Maintenance Job Priority System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ies are established to ensure that the most critical work is scheduled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eveloped under coordination with operations sta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hould be dynam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updated periodically to reflect changes in operation and maintenance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ypically includes three to ten levels of prio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 algn="ctr"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iorities of Maintenanc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669960" y="1600200"/>
            <a:ext cx="780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Scheduling Technique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ive of the scheduling techniques is to construct a time chart sh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rt and finish for each jo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dependencies among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critical jobs that require special attention and effective moni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Scheduling Technique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techniqu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Modified Gantt ch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teger and stochastic program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Planning and Scheduling Objective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ing the idle time of maintenance wor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ing the efficient use of work time, material, and equi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the operating equipment at a responsive level to the need of production in terms of delivery schedule and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19A7-52A4-41AA-B736-03319F1DBC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730520" y="173160"/>
            <a:ext cx="6281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816200" y="1009800"/>
            <a:ext cx="681984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179280"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1520" y="1531800"/>
            <a:ext cx="15130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e6e6ff"/>
                </a:solidFill>
                <a:latin typeface="Arial"/>
              </a:rPr>
              <a:t>Maintenance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 flipV="1">
            <a:off x="162000" y="825840"/>
            <a:ext cx="8982000" cy="111240"/>
          </a:xfrm>
          <a:prstGeom prst="rect">
            <a:avLst/>
          </a:prstGeom>
          <a:gradFill rotWithShape="0">
            <a:gsLst>
              <a:gs pos="0">
                <a:srgbClr val="ffffff">
                  <a:alpha val="36078"/>
                </a:srgbClr>
              </a:gs>
              <a:gs pos="100000">
                <a:srgbClr val="004586"/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8974080" y="3745080"/>
            <a:ext cx="169920" cy="3112920"/>
          </a:xfrm>
          <a:custGeom>
            <a:avLst/>
            <a:gdLst>
              <a:gd name="textAreaLeft" fmla="*/ 360 w 169920"/>
              <a:gd name="textAreaRight" fmla="*/ 169560 w 169920"/>
              <a:gd name="textAreaTop" fmla="*/ 360 h 3112920"/>
              <a:gd name="textAreaBottom" fmla="*/ 3112560 h 3112920"/>
            </a:gdLst>
            <a:ahLst/>
            <a:rect l="textAreaLeft" t="textAreaTop" r="textAreaRight" b="textAreaBottom"/>
            <a:pathLst>
              <a:path w="21600" h="394919">
                <a:moveTo>
                  <a:pt x="189" y="0"/>
                </a:moveTo>
                <a:arcTo wR="189" hR="189" stAng="16200000" swAng="-5400000"/>
                <a:lnTo>
                  <a:pt x="0" y="394730"/>
                </a:lnTo>
                <a:arcTo wR="189" hR="189" stAng="10800000" swAng="-5400000"/>
                <a:lnTo>
                  <a:pt x="21411" y="394919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gradFill rotWithShape="0">
            <a:gsLst>
              <a:gs pos="0">
                <a:srgbClr val="004586"/>
              </a:gs>
              <a:gs pos="50000">
                <a:srgbClr val="ffffff"/>
              </a:gs>
              <a:gs pos="100000">
                <a:srgbClr val="004586"/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8805960" y="4611600"/>
            <a:ext cx="171360" cy="2246400"/>
          </a:xfrm>
          <a:custGeom>
            <a:avLst/>
            <a:gdLst>
              <a:gd name="textAreaLeft" fmla="*/ 360 w 171360"/>
              <a:gd name="textAreaRight" fmla="*/ 171000 w 171360"/>
              <a:gd name="textAreaTop" fmla="*/ 360 h 2246400"/>
              <a:gd name="textAreaBottom" fmla="*/ 2246040 h 2246400"/>
            </a:gdLst>
            <a:ahLst/>
            <a:rect l="textAreaLeft" t="textAreaTop" r="textAreaRight" b="textAreaBottom"/>
            <a:pathLst>
              <a:path w="21600" h="282611">
                <a:moveTo>
                  <a:pt x="189" y="0"/>
                </a:moveTo>
                <a:arcTo wR="189" hR="189" stAng="16200000" swAng="-5400000"/>
                <a:lnTo>
                  <a:pt x="0" y="282422"/>
                </a:lnTo>
                <a:arcTo wR="189" hR="189" stAng="10800000" swAng="-5400000"/>
                <a:lnTo>
                  <a:pt x="21411" y="282611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gradFill rotWithShape="0">
            <a:gsLst>
              <a:gs pos="0">
                <a:srgbClr val="004586"/>
              </a:gs>
              <a:gs pos="50000">
                <a:srgbClr val="ffffff"/>
              </a:gs>
              <a:gs pos="100000">
                <a:srgbClr val="004586"/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8658360" y="5448240"/>
            <a:ext cx="171360" cy="1430280"/>
          </a:xfrm>
          <a:custGeom>
            <a:avLst/>
            <a:gdLst>
              <a:gd name="textAreaLeft" fmla="*/ 360 w 171360"/>
              <a:gd name="textAreaRight" fmla="*/ 171000 w 171360"/>
              <a:gd name="textAreaTop" fmla="*/ 360 h 1430280"/>
              <a:gd name="textAreaBottom" fmla="*/ 1429920 h 1430280"/>
            </a:gdLst>
            <a:ahLst/>
            <a:rect l="textAreaLeft" t="textAreaTop" r="textAreaRight" b="textAreaBottom"/>
            <a:pathLst>
              <a:path w="21600" h="179955">
                <a:moveTo>
                  <a:pt x="189" y="0"/>
                </a:moveTo>
                <a:arcTo wR="189" hR="189" stAng="16200000" swAng="-5400000"/>
                <a:lnTo>
                  <a:pt x="0" y="179766"/>
                </a:lnTo>
                <a:arcTo wR="189" hR="189" stAng="10800000" swAng="-5400000"/>
                <a:lnTo>
                  <a:pt x="21411" y="17995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gradFill rotWithShape="0">
            <a:gsLst>
              <a:gs pos="0">
                <a:srgbClr val="004586"/>
              </a:gs>
              <a:gs pos="50000">
                <a:srgbClr val="ffffff"/>
              </a:gs>
              <a:gs pos="100000">
                <a:srgbClr val="004586"/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1614600" y="858960"/>
            <a:ext cx="88920" cy="5808600"/>
          </a:xfrm>
          <a:custGeom>
            <a:avLst/>
            <a:gdLst>
              <a:gd name="textAreaLeft" fmla="*/ 360 w 88920"/>
              <a:gd name="textAreaRight" fmla="*/ 88560 w 88920"/>
              <a:gd name="textAreaTop" fmla="*/ 360 h 5808600"/>
              <a:gd name="textAreaBottom" fmla="*/ 5808240 h 5808600"/>
            </a:gdLst>
            <a:ahLst/>
            <a:rect l="textAreaLeft" t="textAreaTop" r="textAreaRight" b="textAreaBottom"/>
            <a:pathLst>
              <a:path w="21600" h="1405394">
                <a:moveTo>
                  <a:pt x="300" y="0"/>
                </a:moveTo>
                <a:arcTo wR="300" hR="300" stAng="16200000" swAng="-5400000"/>
                <a:lnTo>
                  <a:pt x="0" y="1405094"/>
                </a:lnTo>
                <a:arcTo wR="300" hR="300" stAng="10800000" swAng="-5400000"/>
                <a:lnTo>
                  <a:pt x="21300" y="1405394"/>
                </a:lnTo>
                <a:arcTo wR="300" hR="300" stAng="5400000" swAng="-5400000"/>
                <a:lnTo>
                  <a:pt x="21600" y="300"/>
                </a:lnTo>
                <a:arcTo wR="300" hR="3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4586"/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36440" y="2975040"/>
            <a:ext cx="14781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e6e6ff"/>
                </a:solidFill>
                <a:latin typeface="Arial"/>
              </a:rPr>
              <a:t>Scheduling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36440" y="4871880"/>
            <a:ext cx="1478160" cy="15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a8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1"/>
          <a:srcRect l="0" t="6103" r="0" b="7680"/>
          <a:stretch/>
        </p:blipFill>
        <p:spPr>
          <a:xfrm>
            <a:off x="160200" y="52560"/>
            <a:ext cx="2025720" cy="777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1290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3"/>
          <p:cNvSpPr/>
          <p:nvPr/>
        </p:nvSpPr>
        <p:spPr>
          <a:xfrm>
            <a:off x="741240" y="555480"/>
            <a:ext cx="1532160" cy="192240"/>
          </a:xfrm>
          <a:prstGeom prst="roundRect">
            <a:avLst>
              <a:gd name="adj" fmla="val 1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Aharoni"/>
                <a:ea typeface="Aharoni"/>
              </a:rPr>
              <a:t>Industrial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6" descr=""/>
          <p:cNvPicPr/>
          <p:nvPr/>
        </p:nvPicPr>
        <p:blipFill>
          <a:blip r:embed="rId3"/>
          <a:stretch/>
        </p:blipFill>
        <p:spPr>
          <a:xfrm>
            <a:off x="1862280" y="1523880"/>
            <a:ext cx="6422760" cy="3195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6"/>
          <p:cNvSpPr/>
          <p:nvPr/>
        </p:nvSpPr>
        <p:spPr>
          <a:xfrm>
            <a:off x="3701520" y="5105520"/>
            <a:ext cx="24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2232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  <a:ea typeface="Arial"/>
              </a:rPr>
              <a:t>Gantt Cha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Classification of Maintenance Work According to Planning and Scheduling Purpos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outine maintenance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maintenance operations of a periodic nature. They are planned and scheduled and in advance. They are covered by blanket 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mergency or breakdown maintenance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rupt maintenance schedules in order to be performed. They are planned and scheduled as they happen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sign modification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planned and scheduled and they depend on eliminating the cause of repeated breakdow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cheduled overhaul and shutdowns of the plant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ned and scheduled in advan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verhaul, general repairs, and replacement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ned and scheduled in advan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SimSun"/>
              </a:rPr>
              <a:t>Preventive maintenance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SimSu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planned and scheduled in advanc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n essential part of planning and scheduling is to forecast future work and to balance the workload between these categ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maintenance management system should aim to have over 90% of the maintenance work planned and schedule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Planning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is the process by which the elements required to perform a task are determined in advance of the job st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Planning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mprises all the functions related to the prepar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l of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chase requi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ary dra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 planning sheet including standar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ata needed prior to scheduling and releasing the work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planning is a prerequisite for sound schedu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Planning Procedure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job con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work plan. This entails the sequence of the activities in the job and establishing the best methods and procedures to accomplish the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crew size for the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and order parts and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f special tools and equipment are needed and obtain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ssign workers with appropriate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1:49:43Z</dcterms:created>
  <dc:creator>user</dc:creator>
  <dc:description/>
  <dc:language>en-US</dc:language>
  <cp:lastModifiedBy>Emad</cp:lastModifiedBy>
  <dcterms:modified xsi:type="dcterms:W3CDTF">2013-11-23T08:39:18Z</dcterms:modified>
  <cp:revision>10</cp:revision>
  <dc:subject/>
  <dc:title>Maintenance planning and scheduling</dc:title>
</cp:coreProperties>
</file>