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AD3-734C-43B6-B391-8A254775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B699-483D-4990-9858-EE2F1AC8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B9A-F03A-49FC-B38C-3345FFDC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AB84-091E-43F9-A9E8-8816A5A4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AB69-EB46-4FBB-B449-2EC84EC5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6000-D29D-424C-A578-BD448158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E802-8339-46E2-AA76-B64A7246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E172-F668-4C43-97A0-A64D90E2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F0AA-BF5B-4C2F-BEC2-C3C33D11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C09A-3780-4B67-9E8C-D5826C96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8E08-2F1B-41D7-91BC-85A2E6DA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05D-4EAE-4B6F-A83B-22AFF2BE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74CC-008D-44D5-9F8E-30B1A795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30C9-B79A-4FD5-8C7D-47D2ECAB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0FB8-B465-456B-BC25-CCFD4257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AE53-0D50-4C91-8501-97D1C6FB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F648-06A0-4CD2-9507-BE7A891D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EE21-6894-44E1-8C66-CEA708C4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A1E8-8D46-44F8-8285-7D7496F2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8C4E-BCB6-4627-89EE-56CC63A9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7C0E-725D-4DCB-B2A7-8B86B9BB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63A-590B-45B3-A5C2-9EDA68C2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ACAC-B53B-4BE5-AFE5-58B21F7A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B64-688F-4CEE-8D33-1A69DC4A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3134-ACA4-4CAE-9363-046E21D43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0E67-CC98-479D-842D-B430898F8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ssification of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sychiatric Disord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Dr. Fatima Alhaida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fessor &amp; Consulta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ild &amp; Adolescent Psychiatrist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4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llege of Medicine, KSU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euros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satisfactory term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fers to mental disorders that are generally less severe than psychosi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aracteristic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-   Symptoms are closer to normal experience e.g. anxiety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685800" y="1523880"/>
          <a:ext cx="7772400" cy="4044960"/>
        </p:xfrm>
        <a:graphic>
          <a:graphicData uri="http://schemas.openxmlformats.org/drawingml/2006/table">
            <a:tbl>
              <a:tblPr/>
              <a:tblGrid>
                <a:gridCol w="2057400"/>
                <a:gridCol w="2819520"/>
                <a:gridCol w="289548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Neuros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Psychos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Severity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Featur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Insigh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Treatme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Minor mental illnes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Abnormal in quant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e.g. anxie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Preserv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Psychological &amp; drug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Major mental illnes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Abnormal in qual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e.g. hallucinat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Affect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Drugs &amp; EC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Features Suggesting of Organic Mental Illness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turbed conscious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turbed cognitive func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.  Attention and concen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. orientation: time, place &amp; per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.  Memory : immediate, recent and remo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ce of physical illness e.g. DM, HT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ce of neurological features e.g.  dysarthria &amp; atax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ld age on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77640"/>
            <a:ext cx="731340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Introduction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of physical conditions are classified on the basis of etiology, e.g.: viral pneumon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the basis of structural pathology, e.g.: Bronchopneumon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ed on symptoms, e.g. migrai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sychiatric disorders are diagnosed based mainly on symptoms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w are based on etiology e.g. Alzheimer’s dise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7007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Purposes of Classification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69800" y="1523880"/>
            <a:ext cx="7313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make generally acceptable diagnosi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facilitate communication between psychiatrists, other doctors and professional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make generalizations in treatment response, course &amp; prognosis of individual patient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make framework for research in psychiatry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ypes of Classification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5256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ategorical Classif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5256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5256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Grouping disorders into separate entities according to symptom – pattern, course and outco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5256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It includes hierarchal categor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5256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.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c mental disorders then functional psychotic disorders (e.g. Schizophrenia) then neurotic disorder (e.g. generalized anxiety disorder) then personality disord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5256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lso it includes in-built hierarchy of significance within the disorders themselv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5256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.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xiety symptoms occur commonly with depressive disord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5256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606600"/>
            <a:ext cx="7313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  Dimensional Classification: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72840" y="1827000"/>
            <a:ext cx="690732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- Diagnosing individual patients by giving him scores on separate dimensions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.g. Psychoticism, neuroticism, introversion and extro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682200"/>
            <a:ext cx="7313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 Multiaxial Approach: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72840" y="1965240"/>
            <a:ext cx="690732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pplied to schemes of classifications in which two or more separate sets of information are cod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.g.  DSM,  IC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Basic Categories of Classification in Psychiatry: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tal Retardation – impairment of intellectual functioning, present continuously from early lif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ality Disorders – a pattern of inner feeling experience and behavior that deviates markedly from the expectations of the individual’s culture, presents continuously since adolescence or early adultho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tal Disorders – abnormality of behavior or psychological experience with recognizable onset after a period of normal function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ss related or adjustment disord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Disorders – e.g. Sexual disorders, drug depen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rning and developmental disord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orders with onset in childhood or adolesc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5715000" y="2514600"/>
            <a:ext cx="259092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276720" y="457200"/>
            <a:ext cx="312408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066680" y="2514600"/>
            <a:ext cx="243864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3352680" y="533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iatric Disor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143000" y="2590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486400" y="2590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Organ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4876920" y="1066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2362320" y="15238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236232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70102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2362320" y="31240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7010280" y="31240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1828800" y="4419720"/>
            <a:ext cx="1295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hron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ment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orsakof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3429000" y="4419720"/>
            <a:ext cx="12193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cohol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ad Inju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c…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304920" y="4419720"/>
            <a:ext cx="1295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cu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iru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rnicke’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762120" y="3657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76212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396252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4724280" y="4419720"/>
            <a:ext cx="1371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sycho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izophren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od disord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c…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6172200" y="4419720"/>
            <a:ext cx="1523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euro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xiety disord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justment di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ysthym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sociative di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7696080" y="4419720"/>
            <a:ext cx="14479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ality di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eep dis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x dis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ici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25"/>
          <p:cNvSpPr/>
          <p:nvPr/>
        </p:nvSpPr>
        <p:spPr>
          <a:xfrm>
            <a:off x="5105520" y="36576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26"/>
          <p:cNvSpPr/>
          <p:nvPr/>
        </p:nvSpPr>
        <p:spPr>
          <a:xfrm>
            <a:off x="510552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868680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Neurosis and Psychosi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ychos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unsatisfactory te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refers broadly to severe forms of mental disorders such a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. organic mental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. schizophren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. affective disor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acteristic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greater seve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lack of ins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patient’s inability to distinguish between subjective experience and reality e.g. hallucinations, delus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1:02:02Z</dcterms:created>
  <dc:creator>Jose Wendell Cuyos</dc:creator>
  <dc:description/>
  <dc:language>en-US</dc:language>
  <cp:lastModifiedBy>Mac</cp:lastModifiedBy>
  <dcterms:modified xsi:type="dcterms:W3CDTF">2012-02-07T19:09:26Z</dcterms:modified>
  <cp:revision>20</cp:revision>
  <dc:subject/>
  <dc:title>Classification of  Psychiatric Disorders</dc:title>
</cp:coreProperties>
</file>