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1025-D755-4320-98C4-0831ED384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CD38-4DF8-475D-B60A-C8620937C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E464-2D84-41CF-B06A-DB0333363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471A-A086-4597-A6DD-3FC464ADB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F7954-3CFC-43A2-91B7-E30D6D757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532B1-7F03-4141-8612-A67B21E88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73E1C-BDDD-403B-BD28-F339C2019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8D88B-E71E-42AC-86BE-564E48187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312F1-F2CA-4536-9B8D-4F18B9B61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5171F-71AF-41DF-A11D-88F4E29D9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E87ED-654C-40C0-99A5-CEA41EE91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37FA-5E6E-4BFF-ACD1-5B5E8F37F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AC573-9C44-41D7-B750-323B01EB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EA645-93C7-412F-92E2-4E0144D0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604E9-AD39-4E38-AA93-B4777432A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F323B-8BF3-41BC-8E2B-68864E3BF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2525D-F297-485F-97EC-189AEAE89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B937-7011-49F7-B2A3-65E494CC7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3ADB-14E8-4D1F-A102-CA6285EBD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8DF1-3F66-4B78-85B6-A7D218C01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B9C2-4FED-47B5-94B8-F08C02E85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67CA-6529-4574-BDA5-C0130EE7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5365-9709-4E85-A227-F3A935C99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EECF-F650-47B5-88B7-FFB3EF8BA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2CC5C-2716-4583-B3A9-3C8F2FDEB9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EB17A-1EE8-4B3B-BA13-4B476E301E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543800" cy="167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assification of 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sychiatric Disorder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Verdana"/>
              </a:rPr>
              <a:t>Dr. Fatima Alhaida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rofessor &amp; Consultan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hild &amp; Adolescent Psychiatrist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4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llege of Medicine, KSU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eurosi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unsatisfactory term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Refers to mental disorders that are generally less severe than psychosis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haracteristics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-   Symptoms are closer to normal experience e.g. anxiety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685800" y="1523880"/>
          <a:ext cx="7772400" cy="4044960"/>
        </p:xfrm>
        <a:graphic>
          <a:graphicData uri="http://schemas.openxmlformats.org/drawingml/2006/table">
            <a:tbl>
              <a:tblPr/>
              <a:tblGrid>
                <a:gridCol w="2057400"/>
                <a:gridCol w="2819520"/>
                <a:gridCol w="2895480"/>
              </a:tblGrid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990000"/>
                          </a:solidFill>
                          <a:latin typeface="Verdana"/>
                        </a:rPr>
                        <a:t>Neurosi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100" spc="-1" strike="noStrike">
                          <a:solidFill>
                            <a:srgbClr val="990000"/>
                          </a:solidFill>
                          <a:latin typeface="Verdana"/>
                        </a:rPr>
                        <a:t>Psychosis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990000"/>
                          </a:solidFill>
                          <a:latin typeface="Verdana"/>
                        </a:rPr>
                        <a:t>Severity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990000"/>
                          </a:solidFill>
                          <a:latin typeface="Verdana"/>
                        </a:rPr>
                        <a:t>Featur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990000"/>
                          </a:solidFill>
                          <a:latin typeface="Verdana"/>
                        </a:rPr>
                        <a:t>Insigh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>
                          <a:solidFill>
                            <a:srgbClr val="990000"/>
                          </a:solidFill>
                          <a:latin typeface="Verdana"/>
                        </a:rPr>
                        <a:t>Treatmen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Minor mental illnes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Abnormal in quantit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9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e.g. anxiet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Preserved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Psychological &amp; drug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Major mental illnes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Abnormal in qualit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9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e.g. hallucinat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Affected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6666"/>
                          </a:solidFill>
                          <a:latin typeface="Verdana"/>
                        </a:rPr>
                        <a:t>Drugs &amp; EC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45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Features Suggesting of Organic Mental Illness: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turbed consciousnes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turbed cognitive functi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.  Attention and concent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. orientation: time, place &amp; pers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.  Memory : immediate, recent and remo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ce of physical illness e.g. DM, HT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ce of neurological features e.g.  dysarthria &amp; atax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ld age onse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77640"/>
            <a:ext cx="7313400" cy="61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Introduction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st of physical conditions are classified on the basis of etiology, e.g.: viral pneumon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 the basis of structural pathology, e.g.: Bronchopneumon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ased on symptoms, e.g. migrain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sychiatric disorders are diagnosed based mainly on symptoms.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ew are based on etiology e.g. Alzheimer’s diseas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520" y="380520"/>
            <a:ext cx="7007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Purposes of Classification: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69800" y="1523880"/>
            <a:ext cx="7313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o make generally acceptable diagnosis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o facilitate communication between psychiatrists, other doctors and professionals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o make generalizations in treatment response, course &amp; prognosis of individual patients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o make framework for research in psychiatry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45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6666"/>
                </a:solidFill>
                <a:uFillTx/>
                <a:latin typeface="Arial"/>
              </a:rPr>
              <a:t>Types of Classification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5256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ategorical Classific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5256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5256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Grouping disorders into separate entities according to symptom – pattern, course and outcom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5256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It includes hierarchal categori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5256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.g.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ganic mental disorders then functional psychotic disorders (e.g. Schizophrenia) then neurotic disorder (e.g. generalized anxiety disorder) then personality disord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5256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lso it includes in-built hierarchy of significance within the disorders themselv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5256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.g.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xiety symptoms occur commonly with depressive disord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5256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606600"/>
            <a:ext cx="73134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2.  Dimensional Classification: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72840" y="1827000"/>
            <a:ext cx="690732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- Diagnosing individual patients by giving him scores on separate dimensions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.g. Psychoticism, neuroticism, introversion and extrovers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682200"/>
            <a:ext cx="7313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3. Multiaxial Approach: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72840" y="1965240"/>
            <a:ext cx="6907320" cy="39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pplied to schemes of classifications in which two or more separate sets of information are coded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.g.  DSM,  ICD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The Basic Categories of Classification in Psychiatry: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ntal Retardation – impairment of intellectual functioning, present continuously from early lif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ersonality Disorders – a pattern of inner feeling experience and behavior that deviates markedly from the expectations of the individual’s culture, presents continuously since adolescence or early adulthoo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ntal Disorders – abnormality of behavior or psychological experience with recognizable onset after a period of normal functioning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ress related or adjustment disord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ther Disorders – e.g. Sexual disorders, drug depende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arning and developmental disord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orders with onset in childhood or adolescenc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8"/>
          <p:cNvSpPr/>
          <p:nvPr/>
        </p:nvSpPr>
        <p:spPr>
          <a:xfrm>
            <a:off x="5715000" y="2514600"/>
            <a:ext cx="2590920" cy="6094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3276720" y="457200"/>
            <a:ext cx="3124080" cy="6094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1066680" y="2514600"/>
            <a:ext cx="2438640" cy="6094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3352680" y="5335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ychiatric Disord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143000" y="25909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gani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5486400" y="2590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Organi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Line 9"/>
          <p:cNvSpPr/>
          <p:nvPr/>
        </p:nvSpPr>
        <p:spPr>
          <a:xfrm>
            <a:off x="4876920" y="1066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Line 10"/>
          <p:cNvSpPr/>
          <p:nvPr/>
        </p:nvSpPr>
        <p:spPr>
          <a:xfrm>
            <a:off x="2362320" y="1523880"/>
            <a:ext cx="464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Line 11"/>
          <p:cNvSpPr/>
          <p:nvPr/>
        </p:nvSpPr>
        <p:spPr>
          <a:xfrm>
            <a:off x="2362320" y="1600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Line 12"/>
          <p:cNvSpPr/>
          <p:nvPr/>
        </p:nvSpPr>
        <p:spPr>
          <a:xfrm>
            <a:off x="7010280" y="16002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Line 13"/>
          <p:cNvSpPr/>
          <p:nvPr/>
        </p:nvSpPr>
        <p:spPr>
          <a:xfrm>
            <a:off x="2362320" y="31240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Line 14"/>
          <p:cNvSpPr/>
          <p:nvPr/>
        </p:nvSpPr>
        <p:spPr>
          <a:xfrm>
            <a:off x="7010280" y="31240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15"/>
          <p:cNvSpPr/>
          <p:nvPr/>
        </p:nvSpPr>
        <p:spPr>
          <a:xfrm>
            <a:off x="1828800" y="4419720"/>
            <a:ext cx="12952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Chronic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menti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orsakoff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17"/>
          <p:cNvSpPr/>
          <p:nvPr/>
        </p:nvSpPr>
        <p:spPr>
          <a:xfrm>
            <a:off x="3429000" y="4419720"/>
            <a:ext cx="121932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Oth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cohol …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ead Inju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tc…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18"/>
          <p:cNvSpPr/>
          <p:nvPr/>
        </p:nvSpPr>
        <p:spPr>
          <a:xfrm>
            <a:off x="304920" y="4419720"/>
            <a:ext cx="12952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Acu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liru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ernicke’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Line 19"/>
          <p:cNvSpPr/>
          <p:nvPr/>
        </p:nvSpPr>
        <p:spPr>
          <a:xfrm>
            <a:off x="762120" y="36576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Line 20"/>
          <p:cNvSpPr/>
          <p:nvPr/>
        </p:nvSpPr>
        <p:spPr>
          <a:xfrm>
            <a:off x="762120" y="3657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Line 21"/>
          <p:cNvSpPr/>
          <p:nvPr/>
        </p:nvSpPr>
        <p:spPr>
          <a:xfrm>
            <a:off x="3962520" y="3657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22"/>
          <p:cNvSpPr/>
          <p:nvPr/>
        </p:nvSpPr>
        <p:spPr>
          <a:xfrm>
            <a:off x="4724280" y="4419720"/>
            <a:ext cx="13716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Psychos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izophreni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od disord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tc…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Text Box 23"/>
          <p:cNvSpPr/>
          <p:nvPr/>
        </p:nvSpPr>
        <p:spPr>
          <a:xfrm>
            <a:off x="6172200" y="4419720"/>
            <a:ext cx="152388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Neuros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xiety disord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djustment di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ysthymi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sociative di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 Box 24"/>
          <p:cNvSpPr/>
          <p:nvPr/>
        </p:nvSpPr>
        <p:spPr>
          <a:xfrm>
            <a:off x="7696080" y="4419720"/>
            <a:ext cx="144792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Oth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rsonality di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eep disord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x disord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icid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Line 25"/>
          <p:cNvSpPr/>
          <p:nvPr/>
        </p:nvSpPr>
        <p:spPr>
          <a:xfrm>
            <a:off x="5105520" y="3657600"/>
            <a:ext cx="358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Line 26"/>
          <p:cNvSpPr/>
          <p:nvPr/>
        </p:nvSpPr>
        <p:spPr>
          <a:xfrm>
            <a:off x="5105520" y="3657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Line 28"/>
          <p:cNvSpPr/>
          <p:nvPr/>
        </p:nvSpPr>
        <p:spPr>
          <a:xfrm>
            <a:off x="8686800" y="3657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Neurosis and Psychosis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sychosi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unsatisfactory ter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refers broadly to severe forms of mental disorders such as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. organic mental disea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. schizophren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. affective disord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aracteristic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greater sever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lack of insigh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patient’s inability to distinguish between subjective experience and reality e.g. hallucinations, delus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11:02:02Z</dcterms:created>
  <dc:creator>Jose Wendell Cuyos</dc:creator>
  <dc:description/>
  <dc:language>en-US</dc:language>
  <cp:lastModifiedBy>Mac</cp:lastModifiedBy>
  <dcterms:modified xsi:type="dcterms:W3CDTF">2012-02-07T19:09:26Z</dcterms:modified>
  <cp:revision>20</cp:revision>
  <dc:subject/>
  <dc:title>Classification of  Psychiatric Disorders</dc:title>
</cp:coreProperties>
</file>