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CDF-22AE-434E-984B-FE5995ED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0B7-9064-4D32-9A97-340FA0BF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7CF-C8BA-4B86-8A84-6846F12D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BC2-4E12-4835-9D80-D6535001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76CD-58FF-434C-9A09-B5284EC8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1877-A2F0-4558-BFA8-F42E2DDC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453F-DA6C-4918-B5AF-417C5CD1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2EC8-AAD7-41F2-99D5-5ABB573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4834-68D8-4601-88DA-4C1BC26F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8FB8-E223-4E48-8F6C-5B4E6150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A4D4-05D2-49FB-B273-AD9565F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298-7E05-43AC-9FA9-7BB116F6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9494-CCA3-46A2-AF1E-4ECECF8F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9668-4A89-478A-B045-7D02C434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88D1-78DB-4E1C-86D1-C83435F7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F705-1790-4EE4-B297-FB131DF9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0536-4778-461B-BCFB-DEC212C3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816-8189-43AA-B566-2CDE7EF1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892-3FC7-4FE7-B595-BC95BE94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4E3-29BD-4009-9E9C-961D5EFF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385-9BF0-4A86-9FED-22CC6771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D39-09B9-4807-A005-152D088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4D0-4634-4E5A-9B80-E71ADCFA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158-330B-405D-9B87-648D5DAA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8C49-C496-4B17-9FB0-9F6DC2F36EC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5B17-F62C-4E89-8C57-C3BFC7713C9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429000" y="2860560"/>
            <a:ext cx="50292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rapeutic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ective communic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s purposeful and goal-oriented, creating a beneficial outcome for th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oals of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rapeutic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btain or provid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elop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w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nhancing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Disclo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uine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athy (the capacity to understand another’s feelin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and resp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unication Techniqu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ing/valid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ing open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indirect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rriers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arrier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reassu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gmental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ive ref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ing/Disagreeing or Approving/ Disappro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ad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ing an expla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urse-Client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 nurse-client interaction should involve therapeutic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-client communication is influenced by both the nurse and th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ree Phases of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urse-Client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: Fairly short; expectations clarified; mutual goal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: Major portion of the interaction; used to accomplish goals outlined in introduction; feedback from client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on: Nurse asks if client has questions; summarizing the topic is another way to indicate cl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terminant Factors in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rse’s communication is affe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terminant Factors in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ient’s communication is affe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of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, Hearing and Speech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Pro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ding and receiving of a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pects of Communication (i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- the one who conveys the message to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- the thought, idea, or emotion conve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- how the message is 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pects of Communication (ii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- physiological/ psychological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- the receiver’s response to the s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s - Culture, education, emotions and other factors inv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thods of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3200" y="1989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- Speaking, Listening, Writing,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verbal - Gestures, Facial Expressions, Posture and Gait, Tone of Voice, Touch, Eye Contact,  Body Position, Physical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fluences on Communic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3840" y="1844640"/>
            <a:ext cx="3979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gruency of Mess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and nonverbal communication must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in agre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ing and Observ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 and observing are two of the most valuable skills a nurse can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skills are used to gather the subjective and objective data for the nursing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hearing spoken words and noting nonverbal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istening takes energy and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22:02:46Z</dcterms:created>
  <dc:creator>Karen Levine/Alan Gelb</dc:creator>
  <dc:description/>
  <dc:language>en-US</dc:language>
  <cp:lastModifiedBy>bswell.com</cp:lastModifiedBy>
  <dcterms:modified xsi:type="dcterms:W3CDTF">2008-03-25T06:33:38Z</dcterms:modified>
  <cp:revision>54</cp:revision>
  <dc:subject/>
  <dc:title>PowerPoint Presentation</dc:title>
</cp:coreProperties>
</file>