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44C-F606-45AA-8C6E-895FB568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421-F3C3-4BC3-A3E0-DC3484A6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74E-38BA-4091-BE0B-7937D0B4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28E3-C31B-4A33-B395-94B7B478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5444-0CE4-4DB0-BBD3-2C6673BA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5E2B-9399-41A3-B086-EF655746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1D04-97F5-4F7D-B3A3-1BF320F5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800F-5636-472A-AB60-E898F294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BCA4-10E2-4090-8FA3-A83EA10C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A254-8A4B-499F-AFC6-678713F4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1D38-89E6-449E-B045-076AF9FA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2E8-297D-4F40-84D9-4FDA0488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692A-3C6F-4C54-BD3F-68CAE3AE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0FDB-E3A3-411F-9075-9F8DA747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22F5-BC3C-4B69-8951-224D544B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BB9C-34B6-4287-9234-B3C7DEA6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8C0E-AD0F-4384-8CA8-C8CE7C63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C19-56E1-4CAA-94D3-A9A38F29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420-C884-4F17-B3C8-A528944C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F03-D7C7-4099-8EA9-E2746C7E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B724-AE21-4E37-B576-0176A487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AAB8-6F81-4723-A941-752EA01F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BC9-8F6B-49D7-BF13-EE0DCFD4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A57D-8CA0-4812-B499-5C73BA88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98FA-69A7-4A37-8F11-CCE558ED50F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5132-B371-4AD4-BA94-60B27720B17E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429000" y="2860560"/>
            <a:ext cx="50292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rapeutic Communic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3320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ffective communication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is purposeful and goal-oriented, creating a beneficial outcome for the cl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oals of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rapeutic Communic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33200" y="206028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obtain or provid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velop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how c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lore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nhancing Communic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33200" y="2205000"/>
            <a:ext cx="7729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Disclo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uine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List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athy (the capacity to understand another’s feeling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ance and resp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munication Techniqu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33200" y="206028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ying/valida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ing open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indirect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phra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arriers Communic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33200" y="2205000"/>
            <a:ext cx="7729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barrier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se reassu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gmental respo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sive ref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ing/Disagreeing or Approving/ Disappro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ing ad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ing an expla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Nurse-Client Communic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33200" y="2205000"/>
            <a:ext cx="7729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every nurse-client interaction should involve therapeutic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-client communication is influenced by both the nurse and the cl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ree Phases of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Nurse-Client Communic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3320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: Fairly short; expectations clarified; mutual goals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: Major portion of the interaction; used to accomplish goals outlined in introduction; feedback from client ess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ion: Nurse asks if client has questions; summarizing the topic is another way to indicate clo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terminant Factors in Communic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33200" y="2205000"/>
            <a:ext cx="7729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rse’s communication is affec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terminant Factors in Communic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33200" y="206028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ient’s communication is affec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Consciou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of Il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, Hearing and Speech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Pro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3320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nding and receiving of a mes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spects of Communication (i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7128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er - the one who conveys the message to another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- the thought, idea, or emotion conve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 - how the message is 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spects of Communication (ii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- physiological/ psychological com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- the receiver’s response to the s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s - Culture, education, emotions and other factors invol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ethods of Communic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33200" y="1989000"/>
            <a:ext cx="7729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 - Speaking, Listening, Writing,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verbal - Gestures, Facial Expressions, Posture and Gait, Tone of Voice, Touch, Eye Contact,  Body Position, Physical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fluences on Communic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040" y="1844640"/>
            <a:ext cx="397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63840" y="1844640"/>
            <a:ext cx="3979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u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gruency of Messag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3320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 and nonverbal communication must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gru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in agre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istening and Observ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33200" y="206028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ing and observing are two of the most valuable skills a nurse can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two skills are used to gather the subjective and objective data for the nursing assess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ctive Liste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3320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of hearing spoken words and noting nonverbal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listening takes energy and concen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22:02:46Z</dcterms:created>
  <dc:creator>Karen Levine/Alan Gelb</dc:creator>
  <dc:description/>
  <dc:language>en-US</dc:language>
  <cp:lastModifiedBy>bswell.com</cp:lastModifiedBy>
  <dcterms:modified xsi:type="dcterms:W3CDTF">2008-03-25T06:33:38Z</dcterms:modified>
  <cp:revision>54</cp:revision>
  <dc:subject/>
  <dc:title>PowerPoint Presentation</dc:title>
</cp:coreProperties>
</file>