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7F2-CB6A-4E9D-8F4C-41F1B7D8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03AA-5A1B-4388-ABC9-C7E8BD0F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FFC5-4135-4F0D-86EE-BCDDAC62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B7E-5A48-4746-B022-9E21113B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4012-0054-46B7-90A1-C0E836A8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268C-11A0-4BEF-80AB-7EE9232D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C889-08DB-4219-BD0B-F8E37EBD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4C42-255E-4163-AFE9-179A9121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00B9-153F-4F41-8D9F-BEBADC6B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B3A6-C16D-4A1B-B7E3-5FF9E391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0A53-EC6F-4E5D-96F8-BA921F4E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9ED-E149-4B5F-A737-C8706D9B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084B-4480-47DC-B665-910B4BB1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5EA9-D633-489B-B395-21EC6A0E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DE6B-B789-43E8-A35E-93226A62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B0A9-E19D-4FDC-AB66-37868A12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866B-7439-4972-8529-B6579ED0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8B74B-2488-483B-8D1A-10BDFB20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9D915-317B-4041-A88C-D1A5A632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7908C-83C5-4C08-B853-203C73D4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0D19D-8307-41FF-803A-185777E4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FE49E-50AE-4012-B18C-D898B5C2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9084-7C7F-4703-889B-8E303585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8EECA-EB54-49E8-9EFD-DCDFBF9F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129EA-4B1F-4AE5-B053-5890FD5C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C989E-F9D5-4091-97FC-28CAAA5E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53D53-CEE7-4347-AE75-BACF208A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34914-6FC3-4922-B623-3F3374FA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50296-5026-4BBA-B23A-1DB0C40C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7ED78-25BD-4BE8-BE79-CF4EAA86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E9E1E-2AF1-487C-8B18-A475FE0A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B9803-5B7F-4E5F-A9D3-13306726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10BCC-2490-4B9F-AAB3-3DE14CA3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F869-7C33-4E58-8C9D-2E13ED67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C633B-EA1D-4837-AE9D-91A69D4A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03BEA-8139-4DE9-B5F3-E65E5333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62F45-7F03-46EC-A8ED-A85379BB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CBF75-7646-4579-84FA-0AAC5555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B11AE-8772-42CA-B674-1F8780E5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80FDC-636F-4A0A-BCCD-E9F1033A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D4886-B359-4D84-B8AD-F839A2A7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93672-6FBD-4F80-B327-8E89F34E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EBAAE-D4A7-4898-BD9D-37DEF15B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AD7E7-3BED-4C25-91F6-02AE5B7E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46E-EFA0-40BE-BD61-DFD8101B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3E444-9CED-4218-B428-02BA3176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72D3F-7FA2-4943-AD01-C47BA5BA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8A454-69C5-483D-AFE5-066667D0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2F670-6ABD-4BC0-AD6A-01DA3B76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F19C6-0475-4EEC-A228-FAA33571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E009A-9D79-4ECE-88F1-7D199015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5249E-ADCD-4C10-8591-2429A8D1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8B006-C8C6-4629-9246-56D97A67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5910B-9032-4435-B3BC-7714E43B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293AA-154E-4E00-B870-5A0A61C4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65F-A2E4-4925-BCF1-9CAA27C9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2929B-BC0B-4D46-AC7C-EFC14E3F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10E32-249C-477C-BBD4-E3410E05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B27A0-5F44-48BD-82EF-D09D153D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C475A-1177-4A5F-9842-335F3FFC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1EA8D-63B1-4782-B03C-1C2611E3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3477D-D8BC-4F09-BE52-98FA3472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E78F4-225F-4418-A96C-B7B59F8C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51576-F469-4EDE-912E-0AF89CE4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B5BCF-F6FD-4EFB-A464-B77F6898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55D65-F659-4280-A61A-CA559114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F24-8B46-4A60-82A5-B46D06CC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93BDA-8F43-4487-907B-3C39646E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F696E-64D0-49C1-88CD-66E2312D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57C2D-7884-415D-882B-A1069DBD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0D87E-5934-413E-B229-A8593E7A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2DCBB-CB08-461C-B894-D9378D98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B290D-FCC1-4F4B-8117-FD12AA64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FA765-FD64-4657-BA23-78DB226A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10AB8-C61A-4CEF-8E96-08578027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BCB79-21DC-43FE-8DF2-98247035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12A65-DB08-408D-AEB1-ED47B7A1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129-8296-4716-97C9-A748BB96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7642A-E4AA-4497-903C-BE58093B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4ADDB-96FB-47E5-9DF2-CA37C42C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2F3E1-6594-4D49-81FA-95614D66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66415-3210-43C9-ABD1-67A1B281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04CB5-AF1F-430B-A51D-E628248A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B28-21D5-4B5A-BE5A-707FB3B8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0878-2414-4AD4-95D4-651848B02784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شكل بيضاوي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شكل بيضاوي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C4B6-449F-4732-BDA5-315C1B00C274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مستطيل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شكل بيضاوي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شكل بيضاوي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9192-41A9-4830-B12F-5747391E0525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C626-EABA-496E-B7D4-F4FF2A50A547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7549-D1B9-426C-A3C1-644875F89164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A940-1239-43A4-B328-547AF3BCF354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مخطط انسيابي: معالجة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مخطط انسيابي: معالجة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831C-7A96-420A-BB31-184370C38F36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omparisons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770f6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Irregular form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ood &gt;&gt; bett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ream tast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n mil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d &gt;&gt; wor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wors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for your health than te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r &gt;&gt; farther/ furth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shop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arth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n the supermarke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As much/ As many …. as and More/Less/Fewer …  than</a:t>
            </a: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39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/ as many …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numbers or amounts of count and non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much…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s much ….. as with non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uit juice doesn’t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sugar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dish ha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sal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on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this tea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milk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 on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many ….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… 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with plural 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frozen yogurt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calorie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ce cream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rrots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vitamin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More ….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more before plural count and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eat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apple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drin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tea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Less …..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…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y before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suga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lt in this sauc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milk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 in this cup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Fewer ……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….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y before plural 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ned food ha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vitamin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ozen foo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apple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 in the kitch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……….as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: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( adjective/ adverb)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two or more people or thing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ura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tall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n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use this in affirmative and negative statements and questio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…….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ffirmative statements and questio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(as…as) to compare things that are the same in some w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marke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expensive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busy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a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 the cherri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nice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strawberries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………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gative statements and questio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(not as…as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things that are different in some w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sn’t as nutritiou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doe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ook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fas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moth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i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smar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broth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cherri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good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erries last yea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Less …..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We can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( less (adjective/adverb) than 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some negative compariso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beautiful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use less with many adjectives of two or more syllables. NOT with one-syllable adjectiv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nutrit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ice coo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quickly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Comparisons with –er than and  more than</a:t>
            </a:r>
            <a:endParaRPr b="0" lang="en-US" sz="39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One-syllable adjectives and adverb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d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–er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most one-syllable adjectives and adverb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errie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weeter th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trawberr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marke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heap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 coo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low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If a word ends in one vowel and one consonant, double the lass consonant and add –er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ig: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egg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igg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ose egg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att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broth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Two-syllable adjectives ending in –y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a word ends in –y, change the y to i and add –er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sty: This fish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ast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fis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althy: Frui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health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ce crea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icy:  Thai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pic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merican foo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Adjectives and adverbs with two or more syllable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(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adjective/adverb th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shop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expensive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esh vegetable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delic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ozen on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’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nutrit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6:25:04Z</dcterms:created>
  <dc:creator>sony</dc:creator>
  <dc:description/>
  <dc:language>en-US</dc:language>
  <cp:lastModifiedBy>sony</cp:lastModifiedBy>
  <dcterms:modified xsi:type="dcterms:W3CDTF">2012-04-11T17:23:17Z</dcterms:modified>
  <cp:revision>19</cp:revision>
  <dc:subject/>
  <dc:title>Slide 1</dc:title>
</cp:coreProperties>
</file>