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CE8-E038-4B9F-BF14-825E210A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BD1-A262-47EA-ABAC-57E67D76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D90-EEB3-461B-9080-0CD16A8E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625-DCA7-4FB6-94EF-8441F69C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DD84-4B7D-48D6-9B0C-BA68BAEF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C4F9-1462-46FF-9528-4A994614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E11F-AEDC-40C1-8976-29650A13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C7EC-CB80-458A-9087-8F4F6542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3AFE-9EE6-47F3-9E2C-7630FFF8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6C58-94EE-4FE1-B3F1-2E57E81C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C678-BC02-4973-B3A7-ABA37127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385-E967-4E4D-A63C-E2C3B3A4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AD0E-5456-4369-9417-CE11864E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F8E9-470D-446A-BB02-0214C536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BFD2-F966-4DB9-96B8-995DC67D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B114-3246-400E-AA66-C6D96EC1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7A5B-36DD-4668-9A3C-4398B786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7673-0626-411A-A730-046AD147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9649-71C7-4479-A0DC-1AE0A090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871F8-355F-45ED-931E-C6534F15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EDAA9-0F60-49AE-A0FD-F9466E2A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DC385-26D1-4D6A-B356-3F118A4A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F5B-0E04-4EA0-9E35-9375BF94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CFFF-F3CB-4A5A-8609-D933DB1C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A805E-7274-426A-8F56-CBC7CF50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2E22F-A827-4851-A3CF-F04E1F46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CB12-2480-4347-942E-04D322D5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A1BF1-60A6-4DAA-8DCE-C3AAFCEF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339D-C2F3-4281-B260-AFF222A8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6687-7E86-448F-B46C-B3D4E906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BC9CD-FBAB-46AF-AE84-C2654A92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B0C3E-7B60-4BF2-98D6-CA920439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3B6A7-4F9C-4EED-A354-B9E22848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52C-D8AB-423E-A17A-CB636089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F5095-D584-437A-87C3-389813DF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30EB1-7603-4B19-9344-F0C06BAA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C48F8-3781-4849-985E-EE85DE4D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84596-11CD-47D9-AFE1-AC549B39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C008B-DA74-405A-B188-B4B59700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71A5-1299-4E2D-BCDD-5DE683F1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C8C27-5DE7-4A0B-AC36-38A096B4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C10FB-5518-469E-A8FE-A65F7B09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33A92-8A93-473E-98F1-72DDFFE8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A6EDD-9B10-46F2-A49F-C1A5ABC3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5FC-DE5F-48CA-AE92-961CA2D0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C2EB9-6BD3-4623-9BCF-85BF0699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ECB24-5E40-4DDD-A0B9-7B9753A7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0CCB3-3D94-49C1-B4E9-CA28CBD5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C5B76-7A70-44E4-9920-AD4C43CB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5705F-5C0A-4664-87B3-1801DC12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EA580-C34C-4A89-BC83-5893E025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7FAF7-E5C9-4D61-9A8D-BCF59775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6CD64-D876-4CBC-99D8-EFBEA120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C9380-9A70-4ABA-9739-219777D4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3EE61-42C0-4C82-9429-4A3B5FC9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705-6B35-47E7-9FC0-DD5D43BC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FA04B-3F21-4BC5-95D0-6A9212F6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BBC39-36AE-4C6A-9D61-489D96E0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EE09B-AC81-496A-8189-DE925BFF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5D64B-3F24-45D1-837E-54CF8886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03F9D-C3CD-4A29-8882-8C108AAE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C2C5C-6FA4-4832-AC71-2C171F72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D74AE-197B-4440-A49C-955FE73E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F212C-F487-4F26-961B-B3F0BB1E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A1D7F-4451-44FD-951A-4157FB7C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A091C-D28A-4B94-AEBD-87E83444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F1B-9290-457F-A76D-91421AEF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47EBC-AE1A-4874-80A7-B02B2BD9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88BAA-AB0E-4BF9-9B94-882E9307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C5AB2-5CFD-433D-BB3A-286B8660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27D02-4C85-4ADE-9D37-9E99E166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2B381-2D14-4FCB-8ED7-6D4CE05A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6B86A-D99E-4975-8AD6-78D5E489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BD33C-9090-4718-8C99-8BF5316A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14AED-6EB4-4405-B39D-E8D14589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4498B-8FBC-4DD1-B49F-172188A0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9A3A4-75AC-4903-A4DC-BC22C927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7F0-7D97-4D86-B6F4-B871C5DD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B3A75-8B2B-44EC-93E7-3B42532C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4FD69-B359-465C-9BFF-B674D6F0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27B03-CF83-4843-9043-DBACB157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99FDB-0813-4297-B2F2-4AA3AAD0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52874-08FE-4312-9326-7A807A7C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1FD-AB7A-4EC2-A7C5-EEB0556B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AE9B-DF98-407D-8BBD-52EAD8C1843E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شكل بيضاوي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شكل بيضاوي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2AFB-6F6B-4CE2-933C-BED2DE333E6B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مستطيل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شكل بيضاوي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شكل بيضاوي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5D11-D71E-4455-8DE8-C16BF01A92CC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3A05-D4AC-402C-A264-349404EDD5A5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6009-AACF-414D-84FF-6726FB35730A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B263-E8FD-43FD-841D-68DA71378767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مخطط انسيابي: معالجة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مخطط انسيابي: معالجة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86D3-FC41-4B9D-B68C-B66CF9BCD17E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omparison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770f6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rregular form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od &gt;&gt; bett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eam tast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mil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d &gt;&gt; wor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ors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r your health than te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r &gt;&gt; farther/ furth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rth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the supermarke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As much/ As many …. as and More/Less/Fewer …  than</a:t>
            </a: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/ as many …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numbers or amounts of count and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uch…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s much ….. as with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uit juice doesn’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ugar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dish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al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on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this tea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milk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 on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any 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… 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ith plural 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frozen yogur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calorie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rots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vitamin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More …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more before plural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eat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drin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tea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…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suga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lt in this sauc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milk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n this cu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Fewer ……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….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plural 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ned food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vitamin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foo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 in the kitch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.a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: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( adjective/ adverb)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wo or more people or thin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ura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tall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n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this in affirmative and negative 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…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ffirm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(as…as) to compare things that are the same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expensiv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busy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nic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trawberrie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g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not as…as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hings that are different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sn’t as nutritiou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do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ook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fas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m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smar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good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erries last yea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We can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 less (adjective/adverb) than 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some negative comparis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beautiful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less with many adjectives of two or more syllables. NOT with one-syllable adjectiv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quickly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Comparisons with –er than and  more than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One-syllable adjectives and adverb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–er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most one-syllable adjectives and adverb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rri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weeter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rawberr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heap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low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f a word ends in one vowel and one consonant, double the lass consonant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ig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egg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igg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ose eg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tt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Two-syllable adjectives ending in –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a word ends in –y, change the y to i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sty: This fish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ast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fis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lthy: Frui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health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icy:  Thai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pic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merican foo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Adjectives and adverbs with two or more syllable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djective/adverb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expensive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sh vegetabl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delic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on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’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6:25:04Z</dcterms:created>
  <dc:creator>sony</dc:creator>
  <dc:description/>
  <dc:language>en-US</dc:language>
  <cp:lastModifiedBy>sony</cp:lastModifiedBy>
  <dcterms:modified xsi:type="dcterms:W3CDTF">2012-04-11T17:23:17Z</dcterms:modified>
  <cp:revision>19</cp:revision>
  <dc:subject/>
  <dc:title>Slide 1</dc:title>
</cp:coreProperties>
</file>