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CF67-BA20-411A-8B1C-ED065C022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08B8-C61E-495E-811C-2DFFAC709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6C89-7A97-4B35-A567-3AF1CAED9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CA7C-4CEB-4676-8E8A-EED4C816E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F8585-2524-4D28-8859-B7FF99C01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4F1A8-7E7E-43F8-B92E-492154AEC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9F606-7FB4-42CB-BBA1-B9ACE3DD0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802A0-96A1-4242-9F7F-095C6D52B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996EE-DA44-4499-98E6-07A8DEC29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8173B-0126-4164-9E67-279E89D9E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AE1A7-39E5-4DF9-9CFE-342CCFBA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D0F9-920D-4827-AA83-C7502065D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B17BB-4086-46D7-861C-7880D2D2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45226-99CE-4E40-854B-3647D8C8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1DFBB-9EFC-49B9-A777-A09B69C5C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F4DD5-3251-4FF5-988D-AFED50182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E8AB1-6107-41CB-8B9B-2B6AAB108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E2455-9B09-409A-A353-62EA5DB7F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5A123-C6BB-45E0-91C4-9C3BC2EB0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F5DF2-F411-40C4-8991-A92C56B3A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461C2-66C3-4C4C-940F-72E582236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98665-3114-4832-8A8A-074305F8B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B9A9-1ACB-4416-B435-25EE6ADF8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A4095-0E94-4539-A3B6-E5A92766E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79716-2060-47E2-8A3A-0A4A46D0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9F2CC-2E45-447A-AA7B-9079FA2F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ECBBF-FEF2-4B94-913B-E4A01407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309D7-A9C9-42F2-8D61-4E945CA30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EF666-B480-4978-9169-9107109C7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14BA6-F437-45D4-96A3-1F2D31EBF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9B0EA-77D8-4367-AEC6-A3C97C8F6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E8676-916F-4F90-B617-22260F1B2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3B2C2-57B4-46BE-AD58-AF3C37BFF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9A12-70D2-4A4D-9632-E282CE787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BC28D-473B-4428-8248-ACEF2721B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B7B0F-79C8-4770-83BD-FA145B8C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D75C4-2699-4475-992C-F63E7A321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B84A9-69B4-4A9D-8954-D616EB8C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380E2-11C5-4B3B-967F-49AE8124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5899A-A208-465D-A718-F56511D1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9386A-9D5A-4C8A-90C1-E4AAB7916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AAB72-78B6-4608-A846-5BC7ED70B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1F512-AE46-45DB-845D-D49FE25C4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21FEB-6BD2-487F-8AAA-BEDD13F66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22C3-E80F-4FFE-B389-AEA074A79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650E6-1581-4160-AA1F-485007F8E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2DE62-E186-4AE2-9407-413761CA1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50CD65-901F-4B77-A0D8-A6BF16084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82C6F-37F5-4D0E-8C2D-D397C326F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D0D3A-F1FF-4B4F-8E87-D4E4CCB21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67838-546E-43EA-B3CC-E1553573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5CCA2-CC5E-4144-8752-DDD60CC6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DD9C6-0C95-4178-82F4-E60CF7A3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098AB7-0D70-471E-A865-E5F3ECD62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831CE-988B-4424-91F1-DF3587B8D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25AC-6B14-4ED7-9318-70DA3AD8F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4E03B-B929-4575-B253-A11490247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36448-83F7-4CD5-976D-5DC86986C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E959F7-0E7D-4E90-B45A-690BC0C60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91E247-D669-4D06-8927-B8D91B719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F50776-16FE-4C38-903A-89EDB13A8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0C31DD-28CB-47AD-96D1-A9C3B3F72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090E13-79F4-40CB-9504-206D79201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64C95-F239-4727-8693-4BDC68A7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B4928-73F3-4A0A-83F5-B860D555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94775-0D1E-418C-921F-B81D26FE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071E-03F6-45C6-AB54-36AC0B82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48B2B-1BBF-49F6-B5E8-66046838C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44D64C-3935-41AC-BA8F-00B8A287B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3806F-8356-498D-A07E-ED1BC2633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0B640E-DB90-4C84-92C2-AB19AFB25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B51B1-2063-4104-90F6-17305D838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C87AFD-F609-43DD-BD47-B641DF08D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323804-1B67-4317-9AEC-04D2552B0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12C48C-27AF-44F3-82A6-87AA4C7E5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204A71-74D1-42C4-BC06-9A6138FFC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AC38EA-A2DC-41F9-9F1C-A4CE0716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1B4B-ED28-413F-BA86-6C70DA98D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EA35FD-5F4A-4936-9820-F7C4086C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14E34A-3353-4E78-A535-44B1EAB8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7F303-B42C-4207-9C97-1190E9204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4D4B1-706B-4315-9674-1356C703E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30A905-CA7F-47C8-AC2D-5BD6B5799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2A83-929A-4DB2-A933-A7FA379B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c">
              <a:alpha val="33000"/>
            </a:srgbClr>
          </a:solidFill>
          <a:ln cap="rnd" w="3240">
            <a:solidFill>
              <a:srgbClr val="d6c0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eef7"/>
            </a:solidFill>
            <a:miter/>
          </a:ln>
          <a:effectLst>
            <a:outerShdw dist="12600" dir="5400000" blurRad="0" rotWithShape="0">
              <a:srgbClr val="b6a7ae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دائرة مجوفة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9FC0C-A24B-47B4-9502-1A36183CC347}" type="slidenum"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c">
              <a:alpha val="33000"/>
            </a:srgbClr>
          </a:solidFill>
          <a:ln cap="rnd" w="3240">
            <a:solidFill>
              <a:srgbClr val="d6c0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eef7"/>
            </a:solidFill>
            <a:miter/>
          </a:ln>
          <a:effectLst>
            <a:outerShdw dist="12600" dir="5400000" blurRad="0" rotWithShape="0">
              <a:srgbClr val="b6a7ae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دائرة مجوفة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شكل بيضاوي 7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شكل بيضاوي 7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شكل بيضاوي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a2355b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05BE7-CA38-4434-B126-6EE27C6FFCBC}" type="slidenum"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مستطيل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مستطيل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شكل بيضاوي 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شكل بيضاوي 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شكل بيضاوي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a2355b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91DBF-577D-447C-9FB8-5EC005AA04F8}" type="slidenum"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41334-2006-4DB0-BF35-C6E9C243FA19}" type="slidenum"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مستطيل 4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مستطيل 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336F6-71DD-4CA6-BA5C-258B35ABF521}" type="slidenum"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D7011-F9B8-4B36-9DE5-F5A4B3958C74}" type="slidenum"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مستطيل 7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مستطيل 7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مخطط انسيابي: معالجة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fd6e2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مخطط انسيابي: معالجة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4e7ed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8CFDD-EF2C-4F38-A35B-DC4FCB1BD6CD}" type="slidenum"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Comparisons</a:t>
            </a: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600" spc="-1" strike="noStrike">
              <a:solidFill>
                <a:srgbClr val="770f62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2e4e"/>
                </a:solidFill>
                <a:latin typeface="Gill Sans MT"/>
              </a:rPr>
              <a:t>Irregular forms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Good &gt;&gt; better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ream taste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an milk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ad &gt;&gt; worse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ffee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wors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for your health than te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ar &gt;&gt; farther/ further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s shop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farther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an the supermarke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c22ea4"/>
                </a:solidFill>
                <a:latin typeface="Gill Sans MT"/>
              </a:rPr>
              <a:t>As much/ As many …. as and More/Less/Fewer …  than</a:t>
            </a:r>
            <a:r>
              <a:rPr b="0" lang="en-US" sz="3900" spc="-1" strike="noStrike">
                <a:solidFill>
                  <a:srgbClr val="c22ea4"/>
                </a:solidFill>
                <a:latin typeface="Gill Sans MT"/>
              </a:rPr>
              <a:t> </a:t>
            </a:r>
            <a:endParaRPr b="0" lang="en-US" sz="39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 us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much/ as many …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o compare numbers or amounts of count and noncount noun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As much…. as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se as much ….. as with noncount noun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ruit juice doesn’t hav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much sugar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oda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s dish ha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much salt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at on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oes this tea hav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much milk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other one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As many ….. as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s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many … a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with plural count noun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oes frozen yogurt hav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many calories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ce cream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arrots hav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many vitamins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range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More …. than</a:t>
            </a: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se more before plural count and noncount noun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eat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more apples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range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he drink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more tea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ffe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Less ….. than</a:t>
            </a: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s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less …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nly before noncount noun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re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less sugar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alt in this sauc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re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less milk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ffee in this cup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Fewer …… than</a:t>
            </a: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s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fewer ….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nly before plural count noun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anned food ha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fewer vitamins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rozen foo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re ar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fewer apples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ranges in the kitch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As……….as</a:t>
            </a: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 use :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( adjective/ adverb)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o compare two or more people or thing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oura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tall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ind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 can use this in affirmative and negative statements and question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300" spc="-1" strike="noStrike">
                <a:solidFill>
                  <a:srgbClr val="c22ea4"/>
                </a:solidFill>
                <a:latin typeface="Gill Sans MT"/>
              </a:rPr>
              <a:t> </a:t>
            </a: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As …….. as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ffirmative statements and questions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 use (as…as) to compare things that are the same in some way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s market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expensive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other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ou ar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busy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a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re the cherrie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nice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strawberries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As………as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egative statements and questions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 us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(not as…as)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o compare things that are different in some way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ite ric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isn’t as nutritious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rown ric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nn does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cook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fast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er mother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nn is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smart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er brother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re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e cherrie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good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cherries last year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Less …..than</a:t>
            </a: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-We can us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( less (adjective/adverb) than )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 some negative comparison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nn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less beautiful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er sister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 can use less with many adjectives of two or more syllables. NOT with one-syllable adjective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ite rice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less nutritious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rown ric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rown ice cook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less quickly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ite ric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c22ea4"/>
                </a:solidFill>
                <a:latin typeface="Gill Sans MT"/>
              </a:rPr>
              <a:t>Comparisons with –er than and  more than</a:t>
            </a:r>
            <a:endParaRPr b="0" lang="en-US" sz="39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2e4e"/>
                </a:solidFill>
                <a:latin typeface="Gill Sans MT"/>
              </a:rPr>
              <a:t>One-syllable adjectives and adverbs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dd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–er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o most one-syllable adjectives and adverb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herries ar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sweeter tha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strawberrie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s market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cheaper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other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rown rice cook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slower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ite ric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2e4e"/>
                </a:solidFill>
                <a:latin typeface="Gill Sans MT"/>
              </a:rPr>
              <a:t>If a word ends in one vowel and one consonant, double the lass consonant and add –er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ig: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se eggs ar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bigger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ose egg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at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he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fatter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er brother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en-US" sz="3200" spc="-1" strike="noStrike">
                <a:solidFill>
                  <a:srgbClr val="8a2e4e"/>
                </a:solidFill>
                <a:latin typeface="Gill Sans MT"/>
              </a:rPr>
              <a:t>Two-syllable adjectives ending in –y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f a word ends in –y, change the y to i and add –er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asty: This fish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tastier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at fish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ealthy: Fruit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healthier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ce crea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picy:  Thai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spicier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merican food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2e4e"/>
                </a:solidFill>
                <a:latin typeface="Gill Sans MT"/>
              </a:rPr>
              <a:t>Adjectives and adverbs with two or more syllables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se (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more adjective/adverb tha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)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s shop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more expensive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other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resh vegetables ar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more delicious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rozen one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t’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more nutritious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ite ric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2T16:25:04Z</dcterms:created>
  <dc:creator>sony</dc:creator>
  <dc:description/>
  <dc:language>en-US</dc:language>
  <cp:lastModifiedBy>sony</cp:lastModifiedBy>
  <dcterms:modified xsi:type="dcterms:W3CDTF">2012-04-11T17:23:17Z</dcterms:modified>
  <cp:revision>19</cp:revision>
  <dc:subject/>
  <dc:title>Slide 1</dc:title>
</cp:coreProperties>
</file>