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E66-0EB2-44C9-9A18-27934763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9E3-48FA-4EB9-B361-1F9BAFF5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D63-BA16-4FB5-B06F-64154418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5CD-FD2D-4286-86F0-B2243D0A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F02B-7DBC-47C5-A4CD-FCB0E165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FBDD-1BA1-42AD-957C-91ADD7A9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1717-97D5-4229-83C9-41AAD797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9D1D-1051-47D9-AE2E-A86CBF0D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0DA3-D953-463D-91AD-13565DD4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3EFE-48CE-44B1-A2B1-A2F8FACE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401F-1FE0-46E4-A8D9-B29672B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0BD-4AFB-4BF9-BCA3-EC1DB650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25D1-6378-4967-BDEE-5AD99059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A6DB-DE03-43BC-8949-52D1CD3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9A9E-4376-47D0-BBED-4D337C9C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D2DB-BCCB-4C7F-A5B0-1ADD986A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0D0-AAE6-4957-A617-F7D1E253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AE88-D6C9-4577-AFAE-3AD50BC4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ADEF-EC1B-421D-93C1-D303552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1490-8CCF-4979-9AA1-BCFD43B8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203F-8060-4AD5-A386-AE1270F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F903-BBFC-47FA-9A42-CC5D3375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EDF-43C1-4117-827F-CB71714E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E478-0038-4AF3-AF65-7310E263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62E1-7BDE-4324-820B-7D539E9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2AF6-54CE-4DBD-815C-2086F2A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6D35-8663-4136-BEB5-1F5F1CDD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919D-D7DF-4E3E-B8FC-26231039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B8B3-1542-4910-851F-067DF55E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908A-D70F-4C25-B645-292A5492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FAE1-9647-4067-9CED-3D1D570C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B4B9F-EB88-41DF-B0D6-CD8DB6A4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B6CF-BA00-4088-B680-736F669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D42-A9E9-49BB-B6D2-2C1B8A58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C176-763E-4DD5-86E5-BA60D0C7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AD623-29CC-4572-AFE2-9C78FE38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485C-28BC-4269-937B-59D1AF96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CF93-AF79-4283-A9BE-152CC7C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02A5-28F4-45A2-8A19-3A0F13C6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11AB-DF26-4F4A-9FB2-E85A3CBF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0247-F6E7-40EC-8FA4-F4A31AA1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09E8-5ED8-4767-9BE4-DA424572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FA7A-020E-4810-8238-E49404BA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C454D-9A32-477C-BA11-FD799A85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943-8B8B-4075-BC89-7BF44621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F90F6-B7AB-4E0C-900D-17D420C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0762C-A4AC-48BA-A5D0-F58CE393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95B74-9B48-4D45-ACD5-87165A65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FCAA1-FD2B-4BE1-AF1D-38FBEDC5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8DD21-4DD4-444A-80FA-D4510120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C47F6-EAB8-43AA-AC42-366EE03E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6581-4FC5-4E0F-9886-1B8C4D8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BD4CB-F4D2-4122-8DD4-DB0E5084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B927F-8F52-40DE-9A07-692BE0BA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0217-9C65-4BCD-A007-4D064142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C00-0059-4A7E-95D5-CB89ABF3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CAEF-519D-4517-9BCC-6FB67F51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48DD4-2333-467B-B8BA-452F42A7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3B147-56BB-4E70-8EAE-CF08F3C4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CAFEC-AA16-41C9-B685-250CA11B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6E8BB-FF37-4CBC-AA77-C21509C3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E43C1-1E26-46FB-A7F3-DBBC6C4C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7840C-1316-4D3A-9128-B2C7B4D4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B8537-D640-4880-B0C4-9DDA20C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85856-6150-40E9-B827-1DD9CF5C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49D5-7C41-4678-9698-13D74B8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878-4D99-4D47-9FD8-F5EAD7B7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59ABA-E798-48BD-97E1-F824D18C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AE7E0-676B-494A-8D15-4F7C7725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EED7-4F6E-48D5-A012-354B1337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EEB63-10A0-4FB5-ADC6-4E805AA7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961B-83E8-49A4-91F5-A08682B2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B701F-12B4-472A-B798-CC271F8A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734A5-3E7D-4B2D-A89D-F5F1D367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D99E2-C852-49B0-BBA0-4581633D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9209B-D74B-42AE-9644-CA3135E4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139F6-85F8-4C1E-B44B-C789E5EE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0C0-A934-4517-A2D2-3CFFA274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35C16-5C5C-44D0-896E-6703683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0E4BA-26BA-45D3-B6CF-0480C726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5C036-8E91-4FD6-8735-2D759800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D9AA2-A287-45D9-8D45-718C80A9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6CC2B-9AEF-4B44-8F49-B0B073FF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6DC-3053-4200-8CDE-5520E76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2BA3-EE56-451F-A48E-C31D42B481DB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7873-A7A1-4ADB-AB65-FCDBB71A836A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6841-94A5-4862-9113-722561D602FF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5F5B-37AA-4A62-A7FC-029D78B47D99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9C6A-D219-4554-9DC7-8EAD1B49C6E1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4121-88D7-428E-A29E-9AA4305917C2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BF68-F613-4F81-A74A-2CDBB893BB23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omparison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770f6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od &gt;&gt; bett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m tast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mil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d &gt;&gt; wor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r your health than te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r &gt;&gt; farther/ furth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rth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the supermarke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As much/ As many …. as and More/Less/Fewer …  than</a:t>
            </a: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/ as many …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numbers or amounts of count and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uch…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s much ….. as with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uit juice doesn’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ugar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dish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al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on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this tea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milk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on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any 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… 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ith plural 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frozen yogur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calorie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ots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vitamin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More …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more before plural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eat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drin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tea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…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suga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t in this sau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milk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n this c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Fewer ……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….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plural 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ned food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vitamin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foo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 in the kitc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.a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( adjective/ adverb)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wo or more people or thin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ra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tall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n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this in affirmative and negative 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…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firm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(as…as) to compare things that are the same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expensiv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busy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nic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awberrie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not as…as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hings that are different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n’t as nutritiou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do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ok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fas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m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smar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good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erries last yea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We can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 less (adjective/adverb) than 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ome negative comparis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beautiful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less with many adjectives of two or more syllables. NOT with one-syllable adjectiv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quickly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Comparisons with –er than and  more than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One-syllable adjectives and adverb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–e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ost one-syllable adjectives and adverb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rri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weeter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rawberr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ap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low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f a word ends in one vowel and one consonant, double the lass consonant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g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gg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se eg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tt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Two-syllable adjectives ending in –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a word ends in –y, change the y to i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sty: This fish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ast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fis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y: Frui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ealth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cy:  Thai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c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erican foo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Adjectives and adverbs with two or more syllabl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djective/adverb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expensive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sh vegetabl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delic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on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25:04Z</dcterms:created>
  <dc:creator>sony</dc:creator>
  <dc:description/>
  <dc:language>en-US</dc:language>
  <cp:lastModifiedBy>sony</cp:lastModifiedBy>
  <dcterms:modified xsi:type="dcterms:W3CDTF">2012-04-11T17:23:17Z</dcterms:modified>
  <cp:revision>19</cp:revision>
  <dc:subject/>
  <dc:title>Slide 1</dc:title>
</cp:coreProperties>
</file>