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E92-90DD-46BC-A7AE-F2387D25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199-2C1F-4D95-A52B-721F190A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031-06BD-4038-83EC-E1566BEA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B03-6D3A-4313-8ED0-DB0F2696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B931-F2DB-457C-847F-EC44FAAD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9D8E-9D3A-4984-801F-E6041B8F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F106-75DE-40C2-BD67-06AFA05E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1C00-BA81-4ED9-B67F-50E155FB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C82D-0F0F-4485-BEDE-F681C2D7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E3DC-15EA-4B10-A41F-7698AC72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B5E1-2C80-49BA-999F-2B9A7893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A05-08E7-4779-AE4D-C7BD4043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D361-19F9-4B82-A39D-2A983E08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412F-EFA4-4F40-9819-1CB50EEB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0EB0-5BEE-4B51-8CBD-E2AEBD55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8353-0BD2-40D8-9752-9CC43DBC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8A7A-21D3-4881-A7AC-E982A940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EEC3-4494-4CB6-B8C4-6F970BD4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21A0D-EA2D-4BDE-B5D4-F42306A4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D519B-C6CE-432A-992E-A63CA1AC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F3593-F27E-46DE-AB3A-C9A1867A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142C3-F07E-4694-9410-49D82C12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1A5-E62F-45D3-8095-9335213F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D49BD-284A-49D4-8521-65C2B65D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9039-D2CB-422D-8518-236F1FA3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D0B44-DCBB-4958-9B6C-BA561A7E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F7AD-EFFE-40F7-9FC5-B6782733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2837E-1E3E-41F8-8B53-7D3448AF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223E0-72C9-453B-AD45-56FB899A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24EC4-F8C0-4BFD-9B6F-1F8497C9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ACDAB-7737-478D-9AF8-F132C636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A0C0F-F946-4E71-8F31-6B6D12CB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11127-69B1-4E2D-98F2-3558BAC6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02C-4468-440D-9328-F68D19BC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28964-8642-4F48-B04F-8534CEC9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5FE26-5B07-4C2C-90D2-353D2E67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913C1-A9B9-40F1-895B-DED1F7AE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0CB50-FD69-425C-AC42-1A0D169B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DF6BD-E38D-451E-BD36-44474471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078E-0824-47CD-989F-5011BDAE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369E-B403-483E-8F21-E06044A4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E29CE-5A3E-4FA5-A441-AB17733B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FE44A-094D-48E1-8FD8-D34E5EF4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30805-8389-4BC9-8D58-8C42BF2E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38C-56D5-44DF-91D8-B99B54DD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0BF1B-7A56-44F2-8A96-B3096363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D200C-0DC3-468F-A4B8-C0C6CAA1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71730-9C61-4A4C-B9FA-2DEEA30B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17980-0CDC-43AA-9B0D-BC279E4E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318AB-4D84-4439-BB14-95A72348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7DD6E-CEFC-4D0C-9B5C-1CDA2C9B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575A3-A64B-4574-9EE4-26E46FB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4F3DA-6061-4CCA-807C-392E20E3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7A206-2CB0-4222-B1E2-94A5C6C3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74F34-42F1-46A9-8DBD-C01B1741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BF1-201F-4846-8F5B-3EF812E7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A5D0B-76E7-4DE2-9FEF-2F0897F6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B9E9F-915C-4B71-AD8C-1B53165F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773A2-C273-4653-A97E-8BEFB8E5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214BE-407C-4290-9C9F-84BB806A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6C3FB-B780-4AF4-A705-CB13ABF4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0DA54-E2C8-4900-AAE1-EFF9F388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576BC-0C2B-481F-B36D-8CCFC736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874CE-ED09-441C-B520-2E665231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BD22B-0B07-4543-937A-C34C4596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5F789-B252-4903-9EE0-F1BA57CB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89F-D727-422C-B174-849A522E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9A330-8836-4F58-9837-A605833D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745A1-DCBB-4670-BA44-00763DD3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CC757-CE18-4B6C-9F51-1F2F7704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81F55-2619-4A34-9245-C102CCAB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6A74C-DC84-4F41-8C4A-F6B49A67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37308-5208-4436-A878-0EB584F4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98823-9D18-4CF3-B0CF-803B1906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E89ED-F661-454F-84B6-8825AA3D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841E9-57B6-462B-A1BC-705F78E5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8B8FB-2330-4E98-A32A-4994038D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9D5-B36A-4CAC-9792-61773A4C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6FD98-89D9-4E8A-9639-E82D7612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CD65D-7180-4125-981C-AE964992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A1F91-CAD7-4AB5-A319-B5648E4F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2D990-C9FF-4536-8FE9-542775CA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BA39E-AC18-4A9E-8266-DA87A02B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ECD-2C1E-4C5E-B84A-023BB2D7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20AD-4BC6-4342-B4B0-5D44D3C919DB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شكل بيضاوي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شكل بيضاوي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70E3-C916-463B-BF93-E63D5EBF179E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مستطيل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شكل بيضاوي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شكل بيضاوي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262E-310C-4CBC-B577-DF5E0C337A23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25EF-15FA-410F-999F-D643EABE2582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263B-050F-42DE-8C75-B9BC0586BE25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1D0B-B35C-4FE7-B0A3-7BD7A672630E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مخطط انسيابي: معالجة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مخطط انسيابي: معالجة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41FF-45C6-4897-99DC-32E2C41061A2}" type="slidenum">
              <a:rPr b="0" lang="ar-SA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Comparisons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770f6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Irregular form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ood &gt;&gt; bett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ream tast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n mil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d &gt;&gt; wor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wors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r your health than te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r &gt;&gt; farther/ furth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hop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rth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n the supermarke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As much/ As many …. as and More/Less/Fewer …  than</a:t>
            </a: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39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/ as many …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numbers or amounts of count and non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much…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s much ….. as with non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uit juice doesn’t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sugar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dish ha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sal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on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this tea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uch milk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 on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many ….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… 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with plural count nou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es frozen yogurt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calorie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e crea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rots hav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many vitamin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More ….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more before plural count and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eat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apple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drin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tea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Less …..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…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before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suga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lt in this sauc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milk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ffee in this cup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Fewer …… 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….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ly before plural 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ned food ha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vitamin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zen foo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ewer apple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anges in the kitch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……….as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: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( adjective/ adverb)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two or more people or thing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ura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tall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n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use this in affirmative and negative statements and questio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 …….. 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ffirmative statements and ques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(as…as) to compare things that are the same in some w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arke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expensive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busy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 the cherri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nice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trawberrie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As………as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gative statements and questio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not as…as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mpare things that are different in some w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isn’t as nutritious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do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ook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fas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moth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i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smart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broth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cherri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s good a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erries last yea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Less …..than</a:t>
            </a:r>
            <a:r>
              <a:rPr b="0" lang="en-US" sz="4300" spc="-1" strike="noStrike">
                <a:solidFill>
                  <a:srgbClr val="c22ea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We can us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 less (adjective/adverb) than 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some negative comparis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beautiful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can use less with many adjectives of two or more syllables. NOT with one-syllable adjectiv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nutrit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ice coo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less quickly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2ea4"/>
                </a:solidFill>
                <a:latin typeface="Gill Sans MT"/>
              </a:rPr>
              <a:t>Comparisons with –er than and  more than</a:t>
            </a:r>
            <a:endParaRPr b="0" lang="en-US" sz="39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One-syllable adjectives and adverb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–er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most one-syllable adjectives and adverb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rrie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weeter th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trawberr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arke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heap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wn rice cook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low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If a word ends in one vowel and one consonant, double the lass consonant and add –er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ig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se egg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igg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ose egg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att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 broth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Two-syllable adjectives ending in –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a word ends in –y, change the y to i and add –er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sty: This fish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ast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at fis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althy: Fruit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health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ce crea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icy:  Thai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picier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merican foo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c22ea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2e4e"/>
                </a:solidFill>
                <a:latin typeface="Gill Sans MT"/>
              </a:rPr>
              <a:t>Adjectives and adverbs with two or more syllable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(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adjective/adverb th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hop i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expensive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oth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esh vegetables ar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delic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ozen on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’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re nutritious than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e r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6:25:04Z</dcterms:created>
  <dc:creator>sony</dc:creator>
  <dc:description/>
  <dc:language>en-US</dc:language>
  <cp:lastModifiedBy>sony</cp:lastModifiedBy>
  <dcterms:modified xsi:type="dcterms:W3CDTF">2012-04-11T17:23:17Z</dcterms:modified>
  <cp:revision>19</cp:revision>
  <dc:subject/>
  <dc:title>Slide 1</dc:title>
</cp:coreProperties>
</file>