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49A-D47C-4176-B3C2-C469BB2F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F1C-ED56-47D3-82BD-DBBE6DA0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8DE-F2B2-410F-A2BE-3BBA8495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764-A194-450C-9C6A-FE40A429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83B5-5B3C-4C89-B16C-BFDC501E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AADA-04C4-4165-8096-BDE9142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4474-0848-491B-B953-84D10CCE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E754-A31B-4EFC-A2C8-2C88E823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4FA4-9A0E-45CA-A34F-B699B4F1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249F-AC30-4E67-872C-0B8F80F7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57E9-286B-47A4-8F87-870C832A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4F9-B46E-42AF-8A36-6D89B91A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89C1-3B65-4375-97C2-32053DD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DBDD-672B-4656-88F2-36ADB4E0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FE87-949D-42FA-8A68-0AE34345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C197-D4A8-4CA9-BD76-5E0DF668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89DA-6F8B-4619-B966-FACF4C8A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2EEB-4312-4B88-ADA3-2E46E49E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F402-9402-4CEB-8E09-866C40C6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BD71-5324-4C16-B262-F23CE523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005F-35A2-4C75-B41A-DE5346E2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56B7-F0CB-4E1F-9046-76C76F0A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48E-58DA-4928-B658-C2270EAE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D8F18-DCAF-4FC6-886C-930CD8BF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19C8-411A-4D54-8925-1405762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33FD-024F-47C0-A7B1-6D536703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2121-5314-4713-8939-563FAEF7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7E4A-C61C-421D-A69B-30410CDE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4154-5B7C-4122-9974-AEC75CE0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EE0F-1EB3-4A2A-8877-5EC4DF84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CDF79-3DB4-4ED6-BFB3-D7588CF4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53CC-BEC9-471A-A44F-7C597BAC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FC78-6CA7-43C6-B076-21D2F0CF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5D1-D0C3-4EA4-843A-D25E4F54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96D5-1047-4ACC-BDC4-3403E555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9DA6-5A3D-4D42-83EB-2CF3D9E2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5B87-7B0A-4348-90E2-F3E58B5B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4B599-B43E-498C-8702-4067433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98459-F489-4B32-8C61-CEF33F25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470B-24FD-405F-B34D-6FF2F4B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07186-3EB9-4850-B7B4-8D445989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91118-EFBE-48EE-90A1-0DBC7200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851A9-A95E-410A-8285-7DE875B7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D7D35-E9CB-4D9E-BFB9-46DE0FD1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470-47EA-42DB-B078-55A2180B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55224-E490-4AA6-A5B2-022FDE11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5B18F-44BE-4B3D-BD73-2D1C1B7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8695-87E1-4A19-B1FA-3AAC9B94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B998-CA96-49EB-A01F-5EA61D42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6AD8-AAF7-451D-A493-4FD93F30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97120-77B5-461D-9E37-8FA02E3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0A86-8181-41EC-BED3-C8FBA4C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CAA22-2F56-40F9-BC94-FB48014A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C0F69-5678-4A53-A10D-A697905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92FA7-BB07-4917-A970-B11D36B4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46A-E5F0-4F65-8EFE-70C638EA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387D0-6C67-4639-9134-FE019DFF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B85ED-AD7B-4090-B35E-20E4D141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D83B7-AFD2-4334-82FF-0499A96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9DC4A-8F90-47A2-B9B1-5DDC9804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E0ABE-3BCF-434D-8FA8-48902D52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080D4-23C5-43AF-BF25-07C3077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06732-1A1E-46A0-BFE6-D4FDA14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49B09-D04F-449F-B66A-D7F586F8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5BA3C-10D6-464A-857D-5ED274D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CF97E-3758-4F34-A882-4020EE1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083-36CA-4D2A-83EB-1BE99F22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0AF3-2185-439C-8415-15FAB9E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FA0D-C147-4B08-9A74-98AD97E5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CB769-52FE-44F7-9AAE-9567009F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54F34-D949-4343-AACE-7A29DDF1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B558B-CDF1-4D1F-A7F7-FBFD3D0D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D79F3-3055-4413-8679-68500587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5DC9-AD3D-46DE-8638-5A4D86DC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4C61-CCDE-4367-878B-D9C4FA82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C5C26-23CE-492C-AE26-7D5B94B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FD5CC-A316-4F0D-B442-B6DDD03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55E-2B35-4308-9CA1-C37DA12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C91A6-F19C-478E-BCDF-33AF52B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33F6-2D74-4284-9038-B5BC71C4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5717-41C8-4BBB-8D36-355944FD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4779-B1AC-46F2-AA66-3E50D770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99794-376E-4868-AEDE-F82EC2E9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F2B-2C83-4390-A954-0ABAD77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227E-8218-4DB8-AC49-E6603FB4C259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A55F-8AF9-4498-A11E-60A4793F3855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CBA3-2B78-4F5F-A7C4-6EDE448AE4C6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4DB5-CC0C-4FE4-824D-3AC5E7607BF7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3651-8107-401D-B7D0-076E36BE3A81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55C9-31E6-4906-BD62-FC2FA75FB041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0AF-C82F-4A97-A267-E5D087E54546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omparison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770f6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od &gt;&gt; bett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m tast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mil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 &gt;&gt; wor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r your health than te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r &gt;&gt; farther/ furth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rth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the supermarke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As much/ As many …. as and More/Less/Fewer …  than</a:t>
            </a: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/ as many …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numbers or amounts of count and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uch…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s much ….. as with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uit juice doesn’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ugar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dish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al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o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this tea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milk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on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any 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… 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ith plural 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frozen yogur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calorie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ots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vitamin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More …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more before plural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ea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drin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tea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…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suga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t in this sau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milk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n this c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Fewer ……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….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plural 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ned food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vitamin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foo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 in the kitc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.a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( adjective/ adverb)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wo or more people or thin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ra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tall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n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this in affirmative and negative 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…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firm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(as…as) to compare things that are the same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expensiv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busy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nic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awberrie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not as…as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hings that are different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n’t as nutritiou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do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ok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fas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m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smar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good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erries last yea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We can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 less (adjective/adverb) than 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ome negative comparis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beautiful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less with many adjectives of two or more syllables. NOT with one-syllable adjectiv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quickly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Comparisons with –er than and  more than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One-syllable adjectives and adverb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ost one-syllable adjectives and adverb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rri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weeter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rawberr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ap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low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f a word ends in one vowel and one consonant, double the lass consonant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g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gg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eg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tt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Two-syllable adjectives ending in –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a word ends in –y, change the y to i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sty: This fish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st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fis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y: Frui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ealth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cy:  Thai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c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erican foo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Adjectives and adverbs with two or more syllabl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djective/adverb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expensive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sh vegetabl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delic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o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25:04Z</dcterms:created>
  <dc:creator>sony</dc:creator>
  <dc:description/>
  <dc:language>en-US</dc:language>
  <cp:lastModifiedBy>sony</cp:lastModifiedBy>
  <dcterms:modified xsi:type="dcterms:W3CDTF">2012-04-11T17:23:17Z</dcterms:modified>
  <cp:revision>19</cp:revision>
  <dc:subject/>
  <dc:title>Slide 1</dc:title>
</cp:coreProperties>
</file>