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1CB-2E03-4888-AF2F-B7BC93C0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31E-05AF-47A9-BB4B-B93CC490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380D-CC32-468F-9D8E-6ABEFAE1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6362-B5B9-494C-93A0-13E40441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48B1-F40C-411F-AFDE-1D8865A0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0ED9-713F-4254-B4BB-2C170368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7EA6-53D7-4C3A-8EB3-36D9EFA1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86FE-9184-4315-B43F-67679219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35B3-87DB-4F7E-AC86-03EFCE61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20D3-9BE6-4257-8145-F7C562AA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FD98-82E3-4C76-8A60-E026A2F0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86E-C95D-44B4-8C46-95E9D33C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71C7-ED5E-4D32-AEC0-DF705FAA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71EE-0DAF-40CF-9164-258DE5A4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5AB2-2EBB-4B91-A590-921C794C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3452-6970-49E2-8923-97324CCF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FD09-176F-4F29-AFD2-1DDDD210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4D0-9BB9-4197-B3E7-A13B641D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1CD-0875-497D-A79A-4DF740AE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42B5-3E82-402B-B334-D03D62C2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1FE3-5A6C-4B6E-BBC4-88BEC808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8E0-16D6-4231-9744-4122373F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5A5-A017-4D42-A5FA-D2D7CCBA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72DB-5164-4343-A76B-7522AE5D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Bradley Hand ITC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390A-02CA-43D8-BB7F-D0374B80B9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1815-A5EF-495E-BAC8-E6ECE92092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Compartment Syndrome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880" y="3429000"/>
            <a:ext cx="739152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aleed M. Awwad, MD, FRC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Bradley Hand ITC"/>
              </a:rPr>
              <a:t>Compartment Syndr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quela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rreversible damage within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which structures in the compartmen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actures (Volkmann’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oglobinuria and renal fail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mb los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Bradley Hand ITC"/>
              </a:rPr>
              <a:t>Compartment Syndr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 Fracture Vs Comminuted Fra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Fra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in with Passive stret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2895480" y="2895480"/>
            <a:ext cx="536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stellar"/>
              </a:rPr>
              <a:t>Thank You</a:t>
            </a:r>
            <a:endParaRPr b="1" lang="en-US" sz="5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Bradley Hand ITC"/>
              </a:rPr>
              <a:t>Compartment Syndr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ccurs when pressure in a fixed body compartment increases to level that exceed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venou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ressure, compromising venous blood flow, and limiting capillary perf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ds to muscle ischemia and necr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Bradley Hand ITC"/>
              </a:rPr>
              <a:t>Compartment Syndr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tributing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tern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itions that reduced size of muscle compartment (casts/splints);  occlusive dressing;  eschar of bu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ern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itions that increase compartment volume: bleeding, swelling, fluid extravasation into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Bradley Hand ITC"/>
              </a:rPr>
              <a:t>Compartment Syndr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spect with long bone fx, crush inju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ents as pain out of proportion to physical findings, +/- hypoesthesia, pulselessness (la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Bradley Hand ITC"/>
              </a:rPr>
              <a:t>Compartment Syndr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member the 6 P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in, paresthesias, paralysis, pallor, pulselessness, poikilothermia (cool limb)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Bradley Hand ITC"/>
              </a:rPr>
              <a:t>Compartment Syndr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tory of injur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in: Out of proportion to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ugh, because you need to know how much pain is “appropriate”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sthesias: Later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dx: Neuropraxia from direct trau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Bradley Hand ITC"/>
              </a:rPr>
              <a:t>Compartment Syndr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hysical exa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in with passive stre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ssure or tense swelling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esis? Very late!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ulses? Almost always INTA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f absent, consider other disease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mboli, direct arterial interrup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Bradley Hand ITC"/>
              </a:rPr>
              <a:t>Compartment Syndr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asure intra-compartmental pressure when considering compartment syndr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striker-compartment syndrome-photo"/>
          <p:cNvPicPr/>
          <p:nvPr/>
        </p:nvPicPr>
        <p:blipFill>
          <a:blip r:embed="rId1"/>
          <a:stretch/>
        </p:blipFill>
        <p:spPr>
          <a:xfrm>
            <a:off x="2895480" y="3352680"/>
            <a:ext cx="5029200" cy="32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Bradley Hand ITC"/>
              </a:rPr>
              <a:t>Compartment Syndr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creases pressure by opening “closed spac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mb should be fl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mergency fascioto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ten, will leave skin open because of severe swelling of mus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ayed primary closure or skin gra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02:32:17Z</dcterms:created>
  <dc:creator>scorpion</dc:creator>
  <dc:description/>
  <dc:language>en-US</dc:language>
  <cp:lastModifiedBy>Waleed Awwad</cp:lastModifiedBy>
  <dcterms:modified xsi:type="dcterms:W3CDTF">2012-07-24T15:21:58Z</dcterms:modified>
  <cp:revision>4</cp:revision>
  <dc:subject/>
  <dc:title>Compartment Syndrome</dc:title>
</cp:coreProperties>
</file>