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D62-E088-4E30-AD0E-82C8D09B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83F-0C3F-4D3B-AA4D-7D86ACDF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C86-21FB-4589-9ABD-2A6B0D44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579-DF11-4411-9E18-26F80E32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F9CB-2814-4E99-94AE-70D8516C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D04-9674-4EA6-93C6-2FE7E9F4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713-8B67-40C7-B54A-8694C32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2A41-7F9D-4F2C-9F83-5A4BF83B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B906-B32B-4179-8462-6EDE177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40E7-B67C-4959-84F3-2A687F1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A81-142E-48F8-BD6E-F880211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507-E82B-4636-B7D1-6AB7282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16C5-20C9-45D5-AA14-6DC99E4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408-93A2-425D-9C8F-BC199DC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E8E-F738-43A9-BD59-CF0430AD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7A60-4E60-4B84-8829-3ADCF627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E60B-7727-4729-AA47-3C5EEEDA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3A7-4113-491A-B78A-FA4829C6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4F9-5F54-4AA1-934A-58F9EF5B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3EC-3522-4883-8180-282337AD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BC0-7D6C-4401-BEE2-3D2B6F3C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F26-A65A-4FFD-B264-D34ED0D9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B5A-B305-43F7-88C5-B53DD9B6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A39-E3B2-4988-A073-06CC962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Bradley Hand ITC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C133-450A-48DC-973A-195518B6C4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11D3-B3BC-4B0B-9CA6-DD502ED3E2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Compartment Syndrome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739152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aleed M. Awwad, MD, FRC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quel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rreversible damage within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which structures in the compartmen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actures (Volkmann’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oglobinuria and renal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mb los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Fracture Vs Comminuted Fra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ra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 with Passive stre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895480" y="2895480"/>
            <a:ext cx="53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stellar"/>
              </a:rPr>
              <a:t>Thank You</a:t>
            </a:r>
            <a:endParaRPr b="1" lang="en-US" sz="5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ccurs when pressure in a fixed body compartment increases to level that exceed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en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ssure, compromising venous blood flow, and limiting capillary per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s to muscle ischemia and nec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tribut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s that reduced size of muscle compartment (casts/splints);  occlusive dressing;  eschar of b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s that increase compartment volume: bleeding, swelling, fluid extravasation into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spect with long bone fx, crush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ents as pain out of proportion to physical findings, +/- hypoesthesia, pulselessness (l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 the 6 P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, paresthesias, paralysis, pallor, pulselessness, poikilothermia (cool limb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y of inju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n: Out of proportion to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ugh, because you need to know how much pain is “appropriate”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esthesias: Later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dx: Neuropraxia from direct trau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ysical exa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in with passive stre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sure or tense swelling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sis? Very late!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lses? Almost always INTA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 absent, consider other diseas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boli, direct arterial interrup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sure intra-compartmental pressure when considering compartment syndr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triker-compartment syndrome-photo"/>
          <p:cNvPicPr/>
          <p:nvPr/>
        </p:nvPicPr>
        <p:blipFill>
          <a:blip r:embed="rId1"/>
          <a:stretch/>
        </p:blipFill>
        <p:spPr>
          <a:xfrm>
            <a:off x="2895480" y="3352680"/>
            <a:ext cx="502920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Bradley Hand ITC"/>
              </a:rPr>
              <a:t>Compartment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reases pressure by opening “closed spa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mb should be f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ergency fasciot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ten, will leave skin open because of severe swelling of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ayed primary closure or skin g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02:32:17Z</dcterms:created>
  <dc:creator>scorpion</dc:creator>
  <dc:description/>
  <dc:language>en-US</dc:language>
  <cp:lastModifiedBy>Waleed Awwad</cp:lastModifiedBy>
  <dcterms:modified xsi:type="dcterms:W3CDTF">2012-07-24T15:21:58Z</dcterms:modified>
  <cp:revision>4</cp:revision>
  <dc:subject/>
  <dc:title>Compartment Syndrome</dc:title>
</cp:coreProperties>
</file>