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843-49FD-4FDF-A9C7-DE138921141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5% occur in the fallopian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zygote or embryo may die and be absorbed  by the body,  or the tub could rupture with bleeding into the abdominal cavity .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is a surgical emergenc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F46E-5C11-4F35-9696-D5F2F5DE4B65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omplete abortion is the bleeding dilation of cervix and passage of tiss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E55-3F73-492C-B9B7-1F8DF54D6C6C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s A – G are abnormal implantation sites.   X indicates the normal implantation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74ED-8A88-4264-9D76-179312B3C572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trexate should never be used during an active pregnancy.  Prior to use there should be an ultra sound determining implantation site and fetal death .  A consent must be signed for the administration of this medication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F36-90EC-4888-81D8-A7877DE289CA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403-7A99-4580-8877-3E04CD0C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388-7A3E-42EC-BBEB-9975340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9AD-FF70-4A79-A325-E8800B08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7BE-212C-411A-9B42-CB2AAA04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0FC3-3A9A-4210-A2F2-BDDC1F37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0512-599B-4734-84DF-2EBF9FD4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74DC-33B0-4C80-B892-8025EAFD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85AD-77A8-4C1C-8E07-522A519B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647-7B07-468A-AA76-A784B4CC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61D1-21D1-47B2-B5BD-B3552271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4B02-F294-4D0C-AD77-49AF431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E56-F49E-41C9-869E-ACD6478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10A8-C8A2-49D6-909D-6606D0B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AF4-42C8-4B8A-9E33-F6289B3C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5D0D-4935-4321-93BE-09CDA79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64C8-70D3-48DC-B516-8AD04BD2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3930-1827-4E51-9686-BBC4553D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AA0-311D-40B3-8E7A-89971AE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CB1-DE1C-4BD9-8927-C432238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63A-F3F4-4EB2-A56D-2CEF095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C2E-2C12-41A5-9099-7305F868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CFD-5656-4F10-ACFF-F3BEF76D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F77-9002-4AFF-9BB9-A5F313C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787-2DA0-40BE-A594-B141C42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DDF5-0549-479B-BBC2-B97B03C3182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2D10-3B98-41BC-A7C8-F5202E6DCFD6}" type="slidenum">
              <a:rPr b="0" lang="ar-SA" sz="1400" spc="-1" strike="noStrike">
                <a:solidFill>
                  <a:srgbClr val="0033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eding Disorders of Early Pregn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ffective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Table 5-4_X32754"/>
          <p:cNvPicPr/>
          <p:nvPr/>
        </p:nvPicPr>
        <p:blipFill>
          <a:blip r:embed="rId2"/>
          <a:stretch/>
        </p:blipFill>
        <p:spPr>
          <a:xfrm>
            <a:off x="304920" y="1905120"/>
            <a:ext cx="8702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topic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95% occur in fallopian tub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carring or tubal deformity may result from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ormonal abnormaliti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flam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fec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hes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ongenital defect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dometriosi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.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The blastcyst normally implants in the endometrial lining of the uterine cavity. Implantation anywhere else is an ectopic pregnanc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t is one in which the fertilized ovum is implanted and developed outside of the uterine cavit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  <a:ea typeface="宋体"/>
              </a:rPr>
              <a:t>II.Incidenc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ore than 1 in every 100 pregnanc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ahoma"/>
                <a:ea typeface="宋体"/>
              </a:rPr>
              <a:t>III .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宋体"/>
              </a:rPr>
              <a:t>Types of ectopic pregnancy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124080"/>
            <a:ext cx="472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Tubal                 95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Ovarian         0.5-1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Cervica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Abdomin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Broad liga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3200400"/>
            <a:ext cx="3886200" cy="3124080"/>
            <a:chOff x="4800600" y="3200400"/>
            <a:chExt cx="3886200" cy="312408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4800600" y="320040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800600" y="3200400"/>
              <a:ext cx="388620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543800" y="28195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7339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57200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41911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.Tubal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4648320" cy="2336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9880" y="3581280"/>
            <a:ext cx="190512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t is one of abdominal emergenc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nterabdominal hemorrhage    sever hemorrhge shock        died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.sit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※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1)Ampullar   60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2)isthmic     25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3)fimbrial    17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4)Interstitial 2%~4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Sympto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amenorrhea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low abdominal pain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vaginal bleeding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4)shock and collapse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Sig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general condition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abdominal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pelvic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　　①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the posterior fornix: tendness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②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pain on motion of cervix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③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uterus: 6~8w size, soft, flo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④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 soft and elastic mas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Medium ITC"/>
              </a:rPr>
              <a:t>Complications of 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solidFill>
            <a:srgbClr val="3d556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ctopic Pregnancy (EP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menorrhe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Bleeding/Spotting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 Abdominal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28440" y="2819520"/>
            <a:ext cx="2057400" cy="144756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572000"/>
            <a:ext cx="228600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1320" y="2819160"/>
            <a:ext cx="1752480" cy="144756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A. tubal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1)tubal abortion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common in ampular tubal pregnanc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2)tubal rupture: profuse hemorrhag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common in isthmic TP:  6w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interstitial TP: 16w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3)abdominal pregnancy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eding Disorders of Early Pregna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8960" y="16765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ortion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pontaneous (non-intentional)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 pregnancy that ends before 20 week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reatened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ght spotting; cervix is closed &amp; no tissue is pass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evitable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creased bleeding &amp; cervix dila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complete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leeding dilation of cervix &amp; passage of tissu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6858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56f"/>
                </a:solidFill>
                <a:uFillTx/>
                <a:latin typeface="Tahoma"/>
              </a:rPr>
              <a:t>Clinical Manifestat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dominal or pelvic pain (most common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rregular vaginal bleeding â€” usually scanty and dark (most common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menorrhea”in 75% of the cas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terine size is usually similar to what it would be in a normally implanted pregnanc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dominal tenderness on palpatio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ulder pai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creased pulse and anxiet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ausea, vomiting, faintness, or vertigo and syncope with abdominal pain may develop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elvic examination reveals a pelvic mass, posterior or lateral to the uterus, adnexal tenderness, and cervical pain on movement of the cervi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5.Diagno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Sympto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Sig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xillary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9753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 pregnancy tests:β-HCG&gt;25u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quantitive serum β-HCG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 pelvic ultrasound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 the bloody fluid does not clo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4)laproscopy: diagnosis and treatm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5)endometrial histology: Arias-Stella reac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Medium ITC"/>
              </a:rPr>
              <a:t>Complications of 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ctopic Pregnancy (EP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nage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ertinent hx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issed mens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xually act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evious EP, STD, surgery, etc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ower quadrant pain/tendernes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void aggressive palpation/repeated exa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Vital sign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rthostatic as appropria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igh flow 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eat for shock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osi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V acces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rgical intervention usually requir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F05-03-X32754"/>
          <p:cNvPicPr/>
          <p:nvPr/>
        </p:nvPicPr>
        <p:blipFill>
          <a:blip r:embed="rId2"/>
          <a:stretch/>
        </p:blipFill>
        <p:spPr>
          <a:xfrm>
            <a:off x="1795320" y="1676520"/>
            <a:ext cx="6239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urgical Treat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woman does not consent to or meet criteria for methotrexate, surgical intervention is instituted. The surgical procedure depends on the extent of tubal involvement and if rupture has occurr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e surgery of choice used to preserve future fertility is a salpingos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uld a woman not desire future fertility, the surgery of choice is salpingec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ther surgeries range from removal of ectopic pregnancy with tubal resection, salpingostomy (removes conceptus leaving tube intact, yet scarred), and possibly salpingo-oophorec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eat shock and hemorrhage if necessar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minister RhIG (immune globulin) per your facility's policy if woman is Rh negativ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topic Pregnancies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omplication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nfertil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morrhage and dea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Assess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aluate the following to determine pregnancy and to monitor for changes in patient's status, such as rupture or hemorrhage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ternal vital sig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and amount of vaginal bleeding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mount and type of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abdominal tenderness on palpation/shoulder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ate of last menstrual perio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positive pregnancy te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h typ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eeding Disorders of Early Pregnancy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omplet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assage of all products of conception, cervix closes and bleeding stop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issed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etus dies in utero but is not expelled, uterine growth stops and spetis is possibl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current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 or more consecutive spontaneous abortion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ursing Diagnos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isk for Deficient Fluid Volume related to blood loss from ruptured tub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cute Pain related to ectopic pregnancy or rupture and bleeding into the peritoneal cav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nticipatory Grieving related to loss of pregnancy and potential loss of childbearing capac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Intervent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intaining Fluid Volum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stablish an I.V. line with a large-bore catheter, and infuse fluids and packed RBCs as prescrib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btain blood samples for complete blood count (CBC) and type and screen for whole blood, as direct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vital signs and urine output frequently, depending on condi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omoting Comfor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minister analgesics as needed and prescrib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courage the use of relaxation techniqu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atidiform Mo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Molar Pregnancy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lso known as Gestational Trophoblastic Disea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ccurs when chorionic villi abnormally increase and develop vesicl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y cause hemorrhage, clotting abnormalities, hypertension, and later development of canc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re likely to occur in women at age extremes of the reproductive lif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Rectangle 3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1532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888840"/>
            <a:ext cx="86104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atidiform Mole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anifestation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leedin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apid uterine growt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ailure to detect fetal heart activity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gns of hyperemesis gravidaru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nusually early development of G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igher than expected levels of hC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 distinct “snowstorm” pattern on ultrasound with no evidence of a developing fetu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eatmen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terine evacu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Dilation and evacu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uction curettage is the method of choice for immediate evacuation of the mole with possibility of laparotom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llow-up for detection of malignant changes because a complication is the development of choriocarcinoma of the endometrium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Assess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maternal vital signs; note presence of hypertens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ssess the amount and type of vaginal bleeding; note the presence of any other vaginal discharg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ssess the urine for the presence of protei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alpate uterine height; if above the umbilicus, measure the fundal heigh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etermine date of last menstrual period and date of positive pregnancy t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aluate CBC results and Rh typ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ursing Intervention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intaining Fluid Volum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btain blood samples for type and screen, and have 2 to 4 units of whole blood available for possible replacement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stablish and maintain I.V. line; start with a large needle to accommodate possible transfusion and large quantities of flui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ssess maternal vital signs, and evaluate bleeding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onitor laboratory results to evaluate patient's statu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creasing Anxiet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pare the patient for surgery. Explain preoperative and postoperative care along with intraoperative procedu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ducate patient and family on the disease proces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llow the family to grieve over the loss of the pregnanc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uced Abor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apeutic 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entional termination of pregnancy before age of viability to preserve the health of the moth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lective 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entional termination of pregnancy for reasons unrelated to mothers health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atient Education and Health Maintenanc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vise the woman on the need for continuous follow-up car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ovide reinforcement of follow-up procedures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easure-hCG levels every 1 to 2 weeks until normal â€” then begin monthly testing for 6 months, then every 2 months for a total of 1 ye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sider chemotherapy or hysterectomy if -hCG levels rise or begin to plateau or there is evidence of metastasi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courage ongoing discussion of care with health care provid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F05-02-X32754"/>
          <p:cNvPicPr/>
          <p:nvPr/>
        </p:nvPicPr>
        <p:blipFill>
          <a:blip r:embed="rId2"/>
          <a:stretch/>
        </p:blipFill>
        <p:spPr>
          <a:xfrm>
            <a:off x="1481040" y="1676520"/>
            <a:ext cx="6867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397008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hreate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inevi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incompl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mis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ocument amount and character of bleeding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ave anything that looks like clots or tissue for evaluation by a pathologi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erineal pad count with estimated amount of blood per pad, such as 50% (could weight pads before/after)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vital sig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actively bleeding, woman should be kept NPO in case surgical intervention is neede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ursing Care of Early Pregnancy Bleeding Disord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-Abortion Tea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port increased bleed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ake temperature every 8 hours for 3 day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ake an oral iron supplement if prescrib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sume sexual activity as recommended by the health care provide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turn to health care provider at the recommended time for a checkup and contraception inform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gnancy can occur before the first menstrual period returns after the abortion procedu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otional C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piritual support from someone of the family’s choice and community support groups may help the family work through the grief of any pregnancy los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view effective and ineffective communication techniques found in Table 5-4 on page 84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0:27Z</dcterms:created>
  <dc:creator>twright</dc:creator>
  <dc:description/>
  <dc:language>en-US</dc:language>
  <cp:lastModifiedBy>Aziza</cp:lastModifiedBy>
  <dcterms:modified xsi:type="dcterms:W3CDTF">2011-10-08T08:18:54Z</dcterms:modified>
  <cp:revision>66</cp:revision>
  <dc:subject/>
  <dc:title>Complications During Pregnancy</dc:title>
</cp:coreProperties>
</file>