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51E2-053B-4A55-B001-F9BE774FAAB2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5% occur in the fallopian tu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zygote or embryo may die and be absorbed  by the body,  or the tub could rupture with bleeding into the abdominal cavity .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is is a surgical emergenc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3108-6227-45AB-9EDF-EA1C07CFE922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ncomplete abortion is the bleeding dilation of cervix and passage of tissu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A2E2-00F8-4259-BE1B-10E5E335F635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hts A – G are abnormal implantation sites.   X indicates the normal implantation s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B25F-4EB6-4C9B-9B10-F6F243404B86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hotrexate should never be used during an active pregnancy.  Prior to use there should be an ultra sound determining implantation site and fetal death .  A consent must be signed for the administration of this medication.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DE64-1DF7-4E2C-8DF6-52A08195EC89}" type="slidenum">
              <a:rPr b="0" lang="ar-SA" sz="1200" spc="-1" strike="noStrike">
                <a:solidFill>
                  <a:srgbClr val="003366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225-AD53-45C3-8585-8492173F0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7E02-1DA2-40AA-940B-A72D8DE7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BD5A-1DE8-443B-A6CB-70DDFC10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BCB4-E9C5-4CA5-9279-5A9C2C003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19E0-DABB-4A8D-9EF8-8F32DC92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D88D-6695-483A-954E-AA645D16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0377-FC6B-4780-84BB-3FE17FAD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1D71-2184-4EBE-B23E-88C0B14E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E35C-C034-4A92-9779-619E9C3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8D9A-8D32-4506-B835-51015786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0207-C0DD-402C-B12B-F7789ABB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AFEE-8A3E-4D3A-97FD-C6A8E1CD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618F-A8CA-4347-BD3E-A04EDD18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4483-1E7E-434E-BB66-958B8F46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6BC55-D90D-4812-B725-671EADD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54C7-E7CD-4EA1-97AD-C89190D8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808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6840" y="16761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808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6840" y="4143960"/>
            <a:ext cx="237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7FD1-9936-4975-94C4-22DB5E5A8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1282-3880-492F-B52A-90A59A59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64F2-3B53-43ED-87F8-96984EEF0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C68-7D1F-468B-B5AE-E1F76110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152280"/>
            <a:ext cx="739116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1C3-5CE2-4649-86FB-B39A15A9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20D0-0F96-44F2-8E7D-A2C21E82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6520" y="41439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B81-8BCA-4997-910C-9A9822DB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6520" y="1676160"/>
            <a:ext cx="36068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4143960"/>
            <a:ext cx="7391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8DE5-92CE-4D9C-8DEA-4FB261543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50FD-1703-4180-872A-A6F4F66410AC}" type="slidenum">
              <a:rPr b="0" lang="ar-SA" sz="1400" spc="-1" strike="noStrike">
                <a:solidFill>
                  <a:srgbClr val="000000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3" marL="156204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4" marL="1981080" indent="-2286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5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6" marL="1981080" indent="-22860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3366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B7A29-2BB3-4B6F-8983-882B7D195DEE}" type="slidenum">
              <a:rPr b="0" lang="ar-SA" sz="1400" spc="-1" strike="noStrike">
                <a:solidFill>
                  <a:srgbClr val="003366"/>
                </a:solidFill>
                <a:latin typeface="Tahoma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160" y="2895480"/>
            <a:ext cx="739116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eding Disorders of Early Pregna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3733560"/>
            <a:ext cx="73911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ffective Communic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5" descr="Table 5-4_X32754"/>
          <p:cNvPicPr/>
          <p:nvPr/>
        </p:nvPicPr>
        <p:blipFill>
          <a:blip r:embed="rId2"/>
          <a:stretch/>
        </p:blipFill>
        <p:spPr>
          <a:xfrm>
            <a:off x="304920" y="1905120"/>
            <a:ext cx="8702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topic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95% occur in fallopian tub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carring or tubal deformity may result from: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Hormonal abnormaliti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flamm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fec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hes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ongenital defect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dometriosi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Ⅰ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.Defini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The blastcyst normally implants in the endometrial lining of the uterine cavity. Implantation anywhere else is an ectopic pregnanc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t is one in which the fertilized ovum is implanted and developed outside of the uterine cavit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  <a:ea typeface="宋体"/>
              </a:rPr>
              <a:t>II.Incidence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more than 1 in every 100 pregnanc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</a:t>
            </a:r>
            <a:r>
              <a:rPr b="1" lang="en-US" sz="3600" spc="-1" strike="noStrike">
                <a:solidFill>
                  <a:srgbClr val="003366"/>
                </a:solidFill>
                <a:latin typeface="Tahoma"/>
                <a:ea typeface="宋体"/>
              </a:rPr>
              <a:t>III .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4000" spc="-1" strike="noStrike">
                <a:solidFill>
                  <a:srgbClr val="003366"/>
                </a:solidFill>
                <a:latin typeface="Tahoma"/>
                <a:ea typeface="宋体"/>
              </a:rPr>
              <a:t>Types of ectopic pregnancy</a:t>
            </a:r>
            <a:endParaRPr b="0" lang="en-US" sz="4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3124080"/>
            <a:ext cx="47242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Tubal                 95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Ovarian         0.5-1%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Cervical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Abdomina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Broad liga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1828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800600" y="3200400"/>
            <a:ext cx="3886200" cy="3124080"/>
            <a:chOff x="4800600" y="3200400"/>
            <a:chExt cx="3886200" cy="3124080"/>
          </a:xfrm>
        </p:grpSpPr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4800600" y="3200400"/>
              <a:ext cx="388620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 txBox="1"/>
            <p:nvPr/>
          </p:nvSpPr>
          <p:spPr>
            <a:xfrm>
              <a:off x="4800600" y="3200400"/>
              <a:ext cx="3886200" cy="3124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7543800" y="28195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91520" y="37339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62720" y="457200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30481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29400" y="4191120"/>
            <a:ext cx="228600" cy="228600"/>
          </a:xfrm>
          <a:prstGeom prst="ellipse">
            <a:avLst/>
          </a:pr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2296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Ⅳ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.Tubal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4648320" cy="23367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9880" y="3581280"/>
            <a:ext cx="190512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t is one of abdominal emergenc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Interabdominal hemorrhage    sever hemorrhge shock        died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1.sit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※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1)Ampullar   60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2)isthmic     25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3)fimbrial    17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4)Interstitial 2%~4%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Sympto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2438280"/>
            <a:ext cx="835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amenorrhea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low abdominal pain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vaginal bleeding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4)shock and collapse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Sig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general condition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abdominal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pelvic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66"/>
                </a:solidFill>
                <a:latin typeface="Tahoma"/>
                <a:ea typeface="宋体"/>
              </a:rPr>
              <a:t>　　①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the posterior fornix: tendness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②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pain on motion of cervix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③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uterus: 6~8w size, soft, floa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④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 soft and elastic mas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Medium ITC"/>
              </a:rPr>
              <a:t>Complications of 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solidFill>
            <a:srgbClr val="3d556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ctopic Pregnancy (EP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linical Presenta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Amenorrhea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Bleeding/Spotting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</a:rPr>
              <a:t>  Abdominal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828440" y="2819520"/>
            <a:ext cx="2057400" cy="144756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572000"/>
            <a:ext cx="2286000" cy="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5791320" y="2819160"/>
            <a:ext cx="1752480" cy="1447560"/>
          </a:xfrm>
          <a:prstGeom prst="line">
            <a:avLst/>
          </a:prstGeom>
          <a:ln w="2844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A. tubal pregnanc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1)tubal abortion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common in ampular tubal pregnancy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2)tubal rupture: profuse hemorrhage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common in isthmic TP:  6w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interstitial TP: 16w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(3)abdominal pregnancy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  <a:ea typeface="宋体"/>
              </a:rPr>
              <a:t>         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eding Disorders of Early Pregnanc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18960" y="1676520"/>
            <a:ext cx="7391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ortion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pontaneous (non-intentional)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 pregnancy that ends before 20 week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hreatened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ight spotting; cervix is closed &amp; no tissue is pass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evitable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creased bleeding &amp; cervix dilate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complete Abortio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Bleeding dilation of cervix &amp; passage of tissu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3" action="ppaction://hlinksldjump"/>
          </p:cNvPr>
          <p:cNvSpPr/>
          <p:nvPr/>
        </p:nvSpPr>
        <p:spPr>
          <a:xfrm>
            <a:off x="6858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8846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7001" y="3794"/>
                </a:lnTo>
                <a:lnTo>
                  <a:pt x="7001" y="17806"/>
                </a:lnTo>
                <a:lnTo>
                  <a:pt x="5338" y="17806"/>
                </a:lnTo>
                <a:close/>
              </a:path>
            </a:pathLst>
          </a:cu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>
            <a:hlinkClick r:id="rId3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4490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12645" y="3794"/>
                </a:lnTo>
                <a:lnTo>
                  <a:pt x="12645" y="17806"/>
                </a:lnTo>
                <a:lnTo>
                  <a:pt x="10982" y="17806"/>
                </a:lnTo>
                <a:close/>
              </a:path>
            </a:pathLst>
          </a:custGeom>
          <a:solidFill>
            <a:srgbClr val="8eb3c8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d556f"/>
                </a:solidFill>
                <a:uFillTx/>
                <a:latin typeface="Tahoma"/>
              </a:rPr>
              <a:t>Clinical Manifestat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dominal or pelvic pain (most common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rregular vaginal bleeding â€” usually scanty and dark (most common)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menorrhea”in 75% of the cas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Uterine size is usually similar to what it would be in a normally implanted pregnanc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bdominal tenderness on palpatio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ulder pain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Increased pulse and anxiet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ausea, vomiting, faintness, or vertigo and syncope with abdominal pain may develop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elvic examination reveals a pelvic mass, posterior or lateral to the uterus, adnexal tenderness, and cervical pain on movement of the cervix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宋体"/>
              </a:rPr>
              <a:t>5.Diagnosi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Symptom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Sig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axillary examina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240" y="1219320"/>
            <a:ext cx="97534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1) pregnancy tests:β-HCG&gt;25u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         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quantitive serum β-HCG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2) pelvic ultrasound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3) the bloody fluid does not clo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</a:t>
            </a: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4)laproscopy: diagnosis and treatm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(5)endometrial histology: Arias-Stella reac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  <a:ea typeface="宋体"/>
              </a:rPr>
              <a:t>                                      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Eras Medium ITC"/>
              </a:rPr>
              <a:t>Complications of Pregnanc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ctopic Pregnancy (EP)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nage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ertinent hx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issed mense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exually activ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revious EP, STD, surgery, etc.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Lower quadrant pain/tendernes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void aggressive palpation/repeated exa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Vital sign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Orthostatic as appropriate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igh flow O</a:t>
            </a:r>
            <a:r>
              <a:rPr b="0" lang="en-US" sz="2400" spc="-1" strike="noStrike" baseline="-25000">
                <a:solidFill>
                  <a:srgbClr val="003366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eat for shock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Posi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3" marL="1514880" indent="-221400">
              <a:lnSpc>
                <a:spcPct val="90000"/>
              </a:lnSpc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IV acces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urgical intervention usually requir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4" descr="F05-03-X32754"/>
          <p:cNvPicPr/>
          <p:nvPr/>
        </p:nvPicPr>
        <p:blipFill>
          <a:blip r:embed="rId2"/>
          <a:stretch/>
        </p:blipFill>
        <p:spPr>
          <a:xfrm>
            <a:off x="1795320" y="1676520"/>
            <a:ext cx="6239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4568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urgical Treat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woman does not consent to or meet criteria for methotrexate, surgical intervention is instituted. The surgical procedure depends on the extent of tubal involvement and if rupture has occurr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he surgery of choice used to preserve future fertility is a salpingos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Should a woman not desire future fertility, the surgery of choice is salpingec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ther surgeries range from removal of ectopic pregnancy with tubal resection, salpingostomy (removes conceptus leaving tube intact, yet scarred), and possibly salpingo-oophorectom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Treat shock and hemorrhage if necessary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minister RhIG (immune globulin) per your facility's policy if woman is Rh negativ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topic Pregnancies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Complication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Infertil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Hemorrhage and death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9907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Assess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aluate the following to determine pregnancy and to monitor for changes in patient's status, such as rupture or hemorrhage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ternal vital sig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and amount of vaginal bleeding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mount and type of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abdominal tenderness on palpation/shoulder pain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ate of last menstrual perio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esence of positive pregnancy te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h typ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Bleeding Disorders of Early Pregnancy (continued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Complet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assage of all products of conception, cervix closes and bleeding stop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issed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Fetus dies in utero but is not expelled, uterine growth stops and spetis is possibl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Recurrent 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2 or more consecutive spontaneous abortions 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Nursing Diagnose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isk for Deficient Fluid Volume related to blood loss from ruptured tube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cute Pain related to ectopic pregnancy or rupture and bleeding into the peritoneal cav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Anticipatory Grieving related to loss of pregnancy and potential loss of childbearing capacity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685440"/>
            <a:ext cx="830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Interventio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intaining Fluid Volum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stablish an I.V. line with a large-bore catheter, and infuse fluids and packed RBCs as prescrib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btain blood samples for complete blood count (CBC) and type and screen for whole blood, as direct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vital signs and urine output frequently, depending on condit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omoting Comfor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minister analgesics as needed and prescribed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courage the use of relaxation techniques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atidiform Mole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(Molar Pregnancy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lso known as Gestational Trophoblastic Diseas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Occurs when chorionic villi abnormally increase and develop vesicle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ay cause hemorrhage, clotting abnormalities, hypertension, and later development of canc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re likely to occur in women at age extremes of the reproductive lif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Rectangle 3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Rectangle 3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815328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888840"/>
            <a:ext cx="861048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Hydatidiform Mole (Continued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Manifestation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leedin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Rapid uterine growt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Failure to detect fetal heart activity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Signs of hyperemesis gravidarum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nusually early development of GH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igher than expected levels of hCG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A distinct “snowstorm” pattern on ultrasound with no evidence of a developing fetus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reatment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Uterine evacu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Dilation and evacuation</a:t>
            </a:r>
            <a:endParaRPr b="0" lang="en-US" sz="20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uction curettage is the method of choice for immediate evacuation of the mole with possibility of laparotomy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Follow-up for detection of malignant changes because a complication is the development of choriocarcinoma of the endometrium.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Nursing Assessmen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maternal vital signs; note presence of hypertensio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ssess the amount and type of vaginal bleeding; note the presence of any other vaginal discharg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ssess the urine for the presence of protein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alpate uterine height; if above the umbilicus, measure the fundal heigh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etermine date of last menstrual period and date of positive pregnancy test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valuate CBC results and Rh typ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Nursing Intervention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aintaining Fluid Volum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Obtain blood samples for type and screen, and have 2 to 4 units of whole blood available for possible replacement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stablish and maintain I.V. line; start with a large needle to accommodate possible transfusion and large quantities of fluid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ssess maternal vital signs, and evaluate bleeding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onitor laboratory results to evaluate patient's statu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Decreasing Anxiety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pare the patient for surgery. Explain preoperative and postoperative care along with intraoperative procedure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Educate patient and family on the disease proces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Allow the family to grieve over the loss of the pregnancy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duced Abor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Therapeutic 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entional termination of pregnancy before age of viability to preserve the health of the moth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Elective Abortion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ntentional termination of pregnancy for reasons unrelated to mothers health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atient Education and Health Maintenance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Advise the woman on the need for continuous follow-up care.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rovide reinforcement of follow-up procedures: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Measure-hCG levels every 1 to 2 weeks until normal â€” then begin monthly testing for 6 months, then every 2 months for a total of 1 year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Consider chemotherapy or hysterectomy if -hCG levels rise or begin to plateau or there is evidence of metastasis.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Encourage ongoing discussion of care with health care provider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bor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F05-02-X32754"/>
          <p:cNvPicPr/>
          <p:nvPr/>
        </p:nvPicPr>
        <p:blipFill>
          <a:blip r:embed="rId2"/>
          <a:stretch/>
        </p:blipFill>
        <p:spPr>
          <a:xfrm>
            <a:off x="1481040" y="1676520"/>
            <a:ext cx="6867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590920" y="457200"/>
            <a:ext cx="3970080" cy="6019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9072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threaten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inevitab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5486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incomple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5410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Comic Sans MS"/>
                <a:ea typeface="Times New Roman"/>
              </a:rPr>
              <a:t>miss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Document amount and character of bleeding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Save anything that looks like clots or tissue for evaluation by a pathologist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Perineal pad count with estimated amount of blood per pad, such as 50% (could weight pads before/after)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Monitor vital signs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ahoma"/>
              </a:rPr>
              <a:t>If actively bleeding, woman should be kept NPO in case surgical intervention is needed</a:t>
            </a: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ursing Care of Early Pregnancy Bleeding Disorde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ost-Abortion Teach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port increased bleeding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ake temperature every 8 hours for 3 days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ake an oral iron supplement if prescribed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sume sexual activity as recommended by the health care provider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Return to health care provider at the recommended time for a checkup and contraception information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Pregnancy can occur before the first menstrual period returns after the abortion procedure</a:t>
            </a: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8960" y="1522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motional C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Spiritual support from someone of the family’s choice and community support groups may help the family work through the grief of any pregnancy loss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ahoma"/>
              </a:rPr>
              <a:t>Review effective and ineffective communication techniques found in Table 5-4 on page 84</a:t>
            </a: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eb3c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7T17:50:27Z</dcterms:created>
  <dc:creator>twright</dc:creator>
  <dc:description/>
  <dc:language>en-US</dc:language>
  <cp:lastModifiedBy>Aziza</cp:lastModifiedBy>
  <dcterms:modified xsi:type="dcterms:W3CDTF">2011-10-08T08:18:54Z</dcterms:modified>
  <cp:revision>66</cp:revision>
  <dc:subject/>
  <dc:title>Complications During Pregnancy</dc:title>
</cp:coreProperties>
</file>