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8CB-6B54-47FB-BB12-F219CA15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D9C-0807-4C36-B7D0-758902D7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7A4E-B106-4BCD-AF70-E5435DED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997-B717-445C-B7A4-42F56EEC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BD4-376D-45BB-80B2-23EB8DCB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10A8-AF4C-4D0E-BD13-9F942F8B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0F3-A292-4503-8FA5-DB2241C3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BB0-F2D6-4175-8203-C07CFE5E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C1B-CDD6-4B07-966D-4465549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2F1-FDB2-472D-AF7A-367ADA2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ED6-F9E0-4BB7-A6F8-19C35933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425-8CC7-43C4-AC72-8BF21E17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EE49-9F67-4ED3-B8D2-12A5DF90B9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5"/>
          <p:cNvGrpSpPr/>
          <p:nvPr/>
        </p:nvGrpSpPr>
        <p:grpSpPr>
          <a:xfrm>
            <a:off x="1619280" y="115920"/>
            <a:ext cx="6000840" cy="6157080"/>
            <a:chOff x="1619280" y="115920"/>
            <a:chExt cx="6000840" cy="6157080"/>
          </a:xfrm>
        </p:grpSpPr>
        <p:pic>
          <p:nvPicPr>
            <p:cNvPr id="42" name="Picture 4" descr=""/>
            <p:cNvPicPr/>
            <p:nvPr/>
          </p:nvPicPr>
          <p:blipFill>
            <a:blip r:embed="rId1">
              <a:lum bright="24000"/>
            </a:blip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Line 6"/>
            <p:cNvSpPr/>
            <p:nvPr/>
          </p:nvSpPr>
          <p:spPr>
            <a:xfrm>
              <a:off x="3995640" y="1773360"/>
              <a:ext cx="1224000" cy="1800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7"/>
            <p:cNvSpPr/>
            <p:nvPr/>
          </p:nvSpPr>
          <p:spPr>
            <a:xfrm flipV="1">
              <a:off x="3995640" y="1557360"/>
              <a:ext cx="936720" cy="216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6443640" y="836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3708360" y="1628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1"/>
            <p:cNvSpPr/>
            <p:nvPr/>
          </p:nvSpPr>
          <p:spPr>
            <a:xfrm>
              <a:off x="2916360" y="12621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2"/>
            <p:cNvSpPr/>
            <p:nvPr/>
          </p:nvSpPr>
          <p:spPr>
            <a:xfrm flipV="1">
              <a:off x="3203640" y="981000"/>
              <a:ext cx="93672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1908000" y="4653000"/>
              <a:ext cx="5040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olar Connective Tiss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llow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4"/>
            <p:cNvSpPr/>
            <p:nvPr/>
          </p:nvSpPr>
          <p:spPr>
            <a:xfrm flipH="1" flipV="1">
              <a:off x="2771640" y="476280"/>
              <a:ext cx="432000" cy="792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عنصر نائب للتذييل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9"/>
          <p:cNvGrpSpPr/>
          <p:nvPr/>
        </p:nvGrpSpPr>
        <p:grpSpPr>
          <a:xfrm>
            <a:off x="1619280" y="115920"/>
            <a:ext cx="6000840" cy="6352200"/>
            <a:chOff x="1619280" y="115920"/>
            <a:chExt cx="6000840" cy="6352200"/>
          </a:xfrm>
        </p:grpSpPr>
        <p:pic>
          <p:nvPicPr>
            <p:cNvPr id="53" name="Picture 4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1"/>
            <p:cNvSpPr/>
            <p:nvPr/>
          </p:nvSpPr>
          <p:spPr>
            <a:xfrm>
              <a:off x="1908000" y="4848120"/>
              <a:ext cx="5040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olar Connective Tiss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llow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 flipV="1">
              <a:off x="3995640" y="2276280"/>
              <a:ext cx="1513080" cy="144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 flipV="1">
              <a:off x="3995640" y="1268280"/>
              <a:ext cx="505080" cy="1152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6443640" y="1484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3708360" y="2276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6"/>
            <p:cNvSpPr/>
            <p:nvPr/>
          </p:nvSpPr>
          <p:spPr>
            <a:xfrm>
              <a:off x="3132000" y="4005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7"/>
            <p:cNvSpPr/>
            <p:nvPr/>
          </p:nvSpPr>
          <p:spPr>
            <a:xfrm flipV="1">
              <a:off x="3419640" y="3645000"/>
              <a:ext cx="14436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8"/>
            <p:cNvSpPr/>
            <p:nvPr/>
          </p:nvSpPr>
          <p:spPr>
            <a:xfrm flipV="1">
              <a:off x="3419640" y="2852280"/>
              <a:ext cx="1873080" cy="1297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عنصر نائب للتذييل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1979640" y="27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12000" y="1909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132000" y="1844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34800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7"/>
          <p:cNvGrpSpPr/>
          <p:nvPr/>
        </p:nvGrpSpPr>
        <p:grpSpPr>
          <a:xfrm>
            <a:off x="1403280" y="44280"/>
            <a:ext cx="6193080" cy="6717240"/>
            <a:chOff x="1403280" y="44280"/>
            <a:chExt cx="6193080" cy="6717240"/>
          </a:xfrm>
        </p:grpSpPr>
        <p:pic>
          <p:nvPicPr>
            <p:cNvPr id="68" name="Picture 2" descr=""/>
            <p:cNvPicPr/>
            <p:nvPr/>
          </p:nvPicPr>
          <p:blipFill>
            <a:blip r:embed="rId1">
              <a:lum bright="12000"/>
            </a:blip>
            <a:srcRect l="1955" t="0" r="0" b="0"/>
            <a:stretch/>
          </p:blipFill>
          <p:spPr>
            <a:xfrm>
              <a:off x="1619280" y="44280"/>
              <a:ext cx="59770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Line 3"/>
            <p:cNvSpPr/>
            <p:nvPr/>
          </p:nvSpPr>
          <p:spPr>
            <a:xfrm flipH="1" flipV="1">
              <a:off x="5294160" y="1915920"/>
              <a:ext cx="789120" cy="144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"/>
            <p:cNvSpPr/>
            <p:nvPr/>
          </p:nvSpPr>
          <p:spPr>
            <a:xfrm flipV="1">
              <a:off x="3564000" y="1988640"/>
              <a:ext cx="1295280" cy="71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"/>
            <p:cNvSpPr/>
            <p:nvPr/>
          </p:nvSpPr>
          <p:spPr>
            <a:xfrm flipV="1">
              <a:off x="3780000" y="3068280"/>
              <a:ext cx="1008000" cy="430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 flipV="1">
              <a:off x="2413080" y="2349000"/>
              <a:ext cx="2087640" cy="5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>
              <a:off x="4859280" y="2060640"/>
              <a:ext cx="1225440" cy="216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2"/>
            <p:cNvSpPr/>
            <p:nvPr/>
          </p:nvSpPr>
          <p:spPr>
            <a:xfrm>
              <a:off x="1403280" y="4724280"/>
              <a:ext cx="6193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nective Tissu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yaline Cartilage From Trachea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c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ondrocytes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3"/>
            <p:cNvSpPr/>
            <p:nvPr/>
          </p:nvSpPr>
          <p:spPr>
            <a:xfrm>
              <a:off x="1979640" y="27558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4"/>
            <p:cNvSpPr/>
            <p:nvPr/>
          </p:nvSpPr>
          <p:spPr>
            <a:xfrm>
              <a:off x="6012000" y="1884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132000" y="18194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6"/>
            <p:cNvSpPr/>
            <p:nvPr/>
          </p:nvSpPr>
          <p:spPr>
            <a:xfrm>
              <a:off x="3348000" y="3357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عنصر نائب للتذييل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0"/>
          <p:cNvGrpSpPr/>
          <p:nvPr/>
        </p:nvGrpSpPr>
        <p:grpSpPr>
          <a:xfrm>
            <a:off x="539640" y="189000"/>
            <a:ext cx="7993080" cy="6541560"/>
            <a:chOff x="539640" y="189000"/>
            <a:chExt cx="7993080" cy="6541560"/>
          </a:xfrm>
        </p:grpSpPr>
        <p:pic>
          <p:nvPicPr>
            <p:cNvPr id="81" name="Picture 2" descr=""/>
            <p:cNvPicPr/>
            <p:nvPr/>
          </p:nvPicPr>
          <p:blipFill>
            <a:blip r:embed="rId1"/>
            <a:srcRect l="0" t="0" r="2345" b="0"/>
            <a:stretch/>
          </p:blipFill>
          <p:spPr>
            <a:xfrm>
              <a:off x="1571760" y="189000"/>
              <a:ext cx="59529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Line 3"/>
            <p:cNvSpPr/>
            <p:nvPr/>
          </p:nvSpPr>
          <p:spPr>
            <a:xfrm flipH="1">
              <a:off x="4571640" y="2492280"/>
              <a:ext cx="3529080" cy="73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"/>
            <p:cNvSpPr/>
            <p:nvPr/>
          </p:nvSpPr>
          <p:spPr>
            <a:xfrm flipV="1">
              <a:off x="1042920" y="3214800"/>
              <a:ext cx="2665440" cy="698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8172360" y="1700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6"/>
            <p:cNvSpPr/>
            <p:nvPr/>
          </p:nvSpPr>
          <p:spPr>
            <a:xfrm>
              <a:off x="8028000" y="2270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539640" y="27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1114560" y="2349360"/>
              <a:ext cx="33130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1619280" y="4724280"/>
              <a:ext cx="5761080" cy="20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rvous tissues (T.S. of the Spinal cord of the Rabbit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matter                  5. ventral commissure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ey matter                    6. Dorsal horn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al canal                  7. ventral ho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rsal commissure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 flipH="1">
              <a:off x="4500360" y="2924280"/>
              <a:ext cx="3816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 flipH="1">
              <a:off x="6156360" y="1916280"/>
              <a:ext cx="19447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1044720" y="2852640"/>
              <a:ext cx="26636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1403280" y="1700280"/>
              <a:ext cx="1586160" cy="71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6"/>
            <p:cNvSpPr/>
            <p:nvPr/>
          </p:nvSpPr>
          <p:spPr>
            <a:xfrm>
              <a:off x="8172360" y="2701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7"/>
            <p:cNvSpPr/>
            <p:nvPr/>
          </p:nvSpPr>
          <p:spPr>
            <a:xfrm>
              <a:off x="684360" y="2125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8"/>
            <p:cNvSpPr/>
            <p:nvPr/>
          </p:nvSpPr>
          <p:spPr>
            <a:xfrm>
              <a:off x="611280" y="3133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9"/>
            <p:cNvSpPr/>
            <p:nvPr/>
          </p:nvSpPr>
          <p:spPr>
            <a:xfrm>
              <a:off x="1116000" y="148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عنصر نائب للتذييل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2771640" y="472428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838836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270036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601200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7"/>
          <p:cNvGrpSpPr/>
          <p:nvPr/>
        </p:nvGrpSpPr>
        <p:grpSpPr>
          <a:xfrm>
            <a:off x="826920" y="0"/>
            <a:ext cx="7561440" cy="6514920"/>
            <a:chOff x="826920" y="0"/>
            <a:chExt cx="7561440" cy="6514920"/>
          </a:xfrm>
        </p:grpSpPr>
        <p:pic>
          <p:nvPicPr>
            <p:cNvPr id="103" name="Picture 26" descr="حبل شوكي جديد"/>
            <p:cNvPicPr/>
            <p:nvPr/>
          </p:nvPicPr>
          <p:blipFill>
            <a:blip r:embed="rId1"/>
            <a:srcRect l="42247" t="39941" r="0" b="0"/>
            <a:stretch/>
          </p:blipFill>
          <p:spPr>
            <a:xfrm>
              <a:off x="1979640" y="333360"/>
              <a:ext cx="5276880" cy="39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4"/>
            <p:cNvSpPr/>
            <p:nvPr/>
          </p:nvSpPr>
          <p:spPr>
            <a:xfrm>
              <a:off x="5796000" y="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826920" y="2421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6443640" y="2060640"/>
              <a:ext cx="194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1260360" y="2565360"/>
              <a:ext cx="266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2"/>
            <p:cNvSpPr/>
            <p:nvPr/>
          </p:nvSpPr>
          <p:spPr>
            <a:xfrm>
              <a:off x="3132000" y="381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6804000" y="189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1619280" y="4508640"/>
              <a:ext cx="5761080" cy="20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rvous tissues (T.S. of the Spinal cord of the Rabbit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matter                  5. ventral commissure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ey matter                    6. Dorsal horn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al canal                  7. ventral ho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rsal commissure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عنصر نائب للتذييل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9"/>
          <p:cNvGrpSpPr/>
          <p:nvPr/>
        </p:nvGrpSpPr>
        <p:grpSpPr>
          <a:xfrm>
            <a:off x="1403280" y="81000"/>
            <a:ext cx="6216840" cy="6408000"/>
            <a:chOff x="1403280" y="81000"/>
            <a:chExt cx="6216840" cy="6408000"/>
          </a:xfrm>
        </p:grpSpPr>
        <p:pic>
          <p:nvPicPr>
            <p:cNvPr id="113" name="Picture 4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8100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5"/>
            <p:cNvSpPr/>
            <p:nvPr/>
          </p:nvSpPr>
          <p:spPr>
            <a:xfrm>
              <a:off x="1403280" y="4869000"/>
              <a:ext cx="6193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rvous tissue (Enlarged part of nerve bundle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ite matte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rve fib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 flipV="1">
              <a:off x="2844720" y="1557360"/>
              <a:ext cx="1798560" cy="719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844720" y="2276640"/>
              <a:ext cx="647640" cy="1081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2411280" y="21319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عنصر نائب للتذييل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1403280" y="4869000"/>
            <a:ext cx="61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rvous tissue (Enlarged part of grey ma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body of the neu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al cell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rcRect l="1565" t="0" r="0" b="0"/>
          <a:stretch/>
        </p:blipFill>
        <p:spPr>
          <a:xfrm>
            <a:off x="1619280" y="115920"/>
            <a:ext cx="600084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Line 8"/>
          <p:cNvSpPr/>
          <p:nvPr/>
        </p:nvSpPr>
        <p:spPr>
          <a:xfrm flipV="1">
            <a:off x="2844720" y="1123920"/>
            <a:ext cx="1008000" cy="115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2844720" y="2276640"/>
            <a:ext cx="214560" cy="143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11280" y="2131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5364000" y="3141720"/>
            <a:ext cx="648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932360" y="292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عنصر نائب للتذييل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9"/>
          <p:cNvGrpSpPr/>
          <p:nvPr/>
        </p:nvGrpSpPr>
        <p:grpSpPr>
          <a:xfrm>
            <a:off x="1403280" y="189000"/>
            <a:ext cx="6193080" cy="5882760"/>
            <a:chOff x="1403280" y="189000"/>
            <a:chExt cx="6193080" cy="5882760"/>
          </a:xfrm>
        </p:grpSpPr>
        <p:pic>
          <p:nvPicPr>
            <p:cNvPr id="128" name="Picture 2" descr=""/>
            <p:cNvPicPr/>
            <p:nvPr/>
          </p:nvPicPr>
          <p:blipFill>
            <a:blip r:embed="rId1"/>
            <a:srcRect l="780" t="0" r="0" b="0"/>
            <a:stretch/>
          </p:blipFill>
          <p:spPr>
            <a:xfrm>
              <a:off x="1476360" y="189000"/>
              <a:ext cx="60483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3"/>
            <p:cNvSpPr/>
            <p:nvPr/>
          </p:nvSpPr>
          <p:spPr>
            <a:xfrm>
              <a:off x="1403280" y="4869000"/>
              <a:ext cx="6193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rvous tissue (Enlarged part of grey mat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u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ial cell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"/>
            <p:cNvSpPr/>
            <p:nvPr/>
          </p:nvSpPr>
          <p:spPr>
            <a:xfrm flipV="1">
              <a:off x="3276720" y="1412640"/>
              <a:ext cx="1008000" cy="1152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3276720" y="2565360"/>
              <a:ext cx="1295280" cy="2872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2843280" y="2421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 flipV="1">
              <a:off x="1979640" y="907560"/>
              <a:ext cx="1008000" cy="73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1547640" y="76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عنصر نائب للتذييل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9:39:09Z</dcterms:created>
  <dc:creator>user</dc:creator>
  <dc:description/>
  <dc:language>en-US</dc:language>
  <cp:lastModifiedBy>Vista</cp:lastModifiedBy>
  <dcterms:modified xsi:type="dcterms:W3CDTF">2012-06-18T22:09:59Z</dcterms:modified>
  <cp:revision>17</cp:revision>
  <dc:subject/>
  <dc:title>الشريحة 1</dc:title>
</cp:coreProperties>
</file>