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709-B232-44EF-ADF7-7C18926D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61A-73F1-4BCC-8B49-3787A3C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167-E7D3-4802-B1B1-84AF9E9F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E90-05F8-4849-A30C-918047EB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365-AD17-4398-934F-D1B2AEC8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199-9EF8-4EB3-955F-797670AD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FB7-8634-4876-9D3D-432E099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FD0-37CB-4003-A655-925BEBE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789-5E9F-4E6D-B5E4-457E75D5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1BA-163A-4DB6-B43D-ED2CEAA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322-EC8F-4EA5-B66D-FC3C319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5EC-9922-4B5E-855C-7B6C887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11DB-760A-42D7-8BC4-B074806738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5"/>
          <p:cNvGrpSpPr/>
          <p:nvPr/>
        </p:nvGrpSpPr>
        <p:grpSpPr>
          <a:xfrm>
            <a:off x="1619280" y="115920"/>
            <a:ext cx="6000840" cy="6157080"/>
            <a:chOff x="1619280" y="115920"/>
            <a:chExt cx="6000840" cy="6157080"/>
          </a:xfrm>
        </p:grpSpPr>
        <p:pic>
          <p:nvPicPr>
            <p:cNvPr id="42" name="Picture 4" descr=""/>
            <p:cNvPicPr/>
            <p:nvPr/>
          </p:nvPicPr>
          <p:blipFill>
            <a:blip r:embed="rId1">
              <a:lum bright="24000"/>
            </a:blip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Line 6"/>
            <p:cNvSpPr/>
            <p:nvPr/>
          </p:nvSpPr>
          <p:spPr>
            <a:xfrm>
              <a:off x="3995640" y="1773360"/>
              <a:ext cx="1224000" cy="180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3995640" y="1557360"/>
              <a:ext cx="936720" cy="21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6443640" y="836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3708360" y="1628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1"/>
            <p:cNvSpPr/>
            <p:nvPr/>
          </p:nvSpPr>
          <p:spPr>
            <a:xfrm>
              <a:off x="2916360" y="12621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 flipV="1">
              <a:off x="3203640" y="981000"/>
              <a:ext cx="93672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1908000" y="4653000"/>
              <a:ext cx="5040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olar Connective Tis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llow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 flipH="1" flipV="1">
              <a:off x="2771640" y="476280"/>
              <a:ext cx="432000" cy="79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9"/>
          <p:cNvGrpSpPr/>
          <p:nvPr/>
        </p:nvGrpSpPr>
        <p:grpSpPr>
          <a:xfrm>
            <a:off x="1619280" y="115920"/>
            <a:ext cx="6000840" cy="6352200"/>
            <a:chOff x="1619280" y="115920"/>
            <a:chExt cx="6000840" cy="635220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1"/>
            <p:cNvSpPr/>
            <p:nvPr/>
          </p:nvSpPr>
          <p:spPr>
            <a:xfrm>
              <a:off x="1908000" y="4848120"/>
              <a:ext cx="5040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olar Connective Tis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llow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 flipV="1">
              <a:off x="3995640" y="2276280"/>
              <a:ext cx="1513080" cy="14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 flipV="1">
              <a:off x="3995640" y="1268280"/>
              <a:ext cx="505080" cy="1152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6443640" y="148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3708360" y="2276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3132000" y="4005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 flipV="1">
              <a:off x="3419640" y="3645000"/>
              <a:ext cx="14436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 flipV="1">
              <a:off x="3419640" y="2852280"/>
              <a:ext cx="1873080" cy="129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197964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12000" y="1909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32000" y="184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348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1403280" y="44280"/>
            <a:ext cx="6193080" cy="6717240"/>
            <a:chOff x="1403280" y="44280"/>
            <a:chExt cx="6193080" cy="6717240"/>
          </a:xfrm>
        </p:grpSpPr>
        <p:pic>
          <p:nvPicPr>
            <p:cNvPr id="68" name="Picture 2" descr=""/>
            <p:cNvPicPr/>
            <p:nvPr/>
          </p:nvPicPr>
          <p:blipFill>
            <a:blip r:embed="rId1">
              <a:lum bright="12000"/>
            </a:blip>
            <a:srcRect l="1955" t="0" r="0" b="0"/>
            <a:stretch/>
          </p:blipFill>
          <p:spPr>
            <a:xfrm>
              <a:off x="1619280" y="44280"/>
              <a:ext cx="597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ine 3"/>
            <p:cNvSpPr/>
            <p:nvPr/>
          </p:nvSpPr>
          <p:spPr>
            <a:xfrm flipH="1" flipV="1">
              <a:off x="5294160" y="1915920"/>
              <a:ext cx="789120" cy="14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"/>
            <p:cNvSpPr/>
            <p:nvPr/>
          </p:nvSpPr>
          <p:spPr>
            <a:xfrm flipV="1">
              <a:off x="3564000" y="1988640"/>
              <a:ext cx="1295280" cy="71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3780000" y="3068280"/>
              <a:ext cx="1008000" cy="43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V="1">
              <a:off x="2413080" y="2349000"/>
              <a:ext cx="2087640" cy="5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>
              <a:off x="4859280" y="2060640"/>
              <a:ext cx="1225440" cy="21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1403280" y="4724280"/>
              <a:ext cx="6193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yaline Cartilage From Trachea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c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ondrocytes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1979640" y="27558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6012000" y="1884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132000" y="18194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>
              <a:off x="334800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لتذييل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0"/>
          <p:cNvGrpSpPr/>
          <p:nvPr/>
        </p:nvGrpSpPr>
        <p:grpSpPr>
          <a:xfrm>
            <a:off x="539640" y="189000"/>
            <a:ext cx="7993080" cy="6541560"/>
            <a:chOff x="539640" y="189000"/>
            <a:chExt cx="7993080" cy="654156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rcRect l="0" t="0" r="2345" b="0"/>
            <a:stretch/>
          </p:blipFill>
          <p:spPr>
            <a:xfrm>
              <a:off x="1571760" y="189000"/>
              <a:ext cx="59529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Line 3"/>
            <p:cNvSpPr/>
            <p:nvPr/>
          </p:nvSpPr>
          <p:spPr>
            <a:xfrm flipH="1">
              <a:off x="4571640" y="2492280"/>
              <a:ext cx="3529080" cy="73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"/>
            <p:cNvSpPr/>
            <p:nvPr/>
          </p:nvSpPr>
          <p:spPr>
            <a:xfrm flipV="1">
              <a:off x="1042920" y="3214800"/>
              <a:ext cx="2665440" cy="698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8172360" y="1700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8028000" y="2270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53964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1114560" y="2349360"/>
              <a:ext cx="3313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1619280" y="4724280"/>
              <a:ext cx="576108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ous tissues (T.S. of the Spinal cord of the Rabbi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matter                  5. ventral commissur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y matter                    6. Dorsal horn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 canal                  7. ventral ho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rsal commissure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 flipH="1">
              <a:off x="4500360" y="2924280"/>
              <a:ext cx="381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6156360" y="1916280"/>
              <a:ext cx="19447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044720" y="2852640"/>
              <a:ext cx="2663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403280" y="1700280"/>
              <a:ext cx="1586160" cy="71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6"/>
            <p:cNvSpPr/>
            <p:nvPr/>
          </p:nvSpPr>
          <p:spPr>
            <a:xfrm>
              <a:off x="8172360" y="2701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684360" y="21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611280" y="313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9"/>
            <p:cNvSpPr/>
            <p:nvPr/>
          </p:nvSpPr>
          <p:spPr>
            <a:xfrm>
              <a:off x="1116000" y="148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عنصر نائب للتذييل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771640" y="47242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38836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270036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601200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7"/>
          <p:cNvGrpSpPr/>
          <p:nvPr/>
        </p:nvGrpSpPr>
        <p:grpSpPr>
          <a:xfrm>
            <a:off x="826920" y="0"/>
            <a:ext cx="7561440" cy="6514920"/>
            <a:chOff x="826920" y="0"/>
            <a:chExt cx="7561440" cy="6514920"/>
          </a:xfrm>
        </p:grpSpPr>
        <p:pic>
          <p:nvPicPr>
            <p:cNvPr id="103" name="Picture 26" descr="حبل شوكي جديد"/>
            <p:cNvPicPr/>
            <p:nvPr/>
          </p:nvPicPr>
          <p:blipFill>
            <a:blip r:embed="rId1"/>
            <a:srcRect l="42247" t="39941" r="0" b="0"/>
            <a:stretch/>
          </p:blipFill>
          <p:spPr>
            <a:xfrm>
              <a:off x="1979640" y="333360"/>
              <a:ext cx="527688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4"/>
            <p:cNvSpPr/>
            <p:nvPr/>
          </p:nvSpPr>
          <p:spPr>
            <a:xfrm>
              <a:off x="5796000" y="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826920" y="242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6443640" y="206064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1260360" y="256536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3132000" y="381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6804000" y="18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619280" y="4508640"/>
              <a:ext cx="576108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ous tissues (T.S. of the Spinal cord of the Rabbi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matter                  5. ventral commissur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y matter                    6. Dorsal horn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 canal                  7. ventral ho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rsal commissure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عنصر نائب للتذييل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9"/>
          <p:cNvGrpSpPr/>
          <p:nvPr/>
        </p:nvGrpSpPr>
        <p:grpSpPr>
          <a:xfrm>
            <a:off x="1403280" y="81000"/>
            <a:ext cx="6216840" cy="6408000"/>
            <a:chOff x="1403280" y="81000"/>
            <a:chExt cx="6216840" cy="640800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8100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1403280" y="4869000"/>
              <a:ext cx="6193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ous tissue (Enlarged part of nerve bundle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ite matt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e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 flipV="1">
              <a:off x="2844720" y="1557360"/>
              <a:ext cx="1798560" cy="71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844720" y="2276640"/>
              <a:ext cx="647640" cy="10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2411280" y="213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403280" y="4869000"/>
            <a:ext cx="61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ous tissue (Enlarged part of grey ma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body of the neu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al cell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1565" t="0" r="0" b="0"/>
          <a:stretch/>
        </p:blipFill>
        <p:spPr>
          <a:xfrm>
            <a:off x="1619280" y="11592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 flipV="1">
            <a:off x="2844720" y="1123920"/>
            <a:ext cx="100800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844720" y="2276640"/>
            <a:ext cx="214560" cy="14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11280" y="2131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5364000" y="314172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932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عنصر نائب للتذييل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9"/>
          <p:cNvGrpSpPr/>
          <p:nvPr/>
        </p:nvGrpSpPr>
        <p:grpSpPr>
          <a:xfrm>
            <a:off x="1403280" y="189000"/>
            <a:ext cx="6193080" cy="5882760"/>
            <a:chOff x="1403280" y="189000"/>
            <a:chExt cx="6193080" cy="5882760"/>
          </a:xfrm>
        </p:grpSpPr>
        <p:pic>
          <p:nvPicPr>
            <p:cNvPr id="128" name="Picture 2" descr=""/>
            <p:cNvPicPr/>
            <p:nvPr/>
          </p:nvPicPr>
          <p:blipFill>
            <a:blip r:embed="rId1"/>
            <a:srcRect l="780" t="0" r="0" b="0"/>
            <a:stretch/>
          </p:blipFill>
          <p:spPr>
            <a:xfrm>
              <a:off x="1476360" y="189000"/>
              <a:ext cx="60483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3"/>
            <p:cNvSpPr/>
            <p:nvPr/>
          </p:nvSpPr>
          <p:spPr>
            <a:xfrm>
              <a:off x="1403280" y="4869000"/>
              <a:ext cx="6193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ous tissue (Enlarged part of grey mat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ial cell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V="1">
              <a:off x="3276720" y="1412640"/>
              <a:ext cx="1008000" cy="1152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3276720" y="2565360"/>
              <a:ext cx="1295280" cy="2872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2843280" y="2421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 flipV="1">
              <a:off x="1979640" y="907560"/>
              <a:ext cx="1008000" cy="73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1547640" y="76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عنصر نائب للتذييل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9:39:09Z</dcterms:created>
  <dc:creator>user</dc:creator>
  <dc:description/>
  <dc:language>en-US</dc:language>
  <cp:lastModifiedBy>Vista</cp:lastModifiedBy>
  <dcterms:modified xsi:type="dcterms:W3CDTF">2012-06-18T22:09:59Z</dcterms:modified>
  <cp:revision>17</cp:revision>
  <dc:subject/>
  <dc:title>الشريحة 1</dc:title>
</cp:coreProperties>
</file>