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1CCA-F8E2-4058-8F12-5280B15F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5DC-21E0-4A9C-8E73-9B0F99FB3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83D8-CE42-4483-A698-D2632205C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7388-E9A1-46EC-AEC2-5A3C95387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4EC-B3A2-43C2-8178-0B8C5338F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53AB-778F-46A8-8C64-6489ED1BF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53D-182C-4A75-A2A5-09A005084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02E-16B2-4DAE-8551-A67B737361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2C93-99B7-4C94-A8FF-3166F8C21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5F9-23FC-46BC-B4E6-37F286B13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2C67-89E2-413F-97E2-263476291D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793-02D0-4D4B-928B-B6D7FB295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BF0-9EA5-42A2-8659-816FC10B8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C40D-FE3D-4176-8EF2-9528D6782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968-53D4-4A6B-8DC4-BABFCF46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D42-5136-4DF9-9D5E-7A125B5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287-AECC-43C9-A7AE-92D8C6D2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CC1-578D-4865-B100-D8E1C384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5A3F5-C0FE-445A-97D9-7471BB8C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B155-B0E9-4ED6-947C-293D328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45B16-9E9A-4694-9BF0-19B7413F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2F1C-84D6-4B8B-82B1-A61388A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5505-5BE0-4623-9AF0-1DD1FA2B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58670-7C77-4BDE-BAAC-A376904D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CCFF-666E-4490-AC43-2844349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A11-A7AB-48B7-81EE-95BF87E9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64D2-AD02-482E-AAAA-4CB2C87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3D61-61F4-472A-BBAE-7D5335A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A8358-9C14-4F85-8112-5059C760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4E3C2-E932-4850-99BA-9F5C373F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C902-C221-431F-AB97-3919EBB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F56-CB8B-4DF7-9DD3-D125342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6A6-96BD-41CA-AC36-C6D0A5B2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6F9-0EEF-45A8-B6BA-6BEDD520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75A-CA8A-47A5-8BAA-7DC2DB5A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BDE-E898-4BC8-902E-E5DA0C7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230-EEF8-464E-A027-DE3B68D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705-E897-4FBE-BCAC-007D4E0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5D4-6DF8-422A-A926-7BCC543A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0DC-90F0-4165-8856-7720829CC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of US Health Care sy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c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a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partum- prena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partum- labor and delive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partum- first 6 weeks after delive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her-infant Termi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 mortality rate -#deaths/1,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nal mortality rate – #deaths/100,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natal mortality rate - #deaths/1,000 live births, first 28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natal mortality rate- # stillbirths &amp; neonatal deaths /1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rate- # of live births /1000 popu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rtility rate - # births/1000 women between ages 15 &amp;44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rtus- embryo/fetus removed or expelled at 20 wks or l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birth- infant, who at birth, demonstrates no sign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issu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BW and Pre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risk pregnancy rate incr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echnology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birth Practic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ion of safe mother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natal care- promote better pregnancy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risk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ing healthy behav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base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Litera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st feeding in work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rsing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Spec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-based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 orientation to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Pract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gal Issues and Standards of Pract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e book – follow 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Management – minimize risk of injury and subsequent laws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Resear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inel event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to resc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emporary Maternity Nurs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548640"/>
            <a:ext cx="9829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 web sites for Maternal Child 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mchb.hrsa.gov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and Wellbeing of Children in Rural Ar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omen’s Health USA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Health USA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amchp.org   Association of MCH Progra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ncemh.org   National Center for Education in M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orgetown Univers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engenderhealth.or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reat resource for monitoring prenatal care, pp, infertility, and post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mchpolicy.org      Maternal and Child Health Polic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alizes in issues affecting children, incl.    special health care and low income fami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scribe maternity nursling's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view the trends and issues in contemporary nurs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plore social issues in maternity nurs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iscuss ethical and sociopolitical issu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view Healthy People 2010 goals as they relate to maternity  c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Care of Women and Inf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discrepan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ss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lescent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’s and AIDS – adversely affect re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althy People 2010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www.health.gov/healthy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healthy life and quality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 the health dispar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the health and well-being of women, infants, children and families”  see box 1-5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llennium Development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5 target of UN Summit 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.un.org/millenniumgols/goals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 child 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maternal health, and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ative Healthca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f systems, values and desi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 inpu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ive Healing Modalit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medic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d- body 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apies- biologically ba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ipulative and body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thera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Care provider op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o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– parenting and child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m cho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4:20:49Z</dcterms:created>
  <dc:creator>ssykas</dc:creator>
  <dc:description/>
  <dc:language>en-US</dc:language>
  <cp:lastModifiedBy>User</cp:lastModifiedBy>
  <dcterms:modified xsi:type="dcterms:W3CDTF">2011-02-26T17:33:39Z</dcterms:modified>
  <cp:revision>20</cp:revision>
  <dc:subject/>
  <dc:title>Slide 1</dc:title>
</cp:coreProperties>
</file>