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A2A-EF6A-4E63-AAB2-EA047C69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7C1-C2DC-4847-B2E5-5E31A5440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A40-36F0-46A6-B705-F598724C3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A3A5-3802-49C6-8462-F9D6CB554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51D-68C8-4667-8193-1B55DB710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556-5202-4A7E-954B-6C6519BE3E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FDB-5E01-4A3E-B738-CC0968F75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08A-D120-473F-A2A2-9A92197286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AF93-1FE7-4CDE-9846-81E496152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4735-8ECE-430E-B8DE-A01482940E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80E-3147-4884-B233-0BC7556B6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4D4-00FC-4861-83C8-58FE5DAD4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6FD7-8C7E-4E49-ADE6-87B4328A3D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05C-08E1-44BB-BF58-34A2452D50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CAB-0EF0-4D2F-85B7-E8C7A190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FDB-DA4A-4431-80B6-A9EFEE52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134-1F30-48F5-8CA3-8130E5F4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36B-99E5-42A3-B60B-F1BB8AB0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F80E9-7F3A-474D-A6EE-77B5DECC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334E5-DCC6-4952-AF07-6E70B79A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5087-76A7-4026-BCB4-24EFFCA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5F6D7-35A1-443B-BA69-03CA57F0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5071-F833-4A09-9813-1C3DDD92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2220A-20D5-451C-AA31-A0B1A8E8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FE450-AB9C-46EF-826A-3B7C586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188-5320-424C-9B05-1A8EB35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F625E-33BC-4AAE-88AB-01D6770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A9EF9-130F-4439-ACB2-12ABF8F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94199-D19A-4017-B332-1C9BE9EE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CF382-9E18-46AC-9428-62362C8E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F0CFA-8156-4574-B59E-23E0FF3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DD9-9573-4C20-8FC0-19730254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CFF-D685-47BE-9C28-0FE0B99C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648-C880-44E4-A60D-08C9FDA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DDA-93A9-4D2B-B27A-287250DF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E94-2EAB-4C3D-A5CD-9E9D10F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CC5-7B75-4529-B171-993E025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D3C-A237-49EA-B6A7-D3C9924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EE88-A329-4379-B960-DE5762E7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FC36-71D9-476F-AB29-B0912689C8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70866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of US Health Care sy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c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a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partum- prena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partum- labor and delive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partum- first 6 weeks after delive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her-infant Termin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 mortality rate -#deaths/1,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nal mortality rate – #deaths/100,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natal mortality rate - #deaths/1,000 live births, first 28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natal mortality rate- # stillbirths &amp; neonatal deaths /1000 live bir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rate- # of live births /1000 popul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rtility rate - # births/1000 women between ages 15 &amp;44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rtus- embryo/fetus removed or expelled at 20 wks or le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birth- infant, who at birth, demonstrates no sign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issu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BW and Pre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risk pregnancy rate incr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echnology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ldbirth Practic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ion of safe mother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natal care- promote better pregnancy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risk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ing healthy behav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base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Litera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st feeding in work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conc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rsing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Speci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-based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comes orientation to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Practi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gal Issues and Standards of Pract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e book – follow  guidel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Management – minimize risk of injury and subsequent lawsu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Resear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inel event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to resc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temporary Maternity Nurs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548640"/>
            <a:ext cx="9829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 web sites for Maternal Child Heal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mchb.hrsa.gov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lth and Wellbeing of Children in Rural Ar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omen’s Health USA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hild Health USA 20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amchp.org   Association of MCH Progra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ncemh.org   National Center for Education in M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orgetown Univers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engenderhealth.or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reat resource for monitoring prenatal care, pp, infertility, and post 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ww.mchpolicy.org      Maternal and Child Health Polic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alizes in issues affecting children, incl.    special health care and low income fami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scribe maternity nursling's 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view the trends and issues in contemporary nurs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plore social issues in maternity nurs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iscuss ethical and sociopolitical issu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view Healthy People 2010 goals as they relate to maternity  c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Care of Women and Inf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ll discrepan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ss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olescent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’s and AIDS – adversely affect repro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althy People 2010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www.health.gov/healthy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healthy life and quality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minate the health dispar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the health and well-being of women, infants, children and families”  see box 1-5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llennium Development Go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5 target of UN Summit 2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ww.un.org/millenniumgols/goals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ower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rease child 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maternal health, and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ative Healthca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f systems, values and desi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 inpu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p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ive Healing Modalit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 medic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d- body 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apies- biologically ba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ipulative and body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thera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Care provider op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oi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– parenting and child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m cho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4:20:49Z</dcterms:created>
  <dc:creator>ssykas</dc:creator>
  <dc:description/>
  <dc:language>en-US</dc:language>
  <cp:lastModifiedBy>User</cp:lastModifiedBy>
  <dcterms:modified xsi:type="dcterms:W3CDTF">2011-02-26T17:33:39Z</dcterms:modified>
  <cp:revision>20</cp:revision>
  <dc:subject/>
  <dc:title>Slide 1</dc:title>
</cp:coreProperties>
</file>